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400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1012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3788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400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1012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lnSpc>
                <a:spcPct val="93000"/>
              </a:lnSpc>
              <a:spcBef>
                <a:spcPts val="15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12760" y="745920"/>
            <a:ext cx="866160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lnSpc>
                <a:spcPct val="93000"/>
              </a:lnSpc>
              <a:spcBef>
                <a:spcPts val="15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lnSpc>
                <a:spcPct val="93000"/>
              </a:lnSpc>
              <a:spcBef>
                <a:spcPts val="15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400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1012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788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400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1012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lnSpc>
                <a:spcPct val="93000"/>
              </a:lnSpc>
              <a:spcBef>
                <a:spcPts val="1587"/>
              </a:spcBef>
              <a:buNone/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12760" y="745920"/>
            <a:ext cx="866160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lnSpc>
                <a:spcPct val="93000"/>
              </a:lnSpc>
              <a:spcBef>
                <a:spcPts val="15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400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10120" y="212724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3788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400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810120" y="4709520"/>
            <a:ext cx="274824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2760" y="745920"/>
            <a:ext cx="866160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lnSpc>
                <a:spcPct val="93000"/>
              </a:lnSpc>
              <a:spcBef>
                <a:spcPts val="1587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1880" y="470952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7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1880" y="2127240"/>
            <a:ext cx="416520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37880" y="4709520"/>
            <a:ext cx="8535960" cy="23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587"/>
              </a:spcBef>
              <a:buNone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47480" indent="-3355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1" marL="895320" indent="-29844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2" marL="1341360" indent="-2221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3" marL="178884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4" marL="223668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5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6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  <p:graphicFrame>
        <p:nvGraphicFramePr>
          <p:cNvPr id="2" name="Object 10"/>
          <p:cNvGraphicFramePr/>
          <p:nvPr/>
        </p:nvGraphicFramePr>
        <p:xfrm>
          <a:off x="0" y="0"/>
          <a:ext cx="100807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0807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11"/>
          <p:cNvSpPr/>
          <p:nvPr/>
        </p:nvSpPr>
        <p:spPr>
          <a:xfrm>
            <a:off x="5795640" y="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Projet encadr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8302680" y="457200"/>
            <a:ext cx="17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http://tal.univ-paris3.fr/plurit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3" descr="inalco"/>
          <p:cNvPicPr/>
          <p:nvPr/>
        </p:nvPicPr>
        <p:blipFill>
          <a:blip r:embed="rId4"/>
          <a:stretch/>
        </p:blipFill>
        <p:spPr>
          <a:xfrm>
            <a:off x="7467480" y="380880"/>
            <a:ext cx="762120" cy="2541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p3"/>
          <p:cNvPicPr/>
          <p:nvPr/>
        </p:nvPicPr>
        <p:blipFill>
          <a:blip r:embed="rId5"/>
          <a:stretch/>
        </p:blipFill>
        <p:spPr>
          <a:xfrm>
            <a:off x="7924680" y="76320"/>
            <a:ext cx="381240" cy="226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upx"/>
          <p:cNvPicPr/>
          <p:nvPr/>
        </p:nvPicPr>
        <p:blipFill>
          <a:blip r:embed="rId6"/>
          <a:stretch/>
        </p:blipFill>
        <p:spPr>
          <a:xfrm>
            <a:off x="7467480" y="76320"/>
            <a:ext cx="406440" cy="25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90080" cy="757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47480" indent="-3355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1" marL="895320" indent="-29844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2" marL="1341360" indent="-2221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3" marL="178884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4" marL="223668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5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6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0"/>
          <a:ext cx="10080720" cy="7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0807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11"/>
          <p:cNvSpPr/>
          <p:nvPr/>
        </p:nvSpPr>
        <p:spPr>
          <a:xfrm>
            <a:off x="5795640" y="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Projet encadr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8302680" y="457200"/>
            <a:ext cx="177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http://tal.univ-paris3.fr/plurit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13" descr="inalco"/>
          <p:cNvPicPr/>
          <p:nvPr/>
        </p:nvPicPr>
        <p:blipFill>
          <a:blip r:embed="rId4"/>
          <a:stretch/>
        </p:blipFill>
        <p:spPr>
          <a:xfrm>
            <a:off x="7467480" y="380880"/>
            <a:ext cx="762120" cy="25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p3"/>
          <p:cNvPicPr/>
          <p:nvPr/>
        </p:nvPicPr>
        <p:blipFill>
          <a:blip r:embed="rId5"/>
          <a:stretch/>
        </p:blipFill>
        <p:spPr>
          <a:xfrm>
            <a:off x="7924680" y="76320"/>
            <a:ext cx="381240" cy="22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upx"/>
          <p:cNvPicPr/>
          <p:nvPr/>
        </p:nvPicPr>
        <p:blipFill>
          <a:blip r:embed="rId6"/>
          <a:stretch/>
        </p:blipFill>
        <p:spPr>
          <a:xfrm>
            <a:off x="7467480" y="76320"/>
            <a:ext cx="406440" cy="250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2760" y="745920"/>
            <a:ext cx="8661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587600" indent="0">
              <a:buNone/>
              <a:tabLst>
                <a:tab algn="l" pos="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37880" y="2127240"/>
            <a:ext cx="8535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47480" indent="-3355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1" marL="895320" indent="-29844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2" marL="1341360" indent="-22212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3" marL="178884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4" marL="2236680" indent="-223560">
              <a:lnSpc>
                <a:spcPct val="93000"/>
              </a:lnSpc>
              <a:spcBef>
                <a:spcPts val="1587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5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  <a:p>
            <a:pPr lvl="6" marL="2236680" indent="-223560">
              <a:lnSpc>
                <a:spcPct val="93000"/>
              </a:lnSpc>
              <a:spcBef>
                <a:spcPts val="15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unSans-Regular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SunSans-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0" y="2065320"/>
            <a:ext cx="10080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2600" indent="-324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ammation et projet encadr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324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Boîte à out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324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érie 3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 : extraction de pa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324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Script Perl – XML::XP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3240" algn="ctr">
              <a:lnSpc>
                <a:spcPct val="95000"/>
              </a:lnSpc>
              <a:spcAft>
                <a:spcPts val="1400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6480" indent="-52560" algn="ctr">
              <a:lnSpc>
                <a:spcPct val="95000"/>
              </a:lnSpc>
              <a:spcAft>
                <a:spcPts val="1111"/>
              </a:spcAft>
              <a:tabLst>
                <a:tab algn="l" pos="0"/>
                <a:tab algn="l" pos="2890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ZoneTexte 2"/>
          <p:cNvSpPr/>
          <p:nvPr/>
        </p:nvSpPr>
        <p:spPr>
          <a:xfrm>
            <a:off x="2039760" y="106524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iti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Image 4" descr="bao3_rb_part-1.png"/>
          <p:cNvPicPr/>
          <p:nvPr/>
        </p:nvPicPr>
        <p:blipFill>
          <a:blip r:embed="rId1"/>
          <a:stretch/>
        </p:blipFill>
        <p:spPr>
          <a:xfrm>
            <a:off x="468360" y="2422440"/>
            <a:ext cx="9447120" cy="2592360"/>
          </a:xfrm>
          <a:prstGeom prst="rect">
            <a:avLst/>
          </a:prstGeom>
          <a:ln w="0">
            <a:noFill/>
          </a:ln>
        </p:spPr>
      </p:pic>
      <p:sp>
        <p:nvSpPr>
          <p:cNvPr id="133" name="ZoneTexte 5"/>
          <p:cNvSpPr/>
          <p:nvPr/>
        </p:nvSpPr>
        <p:spPr>
          <a:xfrm>
            <a:off x="4397400" y="2351160"/>
            <a:ext cx="55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91966"/>
                </a:solidFill>
                <a:latin typeface="Times New Roman"/>
              </a:rPr>
              <a:t>Nombre d'arguments ($0 : le nom du scrip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91966"/>
                </a:solidFill>
                <a:latin typeface="Times New Roman"/>
              </a:rPr>
              <a:t>usage : perl bao3_rb.pl fichier_tag fichier_mo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ZoneTexte 6"/>
          <p:cNvSpPr/>
          <p:nvPr/>
        </p:nvSpPr>
        <p:spPr>
          <a:xfrm>
            <a:off x="1539720" y="163656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91966"/>
                </a:solidFill>
                <a:latin typeface="Times New Roman"/>
              </a:rPr>
              <a:t>Chargement du mo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91966"/>
                </a:solidFill>
                <a:latin typeface="Times New Roman"/>
              </a:rPr>
              <a:t>XML::XPa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ZoneTexte 7"/>
          <p:cNvSpPr/>
          <p:nvPr/>
        </p:nvSpPr>
        <p:spPr>
          <a:xfrm>
            <a:off x="5040360" y="406548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91966"/>
                </a:solidFill>
                <a:latin typeface="Times New Roman"/>
              </a:rPr>
              <a:t>initialis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ccolade fermante 9"/>
          <p:cNvSpPr/>
          <p:nvPr/>
        </p:nvSpPr>
        <p:spPr>
          <a:xfrm>
            <a:off x="4540320" y="3494160"/>
            <a:ext cx="285840" cy="16430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Connecteur droit avec flèche 11"/>
          <p:cNvCxnSpPr>
            <a:stCxn id="134" idx="2"/>
          </p:cNvCxnSpPr>
          <p:nvPr/>
        </p:nvCxnSpPr>
        <p:spPr>
          <a:xfrm flipH="1">
            <a:off x="2396520" y="2344680"/>
            <a:ext cx="749880" cy="43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Connecteur droit avec flèche 13"/>
          <p:cNvCxnSpPr>
            <a:stCxn id="133" idx="1"/>
          </p:cNvCxnSpPr>
          <p:nvPr/>
        </p:nvCxnSpPr>
        <p:spPr>
          <a:xfrm flipH="1">
            <a:off x="3539520" y="2705040"/>
            <a:ext cx="857880" cy="432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oneTexte 2"/>
          <p:cNvSpPr/>
          <p:nvPr/>
        </p:nvSpPr>
        <p:spPr>
          <a:xfrm>
            <a:off x="2039760" y="106524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cture des mo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Image 4" descr="bao3_rb_part-2.png"/>
          <p:cNvPicPr/>
          <p:nvPr/>
        </p:nvPicPr>
        <p:blipFill>
          <a:blip r:embed="rId1"/>
          <a:stretch/>
        </p:blipFill>
        <p:spPr>
          <a:xfrm>
            <a:off x="254160" y="3208320"/>
            <a:ext cx="9359640" cy="187164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3"/>
          <p:cNvSpPr/>
          <p:nvPr/>
        </p:nvSpPr>
        <p:spPr>
          <a:xfrm>
            <a:off x="6397560" y="392256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lecture du fichier de motif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un motif par li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ccolade fermante 7"/>
          <p:cNvSpPr/>
          <p:nvPr/>
        </p:nvSpPr>
        <p:spPr>
          <a:xfrm>
            <a:off x="6111720" y="3637080"/>
            <a:ext cx="357480" cy="1428480"/>
          </a:xfrm>
          <a:custGeom>
            <a:avLst/>
            <a:gdLst>
              <a:gd name="textAreaLeft" fmla="*/ 0 w 357480"/>
              <a:gd name="textAreaRight" fmla="*/ 128880 w 357480"/>
              <a:gd name="textAreaTop" fmla="*/ 9000 h 1428480"/>
              <a:gd name="textAreaBottom" fmla="*/ 141948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ZoneTexte 8"/>
          <p:cNvSpPr/>
          <p:nvPr/>
        </p:nvSpPr>
        <p:spPr>
          <a:xfrm>
            <a:off x="4826160" y="2208240"/>
            <a:ext cx="49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la fonction chomp supprime un éventuel retour à la li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Connecteur droit avec flèche 10"/>
          <p:cNvCxnSpPr>
            <a:stCxn id="144" idx="1"/>
          </p:cNvCxnSpPr>
          <p:nvPr/>
        </p:nvCxnSpPr>
        <p:spPr>
          <a:xfrm flipH="1">
            <a:off x="2682360" y="2561040"/>
            <a:ext cx="2144160" cy="1575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" name="ZoneTexte 20"/>
          <p:cNvSpPr/>
          <p:nvPr/>
        </p:nvSpPr>
        <p:spPr>
          <a:xfrm>
            <a:off x="1897200" y="5923080"/>
            <a:ext cx="700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Les motifs recherchés sont stockés dans le tableau @patterns push(@patterns,$ligne)  ajoute $ligne à la fin du tableau @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Connecteur droit avec flèche 22"/>
          <p:cNvCxnSpPr>
            <a:stCxn id="146" idx="0"/>
          </p:cNvCxnSpPr>
          <p:nvPr/>
        </p:nvCxnSpPr>
        <p:spPr>
          <a:xfrm flipH="1" flipV="1">
            <a:off x="3396960" y="4850640"/>
            <a:ext cx="200088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ZoneTexte 2"/>
          <p:cNvSpPr/>
          <p:nvPr/>
        </p:nvSpPr>
        <p:spPr>
          <a:xfrm>
            <a:off x="2039760" y="106524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oucle sur les mo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Image 4" descr="bao3_rb_part-3.png"/>
          <p:cNvPicPr/>
          <p:nvPr/>
        </p:nvPicPr>
        <p:blipFill>
          <a:blip r:embed="rId1"/>
          <a:stretch/>
        </p:blipFill>
        <p:spPr>
          <a:xfrm>
            <a:off x="254160" y="2779560"/>
            <a:ext cx="9474120" cy="3132360"/>
          </a:xfrm>
          <a:prstGeom prst="rect">
            <a:avLst/>
          </a:prstGeom>
          <a:ln w="0">
            <a:noFill/>
          </a:ln>
        </p:spPr>
      </p:pic>
      <p:sp>
        <p:nvSpPr>
          <p:cNvPr id="151" name="ZoneTexte 5"/>
          <p:cNvSpPr/>
          <p:nvPr/>
        </p:nvSpPr>
        <p:spPr>
          <a:xfrm>
            <a:off x="396720" y="2065320"/>
            <a:ext cx="607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création de l'objet XML::XPath avec le fichier de sortie tree-tagger XML en argu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ccolade fermante 6"/>
          <p:cNvSpPr/>
          <p:nvPr/>
        </p:nvSpPr>
        <p:spPr>
          <a:xfrm rot="16200000">
            <a:off x="3361320" y="-42120"/>
            <a:ext cx="142920" cy="59292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5929200"/>
              <a:gd name="textAreaBottom" fmla="*/ 5925600 h 59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"/>
                  <a:pt x="10800" y="43"/>
                </a:cubicBezTo>
                <a:lnTo>
                  <a:pt x="10800" y="10757"/>
                </a:lnTo>
                <a:cubicBezTo>
                  <a:pt x="10800" y="10779"/>
                  <a:pt x="16200" y="10800"/>
                  <a:pt x="21600" y="10800"/>
                </a:cubicBezTo>
                <a:cubicBezTo>
                  <a:pt x="16200" y="10800"/>
                  <a:pt x="10800" y="10822"/>
                  <a:pt x="10800" y="10843"/>
                </a:cubicBezTo>
                <a:lnTo>
                  <a:pt x="10800" y="21557"/>
                </a:lnTo>
                <a:cubicBezTo>
                  <a:pt x="10800" y="21579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ZoneTexte 7"/>
          <p:cNvSpPr/>
          <p:nvPr/>
        </p:nvSpPr>
        <p:spPr>
          <a:xfrm>
            <a:off x="5969160" y="5351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Boucle de recherche des moti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ccolade fermante 8"/>
          <p:cNvSpPr/>
          <p:nvPr/>
        </p:nvSpPr>
        <p:spPr>
          <a:xfrm>
            <a:off x="9612360" y="3422520"/>
            <a:ext cx="117360" cy="2143080"/>
          </a:xfrm>
          <a:custGeom>
            <a:avLst/>
            <a:gdLst>
              <a:gd name="textAreaLeft" fmla="*/ 0 w 117360"/>
              <a:gd name="textAreaRight" fmla="*/ 42480 w 117360"/>
              <a:gd name="textAreaTop" fmla="*/ 2880 h 2143080"/>
              <a:gd name="textAreaBottom" fmla="*/ 21402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"/>
                  <a:pt x="10800" y="98"/>
                </a:cubicBezTo>
                <a:lnTo>
                  <a:pt x="10800" y="10702"/>
                </a:lnTo>
                <a:cubicBezTo>
                  <a:pt x="10800" y="10751"/>
                  <a:pt x="16200" y="10800"/>
                  <a:pt x="21600" y="10800"/>
                </a:cubicBezTo>
                <a:cubicBezTo>
                  <a:pt x="16200" y="10800"/>
                  <a:pt x="10800" y="10849"/>
                  <a:pt x="10800" y="10898"/>
                </a:cubicBezTo>
                <a:lnTo>
                  <a:pt x="10800" y="21502"/>
                </a:lnTo>
                <a:cubicBezTo>
                  <a:pt x="10800" y="21551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ZoneTexte 9"/>
          <p:cNvSpPr/>
          <p:nvPr/>
        </p:nvSpPr>
        <p:spPr>
          <a:xfrm>
            <a:off x="5040360" y="327960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Fonction split, @tokens =(NOM,ADJ) si le motif recherché est "NOM ADJ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Connecteur droit avec flèche 11"/>
          <p:cNvCxnSpPr>
            <a:stCxn id="155" idx="1"/>
            <a:endCxn id="157" idx="6"/>
          </p:cNvCxnSpPr>
          <p:nvPr/>
        </p:nvCxnSpPr>
        <p:spPr>
          <a:xfrm flipH="1">
            <a:off x="4501440" y="3633840"/>
            <a:ext cx="53892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Ellipse 12"/>
          <p:cNvSpPr/>
          <p:nvPr/>
        </p:nvSpPr>
        <p:spPr>
          <a:xfrm>
            <a:off x="1644480" y="3817800"/>
            <a:ext cx="2857680" cy="500040"/>
          </a:xfrm>
          <a:prstGeom prst="ellipse">
            <a:avLst/>
          </a:prstGeom>
          <a:solidFill>
            <a:srgbClr val="fafa0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Ellipse 17"/>
          <p:cNvSpPr/>
          <p:nvPr/>
        </p:nvSpPr>
        <p:spPr>
          <a:xfrm>
            <a:off x="4397400" y="4351320"/>
            <a:ext cx="2857320" cy="357120"/>
          </a:xfrm>
          <a:prstGeom prst="ellipse">
            <a:avLst/>
          </a:prstGeom>
          <a:solidFill>
            <a:srgbClr val="fafa06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ZoneTexte 18"/>
          <p:cNvSpPr/>
          <p:nvPr/>
        </p:nvSpPr>
        <p:spPr>
          <a:xfrm>
            <a:off x="3968640" y="6280200"/>
            <a:ext cx="44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Fonction join, définition du nom du fichier de sortie pour le mo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Q: nom pour "NOM ADJ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0" name="Connecteur droit avec flèche 20"/>
          <p:cNvCxnSpPr>
            <a:stCxn id="159" idx="0"/>
            <a:endCxn id="158" idx="4"/>
          </p:cNvCxnSpPr>
          <p:nvPr/>
        </p:nvCxnSpPr>
        <p:spPr>
          <a:xfrm flipH="1" flipV="1">
            <a:off x="5825880" y="4708080"/>
            <a:ext cx="357840" cy="157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ZoneTexte 23"/>
          <p:cNvSpPr/>
          <p:nvPr/>
        </p:nvSpPr>
        <p:spPr>
          <a:xfrm>
            <a:off x="254160" y="613728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Appel de la procédure d'extraction des formes correspondants au mot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2" name="Connecteur droit avec flèche 25"/>
          <p:cNvCxnSpPr>
            <a:stCxn id="161" idx="0"/>
          </p:cNvCxnSpPr>
          <p:nvPr/>
        </p:nvCxnSpPr>
        <p:spPr>
          <a:xfrm flipV="1">
            <a:off x="1967400" y="5350680"/>
            <a:ext cx="108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ZoneTexte 2"/>
          <p:cNvSpPr/>
          <p:nvPr/>
        </p:nvSpPr>
        <p:spPr>
          <a:xfrm>
            <a:off x="0" y="779400"/>
            <a:ext cx="100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cédure d’extraction 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struction du chemin XPa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Image 4" descr="bao3_rb_part-4.png"/>
          <p:cNvPicPr/>
          <p:nvPr/>
        </p:nvPicPr>
        <p:blipFill>
          <a:blip r:embed="rId1"/>
          <a:stretch/>
        </p:blipFill>
        <p:spPr>
          <a:xfrm>
            <a:off x="254160" y="1851120"/>
            <a:ext cx="9385200" cy="2808360"/>
          </a:xfrm>
          <a:prstGeom prst="rect">
            <a:avLst/>
          </a:prstGeom>
          <a:ln w="0">
            <a:noFill/>
          </a:ln>
        </p:spPr>
      </p:pic>
      <p:sp>
        <p:nvSpPr>
          <p:cNvPr id="166" name="ZoneTexte 6"/>
          <p:cNvSpPr/>
          <p:nvPr/>
        </p:nvSpPr>
        <p:spPr>
          <a:xfrm>
            <a:off x="5040360" y="1922400"/>
            <a:ext cx="45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Initialisation du chemin xpath correspondant au motif recher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ZoneTexte 7"/>
          <p:cNvSpPr/>
          <p:nvPr/>
        </p:nvSpPr>
        <p:spPr>
          <a:xfrm>
            <a:off x="4968720" y="3208320"/>
            <a:ext cx="43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Attention ici aux effets de bord dus à la structure choisie pour le fichier tree-tagger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Connecteur droit avec flèche 9"/>
          <p:cNvCxnSpPr/>
          <p:nvPr/>
        </p:nvCxnSpPr>
        <p:spPr>
          <a:xfrm flipH="1">
            <a:off x="4539600" y="2708280"/>
            <a:ext cx="2537640" cy="364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9" name="ZoneTexte 12"/>
          <p:cNvSpPr/>
          <p:nvPr/>
        </p:nvSpPr>
        <p:spPr>
          <a:xfrm>
            <a:off x="611280" y="4280040"/>
            <a:ext cx="94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construction  récursive du chemin xpath correspondant au motif recher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ccolade fermante 16"/>
          <p:cNvSpPr/>
          <p:nvPr/>
        </p:nvSpPr>
        <p:spPr>
          <a:xfrm>
            <a:off x="9469440" y="3279600"/>
            <a:ext cx="142920" cy="1214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1214640"/>
              <a:gd name="textAreaBottom" fmla="*/ 121104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ZoneTexte 17"/>
          <p:cNvSpPr/>
          <p:nvPr/>
        </p:nvSpPr>
        <p:spPr>
          <a:xfrm>
            <a:off x="1182600" y="4994280"/>
            <a:ext cx="771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Dans le cas de "NOM ADJ", le chemin obtenu est: </a:t>
            </a: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//element/data[1][contains(text(),"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M"</a:t>
            </a: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")]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/ancestor::element/following-sibling::element[1]/data[1][contains(text(),</a:t>
            </a: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 "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ADJ")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2"/>
          <p:cNvSpPr/>
          <p:nvPr/>
        </p:nvSpPr>
        <p:spPr>
          <a:xfrm>
            <a:off x="325440" y="851040"/>
            <a:ext cx="942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cédure d’extraction II: Enregistrement des for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Image 4" descr="bao3_rb_part-5.png"/>
          <p:cNvPicPr/>
          <p:nvPr/>
        </p:nvPicPr>
        <p:blipFill>
          <a:blip r:embed="rId1"/>
          <a:stretch/>
        </p:blipFill>
        <p:spPr>
          <a:xfrm>
            <a:off x="254160" y="1565280"/>
            <a:ext cx="9402480" cy="352728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5"/>
          <p:cNvSpPr/>
          <p:nvPr/>
        </p:nvSpPr>
        <p:spPr>
          <a:xfrm>
            <a:off x="5651640" y="17794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on initialise ici le tableau des form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économie de mémoire et perform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6" name="Connecteur droit avec flèche 7"/>
          <p:cNvCxnSpPr>
            <a:stCxn id="175" idx="1"/>
          </p:cNvCxnSpPr>
          <p:nvPr/>
        </p:nvCxnSpPr>
        <p:spPr>
          <a:xfrm flipH="1" flipV="1">
            <a:off x="3182760" y="1921680"/>
            <a:ext cx="2469240" cy="21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ZoneTexte 9"/>
          <p:cNvSpPr/>
          <p:nvPr/>
        </p:nvSpPr>
        <p:spPr>
          <a:xfrm>
            <a:off x="1111320" y="2637000"/>
            <a:ext cx="89694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On remonte d'un cran au nœud parent, : </a:t>
            </a: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//element/data[1][contains(text(),"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M"</a:t>
            </a:r>
            <a:r>
              <a:rPr b="1" lang="fr-FR" sz="2000" spc="-1" strike="noStrike">
                <a:solidFill>
                  <a:srgbClr val="c00000"/>
                </a:solidFill>
                <a:latin typeface="Times New Roman"/>
              </a:rPr>
              <a:t>")]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/ancestor::element/following-sibling::element[1]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dans le cas du motif "NOM ADJ", c'est la forme de l'adjectif qu'on atte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Connecteur droit avec flèche 11"/>
          <p:cNvCxnSpPr>
            <a:stCxn id="177" idx="0"/>
          </p:cNvCxnSpPr>
          <p:nvPr/>
        </p:nvCxnSpPr>
        <p:spPr>
          <a:xfrm flipH="1" flipV="1">
            <a:off x="4833720" y="2207520"/>
            <a:ext cx="762480" cy="429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ZoneTexte 27"/>
          <p:cNvSpPr/>
          <p:nvPr/>
        </p:nvSpPr>
        <p:spPr>
          <a:xfrm>
            <a:off x="5183280" y="5137200"/>
            <a:ext cx="44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getChildNode(3) correspond au "data[3]« , string_value nous renvoie la for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Connecteur droit avec flèche 29"/>
          <p:cNvCxnSpPr>
            <a:stCxn id="180" idx="3"/>
          </p:cNvCxnSpPr>
          <p:nvPr/>
        </p:nvCxnSpPr>
        <p:spPr>
          <a:xfrm flipH="1" flipV="1">
            <a:off x="7254000" y="3136320"/>
            <a:ext cx="2358360" cy="2508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ZoneTexte 30"/>
          <p:cNvSpPr/>
          <p:nvPr/>
        </p:nvSpPr>
        <p:spPr>
          <a:xfrm>
            <a:off x="5183280" y="5351400"/>
            <a:ext cx="44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on remonte recursivement aux nœuds précedents pour extraire la forme "precding-sibling" est l'axe inverse de "following-sib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Connecteur droit avec flèche 32"/>
          <p:cNvCxnSpPr>
            <a:stCxn id="182" idx="0"/>
          </p:cNvCxnSpPr>
          <p:nvPr/>
        </p:nvCxnSpPr>
        <p:spPr>
          <a:xfrm flipH="1" flipV="1">
            <a:off x="5468400" y="3850560"/>
            <a:ext cx="192960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ZoneTexte 34"/>
          <p:cNvSpPr/>
          <p:nvPr/>
        </p:nvSpPr>
        <p:spPr>
          <a:xfrm>
            <a:off x="611280" y="5137200"/>
            <a:ext cx="44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unshift(@matching_tokens,$motif) ajoute au début du tableau la forme retrouvé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Connecteur droit avec flèche 36"/>
          <p:cNvCxnSpPr>
            <a:stCxn id="184" idx="0"/>
          </p:cNvCxnSpPr>
          <p:nvPr/>
        </p:nvCxnSpPr>
        <p:spPr>
          <a:xfrm flipV="1">
            <a:off x="2825640" y="3421800"/>
            <a:ext cx="21528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ZoneTexte 37"/>
          <p:cNvSpPr/>
          <p:nvPr/>
        </p:nvSpPr>
        <p:spPr>
          <a:xfrm>
            <a:off x="682560" y="53514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Times New Roman"/>
              </a:rPr>
              <a:t>écriture des résultats dans un fich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Connecteur droit avec flèche 39"/>
          <p:cNvCxnSpPr>
            <a:stCxn id="186" idx="0"/>
          </p:cNvCxnSpPr>
          <p:nvPr/>
        </p:nvCxnSpPr>
        <p:spPr>
          <a:xfrm flipH="1" flipV="1">
            <a:off x="1253880" y="4779360"/>
            <a:ext cx="164376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ZoneTexte 2"/>
          <p:cNvSpPr/>
          <p:nvPr/>
        </p:nvSpPr>
        <p:spPr>
          <a:xfrm>
            <a:off x="325440" y="851040"/>
            <a:ext cx="94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A fai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0" y="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7T04 / L8T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611280" y="17082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Vous avez le choix entre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tégrer ce script dans parcours_arbo (appel system ou comme procédure)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itement à chaque ite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itement global à la f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aire un traitement global avec ce script sur le résultat final de parcours_arb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M INaLCO</cp:lastModifiedBy>
  <dcterms:modified xsi:type="dcterms:W3CDTF">2010-03-23T14:17:47Z</dcterms:modified>
  <cp:revision>192</cp:revision>
  <dc:subject/>
  <dc:title>Présentation PowerPoint</dc:title>
</cp:coreProperties>
</file>