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5.png" ContentType="image/png"/>
  <Override PartName="/ppt/media/image46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29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5B7F-9821-4E6D-A850-3CD3ED939AFF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un repérage exhaustif des correspondances de tra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 niveau des mots et des syntagmes nous allons recourir au calcul 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occurrences. Leur exploitation dans l ’alignement permet d ’aller au-del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associations contiguë des formes et prendre en considération des for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sociées sur l ’axe syntagmat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A4D-FB91-44AD-84B6-B1FD89F9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3F1-82FF-4547-BCEF-5F6C9967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3F0-677D-4C21-BBBB-F92438B8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160-98FF-4B9C-8550-08720D73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CB12-974E-4DEC-808E-0C8A4EE4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E084-E9B0-4E39-8EA3-944294B6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53A6-4EBD-4F8A-87FB-F19D28FF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C979-12E1-466D-AC1A-A1FB3C52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89C8-AC33-442E-B2CD-320D1DCB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99DA-47F1-46D3-8EFE-3C300E2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F182-4FA1-4102-BFA5-D1AA5E20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A22-8DDC-42D5-B4FD-EA87D95C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AE10-5E32-4B30-A6E3-CE50953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F1EB-1711-493E-B1FB-29CC6F4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F160-5462-421A-B7B6-6E96FA70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6306-F32F-4AD8-9B6B-B070B140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4498-654D-4692-96B4-131E0D29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43F-7F02-4FE0-9A48-5F98C0A6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C25-BAA0-43E5-8421-43C2B451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5B7-C80E-4A76-B701-6E63CBD7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A6A-66C3-4357-A83E-C029065C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541-D16D-44C0-A526-EA26A73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6F9-0EE5-4C5C-BB54-571C0DC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DC7-514E-43E4-8789-FA1105C8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8AFA-0B2B-49D5-8A8D-CD3903B86CBB}" type="slidenum">
              <a:rPr b="0" lang="fr-F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3B4C-7BF6-4692-84AC-629D0937BDDC}" type="slidenum">
              <a:rPr b="0" lang="fr-F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mille.lancs.ac.uk/lesal.htm" TargetMode="External"/><Relationship Id="rId2" Type="http://schemas.openxmlformats.org/officeDocument/2006/relationships/hyperlink" Target="http://www.emille.lancs.ac.uk/lesal.htm" TargetMode="External"/><Relationship Id="rId3" Type="http://schemas.openxmlformats.org/officeDocument/2006/relationships/hyperlink" Target="http://www.emille.lancs.ac.uk/lesal.htm" TargetMode="External"/><Relationship Id="rId4" Type="http://schemas.openxmlformats.org/officeDocument/2006/relationships/hyperlink" Target="http://www.emille.lancs.ac.uk/lesal.htm" TargetMode="External"/><Relationship Id="rId5" Type="http://schemas.openxmlformats.org/officeDocument/2006/relationships/hyperlink" Target="http://www.emille.lancs.ac.uk/lesal.htm" TargetMode="External"/><Relationship Id="rId6" Type="http://schemas.openxmlformats.org/officeDocument/2006/relationships/hyperlink" Target="http://www.emille.lancs.ac.uk/lesal.htm" TargetMode="External"/><Relationship Id="rId7" Type="http://schemas.openxmlformats.org/officeDocument/2006/relationships/hyperlink" Target="http://www.emille.lancs.ac.uk/lesal.htm" TargetMode="External"/><Relationship Id="rId8" Type="http://schemas.openxmlformats.org/officeDocument/2006/relationships/hyperlink" Target="http://www.emille.lancs.ac.uk/lesal.htm" TargetMode="External"/><Relationship Id="rId9" Type="http://schemas.openxmlformats.org/officeDocument/2006/relationships/hyperlink" Target="http://www.emille.lancs.ac.uk/lesal.htm" TargetMode="External"/><Relationship Id="rId10" Type="http://schemas.openxmlformats.org/officeDocument/2006/relationships/hyperlink" Target="http://www.emille.lancs.ac.uk/lesal.htm" TargetMode="External"/><Relationship Id="rId11" Type="http://schemas.openxmlformats.org/officeDocument/2006/relationships/hyperlink" Target="http://www.emille.lancs.ac.uk/lesal.htm" TargetMode="External"/><Relationship Id="rId12" Type="http://schemas.openxmlformats.org/officeDocument/2006/relationships/hyperlink" Target="http://www.emille.lancs.ac.uk/lesal.htm" TargetMode="External"/><Relationship Id="rId13" Type="http://schemas.openxmlformats.org/officeDocument/2006/relationships/hyperlink" Target="http://www.emille.lancs.ac.uk/lesal.htm" TargetMode="External"/><Relationship Id="rId14" Type="http://schemas.openxmlformats.org/officeDocument/2006/relationships/hyperlink" Target="http://www.emille.lancs.ac.uk/lesal.htm" TargetMode="External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f89f7"/>
                </a:solidFill>
                <a:latin typeface="Tahoma"/>
              </a:rPr>
              <a:t>Approches quantitatives de l’alignement des corpus parallèles</a:t>
            </a:r>
            <a:r>
              <a:rPr b="0" lang="fr-FR" sz="4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Maria Zimi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600" spc="-1" strike="noStrike">
                <a:solidFill>
                  <a:srgbClr val="ecd882"/>
                </a:solidFill>
                <a:latin typeface="Tahoma"/>
                <a:ea typeface="Times New Roman"/>
              </a:rPr>
              <a:t>CLA2T </a:t>
            </a:r>
            <a:r>
              <a:rPr b="0" i="1" lang="fr-CH" sz="2600" spc="-1" strike="noStrike">
                <a:solidFill>
                  <a:srgbClr val="ecd882"/>
                </a:solidFill>
                <a:latin typeface="Symbol"/>
                <a:ea typeface="Symbol"/>
              </a:rPr>
              <a:t></a:t>
            </a:r>
            <a:r>
              <a:rPr b="0" i="1" lang="fr-CH" sz="2600" spc="-1" strike="noStrike">
                <a:solidFill>
                  <a:srgbClr val="ecd882"/>
                </a:solidFill>
                <a:latin typeface="Tahoma"/>
                <a:ea typeface="Times New Roman"/>
              </a:rPr>
              <a:t> ILPGA, </a:t>
            </a:r>
            <a:r>
              <a:rPr b="0" i="1" lang="fr-CH" sz="2600" spc="-1" strike="noStrike">
                <a:solidFill>
                  <a:srgbClr val="b2b2b2"/>
                </a:solidFill>
                <a:latin typeface="Tahoma"/>
                <a:ea typeface="Times New Roman"/>
              </a:rPr>
              <a:t>Université de la Sorbonne nouvelle - Paris 3</a:t>
            </a:r>
            <a:r>
              <a:rPr b="0" i="1" lang="fr-CH" sz="2600" spc="-1" strike="noStrike">
                <a:solidFill>
                  <a:srgbClr val="ecd882"/>
                </a:solidFill>
                <a:latin typeface="Tahoma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 u="sng">
                <a:solidFill>
                  <a:srgbClr val="6f89f7"/>
                </a:solidFill>
                <a:uFillTx/>
                <a:latin typeface="Arial"/>
                <a:ea typeface="Times New Roman"/>
              </a:rPr>
              <a:t>zimina@msh-paris.f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84280" y="685800"/>
            <a:ext cx="4076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Diagramme de Pareto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ppt1" descr=""/>
          <p:cNvPicPr/>
          <p:nvPr/>
        </p:nvPicPr>
        <p:blipFill>
          <a:blip r:embed="rId1"/>
          <a:stretch/>
        </p:blipFill>
        <p:spPr>
          <a:xfrm>
            <a:off x="1155600" y="2536920"/>
            <a:ext cx="6348600" cy="43210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55680" y="1054080"/>
            <a:ext cx="8610480" cy="15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Guide de lecture: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Sur l'axe vertical (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Y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), gradué selon une échelle logarithmique, on lit la fréquence de répétition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Sur l'axe horizontal (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X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), gradué selon la même échelle, on porte le nombre des formes répétées au moins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fois dans le corpus pour chaque fréquence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(entre 1 et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F</a:t>
            </a:r>
            <a:r>
              <a:rPr b="0" i="1" lang="fr-FR" sz="18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max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)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73600" y="2629080"/>
            <a:ext cx="4991040" cy="242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6f8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</a:rPr>
              <a:t>accords morpho-syntaxiques (français)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ex. 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ontraignant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2),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ontraignante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2),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ontraignants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2),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ontraignantes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2) etc. / binding (F=12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f8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polysémie (anglais)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ex. la forme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applicant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</a:t>
            </a:r>
            <a:r>
              <a:rPr b="0" lang="fr-CA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F=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1244) reçoit plusieurs traductions :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requérant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MS Mincho"/>
              </a:rPr>
              <a:t>643),</a:t>
            </a:r>
            <a:r>
              <a:rPr b="0" i="1" lang="fr-FR" sz="1600" spc="-1" strike="noStrike">
                <a:solidFill>
                  <a:srgbClr val="6f89f7"/>
                </a:solidFill>
                <a:latin typeface="Times New Roman"/>
                <a:ea typeface="Times New Roman"/>
              </a:rPr>
              <a:t>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requérante (F=323), intéressée (F=</a:t>
            </a:r>
            <a:r>
              <a:rPr b="0" i="1" lang="fr-FR" sz="1600" spc="-1" strike="noStrike">
                <a:solidFill>
                  <a:srgbClr val="6f89f7"/>
                </a:solidFill>
                <a:latin typeface="Times New Roman"/>
                <a:ea typeface="Times New Roman"/>
              </a:rPr>
              <a:t>190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) et intéressé (F=73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42080" y="5173560"/>
            <a:ext cx="0" cy="432000"/>
          </a:xfrm>
          <a:prstGeom prst="line">
            <a:avLst/>
          </a:prstGeom>
          <a:ln w="76320">
            <a:solidFill>
              <a:srgbClr val="cfdb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174840" y="3492360"/>
            <a:ext cx="470160" cy="0"/>
          </a:xfrm>
          <a:prstGeom prst="line">
            <a:avLst/>
          </a:prstGeom>
          <a:ln w="76320">
            <a:solidFill>
              <a:srgbClr val="cfdb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164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62120" y="1752480"/>
            <a:ext cx="892800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français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rang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fréquence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40458c"/>
                </a:solidFill>
                <a:latin typeface="Times New Roman"/>
              </a:rPr>
              <a:t>anglais</a:t>
            </a:r>
            <a:r>
              <a:rPr b="1" lang="fr-BE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rang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fréqu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lexical 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générale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lexical 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généra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convent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32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1 223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convent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26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1 228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commiss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39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889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commiss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36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832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paragraphe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44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740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paragraph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38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802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gouvernement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45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721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government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44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740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décis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59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508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decis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55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563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mais</a:t>
            </a: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80</a:t>
            </a: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   380</a:t>
            </a:r>
            <a:r>
              <a:rPr b="1" lang="en-GB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ecd882"/>
                </a:solidFill>
                <a:latin typeface="Times New Roman"/>
              </a:rPr>
              <a:t>but</a:t>
            </a:r>
            <a:r>
              <a:rPr b="1" lang="en-GB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79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392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article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82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362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article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87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351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citat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85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352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citat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88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351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détent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98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314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detent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96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336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5184720"/>
            <a:ext cx="1447560" cy="301680"/>
          </a:xfrm>
          <a:prstGeom prst="line">
            <a:avLst/>
          </a:prstGeom>
          <a:ln w="936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437920" y="5184720"/>
            <a:ext cx="2514600" cy="301680"/>
          </a:xfrm>
          <a:prstGeom prst="line">
            <a:avLst/>
          </a:prstGeom>
          <a:ln w="936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3920" y="5486400"/>
            <a:ext cx="46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40458c"/>
                </a:solidFill>
                <a:latin typeface="Times New Roman"/>
              </a:rPr>
              <a:t>correspondances bi-univoques (ou presqu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1640" y="15228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1028880"/>
            <a:ext cx="5854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Dictionnaires des formes graphiques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06360" y="2209680"/>
            <a:ext cx="7772400" cy="4114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es deux mots (ou syntagmes) renvoient à un nom propre ou à un nombre :</a:t>
            </a: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Exemples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rançais</a:t>
            </a: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fréquence          </a:t>
            </a:r>
            <a:r>
              <a:rPr b="1" lang="fr-B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nglais</a:t>
            </a:r>
            <a:r>
              <a:rPr b="1" lang="fr-B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réquen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herbert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herbert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29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etzold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petzold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29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1991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13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1991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1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1992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11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1992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54080" y="2057400"/>
            <a:ext cx="7772400" cy="4114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es concepts désignés par les deux mots</a:t>
            </a:r>
            <a:br>
              <a:rPr sz="2400"/>
            </a:b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ont identiques car ils relèvent toujours dans le corpus de leur sens premier (ou étymologique) :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  </a:t>
            </a: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Exemple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</a:t>
            </a:r>
            <a:r>
              <a:rPr b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père (F= 29) / father (F = 27)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01800" y="1905120"/>
            <a:ext cx="7772400" cy="4114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’équivalence est imposée par le respect</a:t>
            </a:r>
            <a:br>
              <a:rPr sz="2400"/>
            </a:b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e normes terminologiques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Exemples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les gouvernements signataires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F =  3  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MS Mincho"/>
              </a:rPr>
              <a:t>t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he governments signatory hereto  F =  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rivilèges et immunité              F =  8  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rivileges and immunities</a:t>
            </a: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 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 =  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MS Mincho"/>
              </a:rPr>
              <a:t>hautes parties contractantes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F = 42 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MS Mincho"/>
              </a:rPr>
              <a:t>high contracting parties             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 = 4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49160" y="1752480"/>
            <a:ext cx="7772400" cy="4114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e contexte du corpus réduit l’espace des sens</a:t>
            </a:r>
            <a:br>
              <a:rPr sz="2400"/>
            </a:b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ossibles pour les deux mots :</a:t>
            </a:r>
            <a:r>
              <a:rPr b="0" lang="fr-F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Exemple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</a:t>
            </a:r>
            <a:r>
              <a:rPr b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article (F = 362) / article (F = 351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460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5040" y="1155600"/>
            <a:ext cx="8852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Correspondances bi-univoques (ou presque) :</a:t>
            </a:r>
            <a:br>
              <a:rPr sz="2400"/>
            </a:br>
            <a:r>
              <a:rPr b="1" i="1" lang="fr-FR" sz="2400" spc="-1" strike="noStrike">
                <a:solidFill>
                  <a:srgbClr val="b2b2b2"/>
                </a:solidFill>
                <a:latin typeface="Tahoma"/>
                <a:ea typeface="Times New Roman"/>
              </a:rPr>
              <a:t> </a:t>
            </a: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les cau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98400" y="786960"/>
            <a:ext cx="77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Exemples d’unités lexicales</a:t>
            </a:r>
            <a:br>
              <a:rPr sz="2400"/>
            </a:b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à correspondances multiples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87320" y="1920960"/>
            <a:ext cx="4241520" cy="2492280"/>
            <a:chOff x="787320" y="1920960"/>
            <a:chExt cx="4241520" cy="2492280"/>
          </a:xfrm>
        </p:grpSpPr>
        <p:sp>
          <p:nvSpPr>
            <p:cNvPr id="366" name=""/>
            <p:cNvSpPr/>
            <p:nvPr/>
          </p:nvSpPr>
          <p:spPr>
            <a:xfrm>
              <a:off x="1056960" y="2101680"/>
              <a:ext cx="39718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44520" indent="-124452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40458c"/>
                  </a:solidFill>
                  <a:latin typeface="Arial Narrow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petition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4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40458c"/>
                  </a:solidFill>
                  <a:latin typeface="Times New Roman"/>
                </a:rPr>
                <a:t>requête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complaint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116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233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matter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127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application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23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appeal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45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87320" y="1920960"/>
              <a:ext cx="4093920" cy="1904400"/>
              <a:chOff x="787320" y="1920960"/>
              <a:chExt cx="4093920" cy="190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2172240" y="2166120"/>
                <a:ext cx="0" cy="1442520"/>
              </a:xfrm>
              <a:prstGeom prst="line">
                <a:avLst/>
              </a:prstGeom>
              <a:ln w="2844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7320" y="1920960"/>
                <a:ext cx="4093920" cy="1904400"/>
              </a:xfrm>
              <a:prstGeom prst="ellipse">
                <a:avLst/>
              </a:prstGeom>
              <a:noFill/>
              <a:ln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4292640" y="1741320"/>
            <a:ext cx="4470480" cy="1339920"/>
            <a:chOff x="4292640" y="1741320"/>
            <a:chExt cx="4470480" cy="1339920"/>
          </a:xfrm>
        </p:grpSpPr>
        <p:grpSp>
          <p:nvGrpSpPr>
            <p:cNvPr id="371" name=""/>
            <p:cNvGrpSpPr/>
            <p:nvPr/>
          </p:nvGrpSpPr>
          <p:grpSpPr>
            <a:xfrm>
              <a:off x="4292640" y="1741320"/>
              <a:ext cx="4470480" cy="1339920"/>
              <a:chOff x="4292640" y="1741320"/>
              <a:chExt cx="4470480" cy="1339920"/>
            </a:xfrm>
          </p:grpSpPr>
          <p:sp>
            <p:nvSpPr>
              <p:cNvPr id="372" name=""/>
              <p:cNvSpPr/>
              <p:nvPr/>
            </p:nvSpPr>
            <p:spPr>
              <a:xfrm>
                <a:off x="4292640" y="1741320"/>
                <a:ext cx="3899160" cy="890640"/>
              </a:xfrm>
              <a:prstGeom prst="ellipse">
                <a:avLst/>
              </a:prstGeom>
              <a:noFill/>
              <a:ln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48320" y="1906560"/>
                <a:ext cx="411480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244520" indent="-124452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40458c"/>
                    </a:solidFill>
                    <a:latin typeface="Arial"/>
                  </a:rPr>
                  <a:t>  </a:t>
                </a:r>
                <a:r>
                  <a:rPr b="1" lang="fr-FR" sz="1800" spc="-1" strike="noStrike">
                    <a:solidFill>
                      <a:srgbClr val="40458c"/>
                    </a:solidFill>
                    <a:latin typeface="Times New Roman"/>
                  </a:rPr>
                  <a:t>recours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use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1" i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F = 176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1" i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F = 294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remedies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1" i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F = 25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5766120" y="1920600"/>
              <a:ext cx="0" cy="56988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76720" y="2127240"/>
            <a:ext cx="1438200" cy="152280"/>
            <a:chOff x="3276720" y="2127240"/>
            <a:chExt cx="1438200" cy="152280"/>
          </a:xfrm>
        </p:grpSpPr>
        <p:sp>
          <p:nvSpPr>
            <p:cNvPr id="376" name=""/>
            <p:cNvSpPr/>
            <p:nvPr/>
          </p:nvSpPr>
          <p:spPr>
            <a:xfrm>
              <a:off x="3276720" y="2127240"/>
              <a:ext cx="1438200" cy="8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89320" y="2127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640040" y="3429000"/>
            <a:ext cx="347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40458c"/>
                </a:solidFill>
                <a:latin typeface="Times New Roman"/>
              </a:rPr>
              <a:t>correspondances non univoqu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9" name="ppt7" descr=""/>
          <p:cNvPicPr/>
          <p:nvPr/>
        </p:nvPicPr>
        <p:blipFill>
          <a:blip r:embed="rId1"/>
          <a:stretch/>
        </p:blipFill>
        <p:spPr>
          <a:xfrm>
            <a:off x="787320" y="1727280"/>
            <a:ext cx="8050320" cy="3384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1904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segmPPT" descr=""/>
          <p:cNvPicPr/>
          <p:nvPr/>
        </p:nvPicPr>
        <p:blipFill>
          <a:blip r:embed="rId1"/>
          <a:stretch/>
        </p:blipFill>
        <p:spPr>
          <a:xfrm>
            <a:off x="165240" y="1636560"/>
            <a:ext cx="8870760" cy="4131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44600" y="22860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98400" y="786960"/>
            <a:ext cx="77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Mise en correspondance de segments répété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pt2" descr=""/>
          <p:cNvPicPr/>
          <p:nvPr/>
        </p:nvPicPr>
        <p:blipFill>
          <a:blip r:embed="rId1"/>
          <a:stretch/>
        </p:blipFill>
        <p:spPr>
          <a:xfrm>
            <a:off x="1030320" y="1546200"/>
            <a:ext cx="7103880" cy="52084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62120" y="68580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Principes de sélection et de classements de segments répétés pour l’appariement</a:t>
            </a:r>
            <a:r>
              <a:rPr b="0" i="1" lang="fr-FR" sz="24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6" name="ppt3" descr=""/>
          <p:cNvPicPr/>
          <p:nvPr/>
        </p:nvPicPr>
        <p:blipFill>
          <a:blip r:embed="rId2"/>
          <a:stretch/>
        </p:blipFill>
        <p:spPr>
          <a:xfrm>
            <a:off x="0" y="3938760"/>
            <a:ext cx="9144000" cy="21301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762120" y="1711440"/>
            <a:ext cx="758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es segments recensés autour de formes  équivalentes  sont triés par ordre décroissant des fréquences, les segments de même fréquence étant triés par ordre de longueur décroissant.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0880" y="1033560"/>
            <a:ext cx="861084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e repérage d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spécificité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permet de sélectionner pour un sous-ensemble quelconque de phrases du corpus une série de typ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surreprésentés 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dans ce fragment par rapport à l’ensemble du corpus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l est possible d’établir ce genre de diagnostic parallèlement pour deux volets du corpus bilingue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21040" y="4267080"/>
            <a:ext cx="1282680" cy="13208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20760" y="3835440"/>
            <a:ext cx="1397160" cy="520560"/>
          </a:xfrm>
          <a:custGeom>
            <a:avLst/>
            <a:gdLst>
              <a:gd name="textAreaLeft" fmla="*/ 244440 w 1397160"/>
              <a:gd name="textAreaRight" fmla="*/ 1013040 w 1397160"/>
              <a:gd name="textAreaTop" fmla="*/ 69480 h 520560"/>
              <a:gd name="textAreaBottom" fmla="*/ 451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560" y="4267080"/>
            <a:ext cx="1282680" cy="13208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03440" y="45846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81160" y="457200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193760" y="5486400"/>
            <a:ext cx="635040" cy="355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20960" y="5460840"/>
            <a:ext cx="559080" cy="381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680" y="58802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Tahoma"/>
              </a:rPr>
              <a:t>Phrases contenant la forme « démocratie »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44720" y="5854680"/>
            <a:ext cx="179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Tahoma"/>
              </a:rPr>
              <a:t>Sous-ensemble de phrases équivalentes en anglai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89520" y="4013280"/>
            <a:ext cx="3898800" cy="155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6f8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le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alcul des spécificités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 permet de sélectionner parallèlement pour chacun de ces fragments une série d’unités particulièrement caractéristiques de ces parties du corpus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1640" y="17784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Spécificités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(i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1" name="ppt12" descr=""/>
          <p:cNvPicPr/>
          <p:nvPr/>
        </p:nvPicPr>
        <p:blipFill>
          <a:blip r:embed="rId4"/>
          <a:stretch/>
        </p:blipFill>
        <p:spPr>
          <a:xfrm>
            <a:off x="217440" y="3784680"/>
            <a:ext cx="873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ventil" descr=""/>
          <p:cNvPicPr/>
          <p:nvPr/>
        </p:nvPicPr>
        <p:blipFill>
          <a:blip r:embed="rId1"/>
          <a:stretch/>
        </p:blipFill>
        <p:spPr>
          <a:xfrm>
            <a:off x="1079640" y="1952640"/>
            <a:ext cx="7097400" cy="49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68280" y="957240"/>
            <a:ext cx="861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 comparaison des fréquences local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(</a:t>
            </a:r>
            <a:r>
              <a:rPr b="0" i="1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et la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localisation 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des unités dans les phrases alignées du fragment font apparaître des indices supplémentaires pour l’appariement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460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Spécificités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(ii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pt6" descr=""/>
          <p:cNvPicPr/>
          <p:nvPr/>
        </p:nvPicPr>
        <p:blipFill>
          <a:blip r:embed="rId1"/>
          <a:stretch/>
        </p:blipFill>
        <p:spPr>
          <a:xfrm>
            <a:off x="2867040" y="765000"/>
            <a:ext cx="6276960" cy="6093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685800" y="16002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8400" y="1574640"/>
            <a:ext cx="2019240" cy="204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6f8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</a:rPr>
              <a:t>l’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itération du calcul des spécificités permet de saisir les attractions lexicales multiples entre les types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460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Spécificités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(iii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19160" y="2933640"/>
            <a:ext cx="228960" cy="2908440"/>
            <a:chOff x="2819160" y="2933640"/>
            <a:chExt cx="228960" cy="2908440"/>
          </a:xfrm>
        </p:grpSpPr>
        <p:sp>
          <p:nvSpPr>
            <p:cNvPr id="410" name=""/>
            <p:cNvSpPr/>
            <p:nvPr/>
          </p:nvSpPr>
          <p:spPr>
            <a:xfrm flipH="1">
              <a:off x="2819160" y="2933640"/>
              <a:ext cx="215640" cy="0"/>
            </a:xfrm>
            <a:prstGeom prst="line">
              <a:avLst/>
            </a:prstGeom>
            <a:ln w="1908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32120" y="2933640"/>
              <a:ext cx="0" cy="2908440"/>
            </a:xfrm>
            <a:prstGeom prst="line">
              <a:avLst/>
            </a:prstGeom>
            <a:ln w="1908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32120" y="5829480"/>
              <a:ext cx="216000" cy="0"/>
            </a:xfrm>
            <a:prstGeom prst="line">
              <a:avLst/>
            </a:prstGeom>
            <a:ln w="1908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3581280" y="304920"/>
            <a:ext cx="5225760" cy="6419520"/>
            <a:chOff x="3581280" y="304920"/>
            <a:chExt cx="5225760" cy="6419520"/>
          </a:xfrm>
        </p:grpSpPr>
        <p:grpSp>
          <p:nvGrpSpPr>
            <p:cNvPr id="414" name=""/>
            <p:cNvGrpSpPr/>
            <p:nvPr/>
          </p:nvGrpSpPr>
          <p:grpSpPr>
            <a:xfrm>
              <a:off x="3978000" y="304920"/>
              <a:ext cx="4829040" cy="6419520"/>
              <a:chOff x="3978000" y="304920"/>
              <a:chExt cx="4829040" cy="6419520"/>
            </a:xfrm>
          </p:grpSpPr>
          <p:pic>
            <p:nvPicPr>
              <p:cNvPr id="4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87360" y="3049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6720" y="12355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85560" y="216396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3840" y="308808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7360" y="4027320"/>
                <a:ext cx="468648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987360" y="497160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79800" y="591408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986640" y="72684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4025520" y="117288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996360" y="16621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4034880" y="303624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2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86640" y="257940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4025520" y="210276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2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999600" y="35161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4034880" y="397296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3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986640" y="44521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4016160" y="490284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3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987360" y="539280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4025520" y="584280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3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78000" y="63313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5" name=""/>
            <p:cNvSpPr/>
            <p:nvPr/>
          </p:nvSpPr>
          <p:spPr>
            <a:xfrm>
              <a:off x="3581280" y="69156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81280" y="33156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1280" y="165132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1280" y="129168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81280" y="261144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81280" y="225144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81280" y="345132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81280" y="309132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81280" y="441144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81280" y="405144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81280" y="537156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81280" y="501156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1280" y="6211440"/>
              <a:ext cx="4791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81280" y="585144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85800" y="1600200"/>
            <a:ext cx="2895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démocrat</a:t>
            </a:r>
            <a:r>
              <a:rPr b="1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+</a:t>
            </a:r>
            <a:r>
              <a:rPr b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[ démocratique (96 occ.), démocratie (9 occ.), démocratiques (7 occ.), démocrate (1 occ.)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ecd882"/>
                </a:solidFill>
                <a:latin typeface="Tahoma"/>
                <a:ea typeface="Times New Roman"/>
              </a:rPr>
              <a:t>democra</a:t>
            </a:r>
            <a:r>
              <a:rPr b="1" lang="en-GB" sz="1800" spc="-1" strike="noStrike">
                <a:solidFill>
                  <a:srgbClr val="ecd882"/>
                </a:solidFill>
                <a:latin typeface="Tahoma"/>
                <a:ea typeface="Times New Roman"/>
              </a:rPr>
              <a:t>+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[ democratic (103 occ.), democracy (10 occ.), democrat (1 occ.) </a:t>
            </a:r>
            <a:r>
              <a:rPr b="0" lang="fr-CH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03440" y="5194440"/>
            <a:ext cx="8103960" cy="1530360"/>
            <a:chOff x="703440" y="5194440"/>
            <a:chExt cx="8103960" cy="1530360"/>
          </a:xfrm>
        </p:grpSpPr>
        <p:pic>
          <p:nvPicPr>
            <p:cNvPr id="451" name="ppt10" descr=""/>
            <p:cNvPicPr/>
            <p:nvPr/>
          </p:nvPicPr>
          <p:blipFill>
            <a:blip r:embed="rId15"/>
            <a:stretch/>
          </p:blipFill>
          <p:spPr>
            <a:xfrm>
              <a:off x="703440" y="5432400"/>
              <a:ext cx="810396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lex3" descr=""/>
            <p:cNvPicPr/>
            <p:nvPr/>
          </p:nvPicPr>
          <p:blipFill>
            <a:blip r:embed="rId16"/>
            <a:stretch/>
          </p:blipFill>
          <p:spPr>
            <a:xfrm>
              <a:off x="703440" y="5194440"/>
              <a:ext cx="660240" cy="1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"/>
          <p:cNvSpPr/>
          <p:nvPr/>
        </p:nvSpPr>
        <p:spPr>
          <a:xfrm>
            <a:off x="6629400" y="727200"/>
            <a:ext cx="76320" cy="75960"/>
          </a:xfrm>
          <a:prstGeom prst="rect">
            <a:avLst/>
          </a:prstGeom>
          <a:solidFill>
            <a:srgbClr val="ecd88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29400" y="304920"/>
            <a:ext cx="76320" cy="7596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72200" y="331920"/>
            <a:ext cx="304920" cy="471240"/>
          </a:xfrm>
          <a:custGeom>
            <a:avLst/>
            <a:gdLst>
              <a:gd name="textAreaLeft" fmla="*/ 40680 w 304920"/>
              <a:gd name="textAreaRight" fmla="*/ 264240 w 304920"/>
              <a:gd name="textAreaTop" fmla="*/ 82440 h 471240"/>
              <a:gd name="textAreaBottom" fmla="*/ 341640 h 47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9880" y="487440"/>
            <a:ext cx="328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Topographie</a:t>
            </a:r>
            <a:br>
              <a:rPr sz="3600"/>
            </a:b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textuell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Pla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23960" y="1561680"/>
            <a:ext cx="795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8920" indent="-44892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Problèmes de l’alignement des corpus  parallè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Corpus parallèle </a:t>
            </a:r>
            <a:r>
              <a:rPr b="0" i="1" lang="fr-FR" sz="2400" spc="-1" strike="noStrike" u="sng">
                <a:solidFill>
                  <a:srgbClr val="40458c"/>
                </a:solidFill>
                <a:uFillTx/>
                <a:latin typeface="Tahoma"/>
              </a:rPr>
              <a:t>Convention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(français/angla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448920" indent="-44892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Approches quantitatives de l’align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Analyse lexicométrique du corpus </a:t>
            </a:r>
            <a:r>
              <a:rPr b="0" i="1" lang="fr-FR" sz="2400" spc="-1" strike="noStrike" u="sng">
                <a:solidFill>
                  <a:srgbClr val="40458c"/>
                </a:solidFill>
                <a:uFillTx/>
                <a:latin typeface="Tahoma"/>
              </a:rPr>
              <a:t>Conven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Segments répété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Spécificité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Topographie textuel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Classification automatiq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Réseaux de cooccurren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236760" y="155520"/>
            <a:ext cx="5907240" cy="6702480"/>
            <a:chOff x="3236760" y="155520"/>
            <a:chExt cx="5907240" cy="6702480"/>
          </a:xfrm>
        </p:grpSpPr>
        <p:pic>
          <p:nvPicPr>
            <p:cNvPr id="458" name="SPEC" descr=""/>
            <p:cNvPicPr/>
            <p:nvPr/>
          </p:nvPicPr>
          <p:blipFill>
            <a:blip r:embed="rId1"/>
            <a:stretch/>
          </p:blipFill>
          <p:spPr>
            <a:xfrm>
              <a:off x="6260760" y="155520"/>
              <a:ext cx="2883240" cy="66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SPEC" descr=""/>
            <p:cNvPicPr/>
            <p:nvPr/>
          </p:nvPicPr>
          <p:blipFill>
            <a:blip r:embed="rId2"/>
            <a:stretch/>
          </p:blipFill>
          <p:spPr>
            <a:xfrm>
              <a:off x="3236760" y="155520"/>
              <a:ext cx="2845080" cy="670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35960" y="1279800"/>
              <a:ext cx="46404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823360" y="1415520"/>
              <a:ext cx="476640" cy="266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2000" y="2778840"/>
              <a:ext cx="468360" cy="131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32000" y="2778840"/>
              <a:ext cx="468360" cy="131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15080" y="5902560"/>
              <a:ext cx="476640" cy="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48560" y="5504400"/>
              <a:ext cx="451440" cy="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832000" y="3592440"/>
              <a:ext cx="459720" cy="136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5080" y="6337080"/>
              <a:ext cx="476640" cy="40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19400" y="4399560"/>
              <a:ext cx="459720" cy="838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19400" y="3046680"/>
              <a:ext cx="468360" cy="240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23360" y="2084040"/>
              <a:ext cx="464040" cy="281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19400" y="3875400"/>
              <a:ext cx="459720" cy="265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44600" y="4960080"/>
              <a:ext cx="447480" cy="148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42440" y="316080"/>
              <a:ext cx="11329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f89f7"/>
                  </a:solidFill>
                  <a:latin typeface="Arial"/>
                </a:rPr>
                <a:t>frança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88680" y="340560"/>
              <a:ext cx="11329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ecd882"/>
                  </a:solidFill>
                  <a:latin typeface="Arial"/>
                </a:rPr>
                <a:t>angla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60200" y="550800"/>
            <a:ext cx="328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Topographie</a:t>
            </a:r>
            <a:br>
              <a:rPr sz="3600"/>
            </a:b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textuell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1640" y="1714680"/>
            <a:ext cx="2654640" cy="23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Vocabulaires</a:t>
            </a:r>
            <a:br>
              <a:rPr sz="2400"/>
            </a:br>
            <a:r>
              <a:rPr b="1" i="1" lang="fr-CA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caractéristiques</a:t>
            </a:r>
            <a:br>
              <a:rPr sz="2400"/>
            </a:br>
            <a:br>
              <a:rPr sz="800"/>
            </a:br>
            <a:r>
              <a:rPr b="1" i="1" lang="fr-CA" sz="1800" spc="-1" strike="noStrike">
                <a:solidFill>
                  <a:srgbClr val="b2b2b2"/>
                </a:solidFill>
                <a:latin typeface="Tahoma"/>
                <a:ea typeface="Times New Roman"/>
              </a:rPr>
              <a:t>issus des phrases contenant le pôle</a:t>
            </a:r>
            <a:br>
              <a:rPr sz="1800"/>
            </a:br>
            <a:r>
              <a:rPr b="1" i="1" lang="fr-CA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démocrat+</a:t>
            </a:r>
            <a:br>
              <a:rPr sz="1800"/>
            </a:br>
            <a:r>
              <a:rPr b="1" i="1" lang="fr-CA" sz="1800" spc="-1" strike="noStrike">
                <a:solidFill>
                  <a:srgbClr val="ecd882"/>
                </a:solidFill>
                <a:latin typeface="Tahoma"/>
                <a:ea typeface="Times New Roman"/>
              </a:rPr>
              <a:t>democra+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04920" y="4343400"/>
            <a:ext cx="883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réponses à</a:t>
            </a:r>
            <a:r>
              <a:rPr b="0" lang="fr-FR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0  0  1  1  0  1  0  0  1  1  1  0  0  2  0  0  0  2  0 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replies to</a:t>
            </a:r>
            <a:r>
              <a:rPr b="0" lang="fr-CA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0  0  1  1  0  1  0  0  1  2  2  0  1  1  0  0  0  2  0 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des juges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11  0  0  2  0  0  0  1  4  1  0  0  0  0  2  0  0  2  0  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the judges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15  0  0  1  2  0  0  3  5  2  0  0  0  0  2  0  0  0  0  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verdict d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 0  0  0  0  0  0  0  1  0  0  0  0  0  0  0  6  1  0  3  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verdict of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0  0  0  0  0  0  0  0  0  0  0  0  0  0  0  6  1  1  3  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60" y="4435560"/>
            <a:ext cx="533160" cy="453600"/>
            <a:chOff x="360" y="4435560"/>
            <a:chExt cx="533160" cy="453600"/>
          </a:xfrm>
        </p:grpSpPr>
        <p:sp>
          <p:nvSpPr>
            <p:cNvPr id="479" name=""/>
            <p:cNvSpPr/>
            <p:nvPr/>
          </p:nvSpPr>
          <p:spPr>
            <a:xfrm flipH="1">
              <a:off x="272880" y="4874040"/>
              <a:ext cx="260640" cy="252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72880" y="4447800"/>
              <a:ext cx="26064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60" y="4660920"/>
              <a:ext cx="26100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82600" y="4435560"/>
              <a:ext cx="0" cy="4536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60" y="5149800"/>
            <a:ext cx="533160" cy="453600"/>
            <a:chOff x="360" y="5149800"/>
            <a:chExt cx="533160" cy="453600"/>
          </a:xfrm>
        </p:grpSpPr>
        <p:sp>
          <p:nvSpPr>
            <p:cNvPr id="484" name=""/>
            <p:cNvSpPr/>
            <p:nvPr/>
          </p:nvSpPr>
          <p:spPr>
            <a:xfrm flipH="1">
              <a:off x="272880" y="5588280"/>
              <a:ext cx="260640" cy="252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272880" y="5162040"/>
              <a:ext cx="26064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60" y="5375160"/>
              <a:ext cx="26100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82600" y="5149800"/>
              <a:ext cx="0" cy="4536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60" y="5878440"/>
            <a:ext cx="533160" cy="453600"/>
            <a:chOff x="360" y="5878440"/>
            <a:chExt cx="533160" cy="453600"/>
          </a:xfrm>
        </p:grpSpPr>
        <p:sp>
          <p:nvSpPr>
            <p:cNvPr id="489" name=""/>
            <p:cNvSpPr/>
            <p:nvPr/>
          </p:nvSpPr>
          <p:spPr>
            <a:xfrm flipH="1">
              <a:off x="272880" y="6316920"/>
              <a:ext cx="260640" cy="252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72880" y="5890680"/>
              <a:ext cx="26064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0" y="6103800"/>
              <a:ext cx="26100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82600" y="5878440"/>
              <a:ext cx="0" cy="4536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08200" y="1881360"/>
            <a:ext cx="75834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Appliquée aux tableaux</a:t>
            </a:r>
            <a:r>
              <a:rPr b="0" i="1" lang="fr-FR" sz="20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qui contiennent formes et segments répétés de deux textes, la classification regroupe des éléments aux </a:t>
            </a:r>
            <a:r>
              <a:rPr b="0" i="1" lang="fr-FR" sz="2000" spc="-1" strike="noStrike">
                <a:solidFill>
                  <a:srgbClr val="6f89f7"/>
                </a:solidFill>
                <a:latin typeface="Tahoma"/>
              </a:rPr>
              <a:t>profils de répartitions</a:t>
            </a: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 proch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65960" y="3927600"/>
            <a:ext cx="2678040" cy="712800"/>
          </a:xfrm>
          <a:noFill/>
          <a:ln w="1584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cd882"/>
                </a:solidFill>
                <a:latin typeface="Tahoma"/>
              </a:rPr>
              <a:t>fréquence par parti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4680" y="279360"/>
            <a:ext cx="850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lassification ascendante hiérarchique (CAH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482920" y="1228680"/>
            <a:ext cx="547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Corpus </a:t>
            </a: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Convention </a:t>
            </a: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: résulta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7" name="classes" descr=""/>
          <p:cNvPicPr/>
          <p:nvPr/>
        </p:nvPicPr>
        <p:blipFill>
          <a:blip r:embed="rId1"/>
          <a:stretch/>
        </p:blipFill>
        <p:spPr>
          <a:xfrm>
            <a:off x="95400" y="2097000"/>
            <a:ext cx="9048600" cy="44672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4680" y="279360"/>
            <a:ext cx="850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lassification ascendante hiérarchique (CAH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55680" y="1731960"/>
            <a:ext cx="8610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 classification ne fournit pas de critères permettant d’effectuer un découpage en classes optimal du point de vue des correspondances de traduction : l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unités équivalent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et l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cooccurrenc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se retrouvent parfois dans les mêmes classes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54080" y="1028880"/>
            <a:ext cx="5575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Filtrage de bruit dans les résulta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01" name="br" descr=""/>
          <p:cNvPicPr/>
          <p:nvPr/>
        </p:nvPicPr>
        <p:blipFill>
          <a:blip r:embed="rId1"/>
          <a:stretch/>
        </p:blipFill>
        <p:spPr>
          <a:xfrm>
            <a:off x="2266920" y="3198960"/>
            <a:ext cx="3235320" cy="298764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  <p:pic>
        <p:nvPicPr>
          <p:cNvPr id="502" name="leg" descr=""/>
          <p:cNvPicPr/>
          <p:nvPr/>
        </p:nvPicPr>
        <p:blipFill>
          <a:blip r:embed="rId2"/>
          <a:stretch/>
        </p:blipFill>
        <p:spPr>
          <a:xfrm>
            <a:off x="2776680" y="3462480"/>
            <a:ext cx="1782720" cy="593640"/>
          </a:xfrm>
          <a:prstGeom prst="rect">
            <a:avLst/>
          </a:prstGeom>
          <a:ln w="0">
            <a:noFill/>
          </a:ln>
        </p:spPr>
      </p:pic>
      <p:pic>
        <p:nvPicPr>
          <p:cNvPr id="503" name="br2" descr=""/>
          <p:cNvPicPr/>
          <p:nvPr/>
        </p:nvPicPr>
        <p:blipFill>
          <a:blip r:embed="rId3"/>
          <a:stretch/>
        </p:blipFill>
        <p:spPr>
          <a:xfrm>
            <a:off x="5584680" y="3211560"/>
            <a:ext cx="3407040" cy="297504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  <p:pic>
        <p:nvPicPr>
          <p:cNvPr id="504" name="leg2" descr=""/>
          <p:cNvPicPr/>
          <p:nvPr/>
        </p:nvPicPr>
        <p:blipFill>
          <a:blip r:embed="rId4"/>
          <a:stretch/>
        </p:blipFill>
        <p:spPr>
          <a:xfrm>
            <a:off x="6081840" y="3462480"/>
            <a:ext cx="1600200" cy="2854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711360" y="2730600"/>
            <a:ext cx="1409400" cy="1977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CLASSE 265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tely necessar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ment nécessair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ment nécessai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homicide léga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97160" y="4457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680" y="15228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lassification ascendante hiérarchique (CAH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0240" y="4229280"/>
            <a:ext cx="1333800" cy="495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1046160" y="2765520"/>
            <a:ext cx="7051680" cy="3840120"/>
            <a:chOff x="1046160" y="2765520"/>
            <a:chExt cx="7051680" cy="3840120"/>
          </a:xfrm>
        </p:grpSpPr>
        <p:pic>
          <p:nvPicPr>
            <p:cNvPr id="510" name="ppt8" descr=""/>
            <p:cNvPicPr/>
            <p:nvPr/>
          </p:nvPicPr>
          <p:blipFill>
            <a:blip r:embed="rId1"/>
            <a:stretch/>
          </p:blipFill>
          <p:spPr>
            <a:xfrm>
              <a:off x="1046160" y="2765520"/>
              <a:ext cx="705168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3975120" y="3365640"/>
              <a:ext cx="76320" cy="3427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14040 h 342720"/>
                <a:gd name="textAreaBottom" fmla="*/ 3286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512" name="ing001f4" descr=""/>
            <p:cNvPicPr/>
            <p:nvPr/>
          </p:nvPicPr>
          <p:blipFill>
            <a:blip r:embed="rId2">
              <a:lum contrast="-14000"/>
            </a:blip>
            <a:stretch/>
          </p:blipFill>
          <p:spPr>
            <a:xfrm>
              <a:off x="4216320" y="3130560"/>
              <a:ext cx="34920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nce001f4" descr=""/>
            <p:cNvPicPr/>
            <p:nvPr/>
          </p:nvPicPr>
          <p:blipFill>
            <a:blip r:embed="rId3">
              <a:lum contrast="-14000"/>
            </a:blip>
            <a:stretch/>
          </p:blipFill>
          <p:spPr>
            <a:xfrm>
              <a:off x="4216320" y="3460680"/>
              <a:ext cx="331920" cy="1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380880" y="1801800"/>
            <a:ext cx="8610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orsqu’un terme reçoit plusieurs traductions dans le corpus, les méthodes classificatoires ne permettent pas toujours de tenir compte de l’ensemble d’unités qui lui correspondent 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9880" y="165240"/>
            <a:ext cx="8501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lassification ascendante hiérarchique (CAH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27000" y="1054080"/>
            <a:ext cx="6261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Problèmes de silence dans les résulta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7" name="ppt9" descr=""/>
          <p:cNvPicPr/>
          <p:nvPr/>
        </p:nvPicPr>
        <p:blipFill>
          <a:blip r:embed="rId4"/>
          <a:stretch/>
        </p:blipFill>
        <p:spPr>
          <a:xfrm>
            <a:off x="1020600" y="2765520"/>
            <a:ext cx="66866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865080" y="1862280"/>
          <a:ext cx="733428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862280"/>
                    <a:ext cx="7334280" cy="307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 flipV="1">
            <a:off x="1447920" y="1803240"/>
            <a:ext cx="3378240" cy="21600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346040" y="4521240"/>
            <a:ext cx="3480120" cy="63504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498680" y="3911400"/>
            <a:ext cx="3327480" cy="60948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95280" y="2870280"/>
            <a:ext cx="3530880" cy="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943280" y="3073320"/>
            <a:ext cx="2882880" cy="60984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32520" y="18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6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419040" y="1523880"/>
            <a:ext cx="8496360" cy="551196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474840" y="1397160"/>
            <a:ext cx="8389800" cy="5308560"/>
            <a:chOff x="474840" y="1397160"/>
            <a:chExt cx="8389800" cy="5308560"/>
          </a:xfrm>
        </p:grpSpPr>
        <p:sp>
          <p:nvSpPr>
            <p:cNvPr id="528" name=""/>
            <p:cNvSpPr/>
            <p:nvPr/>
          </p:nvSpPr>
          <p:spPr>
            <a:xfrm>
              <a:off x="474840" y="1397160"/>
              <a:ext cx="8389800" cy="530856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16040" y="2048040"/>
              <a:ext cx="286920" cy="29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03320" y="352584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03320" y="396900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760040" y="2344680"/>
              <a:ext cx="1080" cy="17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60400" y="3673440"/>
              <a:ext cx="14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73000" y="4118040"/>
              <a:ext cx="14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25800" y="2048040"/>
              <a:ext cx="286920" cy="29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13080" y="352584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13080" y="396900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169800" y="2344680"/>
              <a:ext cx="1080" cy="17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0160" y="3673440"/>
              <a:ext cx="14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70160" y="4118040"/>
              <a:ext cx="14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13080" y="3032280"/>
              <a:ext cx="286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70160" y="3186360"/>
              <a:ext cx="14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03760" y="1998720"/>
              <a:ext cx="3749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L’exploitation de ce type de résultats reste limitée 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le calcul des cooccurrenc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binaires  signale des associations du pô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avec </a:t>
              </a:r>
              <a:r>
                <a:rPr b="1" lang="fr-FR" sz="2400" spc="-1" strike="noStrike">
                  <a:solidFill>
                    <a:srgbClr val="6f89f7"/>
                  </a:solidFill>
                  <a:latin typeface="Times New Roman"/>
                </a:rPr>
                <a:t>UN</a:t>
              </a: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 cooccurrent..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46160" y="5397480"/>
              <a:ext cx="6781320" cy="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51200" y="491184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b2b2b2"/>
                  </a:solidFill>
                  <a:latin typeface="Times New Roman"/>
                </a:rPr>
                <a:t>axe syntagmatiqu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2920" y="523872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84480" y="523872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60720" y="523872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62520" y="523872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7105680" y="52815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cd882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72120" y="2014560"/>
            <a:ext cx="380880" cy="339840"/>
          </a:xfrm>
          <a:custGeom>
            <a:avLst/>
            <a:gdLst>
              <a:gd name="textAreaLeft" fmla="*/ 59400 w 380880"/>
              <a:gd name="textAreaRight" fmla="*/ 333360 w 380880"/>
              <a:gd name="textAreaTop" fmla="*/ 84960 h 339840"/>
              <a:gd name="textAreaBottom" fmla="*/ 254880 h 33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8720" y="584280"/>
            <a:ext cx="71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Attractions lexicales autour du pôle bilingue "droits"/"rights"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9120" y="0"/>
            <a:ext cx="7637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occurrences binair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244520" y="2374920"/>
            <a:ext cx="6718320" cy="4178160"/>
          </a:xfrm>
          <a:prstGeom prst="rect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720960" y="4522680"/>
            <a:ext cx="3813480" cy="1687680"/>
            <a:chOff x="3720960" y="4522680"/>
            <a:chExt cx="3813480" cy="1687680"/>
          </a:xfrm>
        </p:grpSpPr>
        <p:sp>
          <p:nvSpPr>
            <p:cNvPr id="556" name=""/>
            <p:cNvSpPr/>
            <p:nvPr/>
          </p:nvSpPr>
          <p:spPr>
            <a:xfrm>
              <a:off x="3720960" y="5842080"/>
              <a:ext cx="811440" cy="3682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0458c"/>
                  </a:solidFill>
                  <a:latin typeface="Times New Roman"/>
                </a:rPr>
                <a:t>ABF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65640" y="4522680"/>
              <a:ext cx="2368800" cy="862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666880" y="3591000"/>
            <a:ext cx="4867560" cy="2619360"/>
            <a:chOff x="2666880" y="3591000"/>
            <a:chExt cx="4867560" cy="2619360"/>
          </a:xfrm>
        </p:grpSpPr>
        <p:sp>
          <p:nvSpPr>
            <p:cNvPr id="559" name=""/>
            <p:cNvSpPr/>
            <p:nvPr/>
          </p:nvSpPr>
          <p:spPr>
            <a:xfrm>
              <a:off x="2666880" y="5842080"/>
              <a:ext cx="811440" cy="368280"/>
            </a:xfrm>
            <a:prstGeom prst="rect">
              <a:avLst/>
            </a:prstGeom>
            <a:solidFill>
              <a:srgbClr val="ecd8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0458c"/>
                  </a:solidFill>
                  <a:latin typeface="Times New Roman"/>
                </a:rPr>
                <a:t>ABEH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65640" y="3591000"/>
              <a:ext cx="2368800" cy="860400"/>
            </a:xfrm>
            <a:prstGeom prst="rect">
              <a:avLst/>
            </a:prstGeom>
            <a:solidFill>
              <a:srgbClr val="ecd8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587600" y="2657520"/>
            <a:ext cx="5946840" cy="3552840"/>
            <a:chOff x="1587600" y="2657520"/>
            <a:chExt cx="5946840" cy="3552840"/>
          </a:xfrm>
        </p:grpSpPr>
        <p:sp>
          <p:nvSpPr>
            <p:cNvPr id="562" name=""/>
            <p:cNvSpPr/>
            <p:nvPr/>
          </p:nvSpPr>
          <p:spPr>
            <a:xfrm>
              <a:off x="1587600" y="5842080"/>
              <a:ext cx="8110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0458c"/>
                  </a:solidFill>
                  <a:latin typeface="Times New Roman"/>
                </a:rPr>
                <a:t>ABEG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65640" y="2657520"/>
              <a:ext cx="2368800" cy="8604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73200" y="1066680"/>
            <a:ext cx="847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40040" indent="-1400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La méthode est fondée sur la réitération du calcul (W. Martinez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40040" indent="-140040">
              <a:lnSpc>
                <a:spcPct val="100000"/>
              </a:lnSpc>
              <a:spcBef>
                <a:spcPts val="2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140040" indent="-1400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Différents filtrages limitent le nombre des explorations</a:t>
            </a:r>
            <a:br>
              <a:rPr sz="2000"/>
            </a:b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contextuelles et réduisent le bruit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40040" indent="-14004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37280" y="2728800"/>
            <a:ext cx="1722240" cy="1650960"/>
          </a:xfrm>
          <a:prstGeom prst="rect">
            <a:avLst/>
          </a:prstGeom>
          <a:noFill/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37280" y="4594320"/>
            <a:ext cx="1722240" cy="717480"/>
          </a:xfrm>
          <a:prstGeom prst="rect">
            <a:avLst/>
          </a:prstGeom>
          <a:noFill/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08560" y="2800440"/>
            <a:ext cx="1076400" cy="2439720"/>
          </a:xfrm>
          <a:prstGeom prst="rect">
            <a:avLst/>
          </a:prstGeom>
          <a:noFill/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81640" y="2873520"/>
            <a:ext cx="430200" cy="3371760"/>
          </a:xfrm>
          <a:prstGeom prst="rect">
            <a:avLst/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52920" y="38750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26040" y="38768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6040" y="5454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6040" y="58849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00960" y="38768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00960" y="48099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175520" y="3876840"/>
            <a:ext cx="2858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75520" y="4809960"/>
            <a:ext cx="2858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40560" y="402120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13320" y="40212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88240" y="40212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88240" y="49528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61360" y="4021200"/>
            <a:ext cx="287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52920" y="480852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26040" y="48099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40560" y="49528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13320" y="495288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52920" y="54547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40560" y="55990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52920" y="58849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40560" y="60292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52920" y="30146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26040" y="3016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3016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75520" y="3016080"/>
            <a:ext cx="2858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40560" y="315900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13320" y="31590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88240" y="31590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60560" y="2970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33680" y="29718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33680" y="42642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33680" y="46944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08240" y="29718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83160" y="297180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83160" y="340344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47840" y="31161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20960" y="311616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95520" y="3116160"/>
            <a:ext cx="28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390760" y="3116160"/>
            <a:ext cx="144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0760" y="44067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65320" y="3116160"/>
            <a:ext cx="1800" cy="8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65320" y="39765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90760" y="48387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68640" y="354636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08240" y="3833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83160" y="383364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395520" y="3976560"/>
            <a:ext cx="28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38440" y="3116160"/>
            <a:ext cx="1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538440" y="3546360"/>
            <a:ext cx="14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13000" y="5454720"/>
            <a:ext cx="32842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imes New Roman"/>
              </a:rPr>
              <a:t>On sélectionne des chemins originau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2080" y="228600"/>
            <a:ext cx="6481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Réseaux de cooccurrenc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51000" y="177840"/>
            <a:ext cx="648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Réseaux de cooccurrenc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2960" y="825480"/>
            <a:ext cx="82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</a:rPr>
              <a:t>Extraits des réseaux de cooccurrences élaborés à partir des pôles "droits" et "rights"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1943280"/>
            <a:ext cx="8674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67400" indent="-167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Malgré les différences dans l ’ordre et le nombre de leurs</a:t>
            </a:r>
            <a:br>
              <a:rPr sz="2000"/>
            </a:b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  éléments, les réseaux tendent à former des ensembles équivalents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67400" indent="-16740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2280" y="3733920"/>
            <a:ext cx="8991360" cy="3124080"/>
            <a:chOff x="152280" y="3733920"/>
            <a:chExt cx="8991360" cy="3124080"/>
          </a:xfrm>
        </p:grpSpPr>
        <p:grpSp>
          <p:nvGrpSpPr>
            <p:cNvPr id="624" name=""/>
            <p:cNvGrpSpPr/>
            <p:nvPr/>
          </p:nvGrpSpPr>
          <p:grpSpPr>
            <a:xfrm>
              <a:off x="152280" y="3733920"/>
              <a:ext cx="8991360" cy="3124080"/>
              <a:chOff x="152280" y="3733920"/>
              <a:chExt cx="8991360" cy="3124080"/>
            </a:xfrm>
          </p:grpSpPr>
          <p:sp>
            <p:nvSpPr>
              <p:cNvPr id="625" name=""/>
              <p:cNvSpPr/>
              <p:nvPr/>
            </p:nvSpPr>
            <p:spPr>
              <a:xfrm>
                <a:off x="152280" y="3733920"/>
                <a:ext cx="8991360" cy="31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158400" y="3832200"/>
                <a:ext cx="8952120" cy="3025800"/>
                <a:chOff x="158400" y="3832200"/>
                <a:chExt cx="8952120" cy="30258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58400" y="3832200"/>
                  <a:ext cx="8952120" cy="1600200"/>
                  <a:chOff x="158400" y="3832200"/>
                  <a:chExt cx="8952120" cy="1600200"/>
                </a:xfrm>
              </p:grpSpPr>
              <p:pic>
                <p:nvPicPr>
                  <p:cNvPr id="628" name="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0" y="3832200"/>
                    <a:ext cx="895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9" name="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7280" y="4593960"/>
                    <a:ext cx="2386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30" name="gref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4440" y="4670280"/>
                    <a:ext cx="820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158400" y="5279760"/>
                  <a:ext cx="8951760" cy="1578240"/>
                  <a:chOff x="158400" y="5279760"/>
                  <a:chExt cx="8951760" cy="1578240"/>
                </a:xfrm>
              </p:grpSpPr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158400" y="5279760"/>
                    <a:ext cx="8951760" cy="826920"/>
                    <a:chOff x="158400" y="5279760"/>
                    <a:chExt cx="8951760" cy="826920"/>
                  </a:xfrm>
                </p:grpSpPr>
                <p:pic>
                  <p:nvPicPr>
                    <p:cNvPr id="633" name="chemR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8400" y="5279760"/>
                      <a:ext cx="283104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34" name="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89440" y="5279760"/>
                      <a:ext cx="612072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1277280" y="5965560"/>
                    <a:ext cx="3170160" cy="892440"/>
                    <a:chOff x="1277280" y="5965560"/>
                    <a:chExt cx="3170160" cy="892440"/>
                  </a:xfrm>
                </p:grpSpPr>
                <p:pic>
                  <p:nvPicPr>
                    <p:cNvPr id="636" name="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277280" y="6057720"/>
                      <a:ext cx="2424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37" name="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64080" y="5965560"/>
                      <a:ext cx="7833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638" name=""/>
            <p:cNvGrpSpPr/>
            <p:nvPr/>
          </p:nvGrpSpPr>
          <p:grpSpPr>
            <a:xfrm>
              <a:off x="7070400" y="5965920"/>
              <a:ext cx="2040120" cy="892080"/>
              <a:chOff x="7070400" y="5965920"/>
              <a:chExt cx="2040120" cy="892080"/>
            </a:xfrm>
          </p:grpSpPr>
          <p:pic>
            <p:nvPicPr>
              <p:cNvPr id="639" name="leg" descr=""/>
              <p:cNvPicPr/>
              <p:nvPr/>
            </p:nvPicPr>
            <p:blipFill>
              <a:blip r:embed="rId9"/>
              <a:stretch/>
            </p:blipFill>
            <p:spPr>
              <a:xfrm>
                <a:off x="7070400" y="6058080"/>
                <a:ext cx="204012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7070400" y="5965920"/>
                <a:ext cx="2040120" cy="89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4686480" y="4521240"/>
            <a:ext cx="3098520" cy="851040"/>
            <a:chOff x="4686480" y="4521240"/>
            <a:chExt cx="3098520" cy="851040"/>
          </a:xfrm>
        </p:grpSpPr>
        <p:sp>
          <p:nvSpPr>
            <p:cNvPr id="642" name=""/>
            <p:cNvSpPr/>
            <p:nvPr/>
          </p:nvSpPr>
          <p:spPr>
            <a:xfrm>
              <a:off x="4686480" y="4521240"/>
              <a:ext cx="3098520" cy="83448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b2b2b2"/>
                  </a:solidFill>
                  <a:latin typeface="Times New Roman"/>
                </a:rPr>
                <a:t> </a:t>
              </a:r>
              <a:r>
                <a:rPr b="0" lang="fr-FR" sz="1600" spc="-1" strike="noStrike">
                  <a:solidFill>
                    <a:srgbClr val="ff3399"/>
                  </a:solidFill>
                  <a:latin typeface="Times New Roman"/>
                </a:rPr>
                <a:t>              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fréq gen (F)    co-freq (f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affaire</a:t>
              </a:r>
              <a:r>
                <a:rPr b="0" i="1" lang="fr-FR" sz="1600" spc="-1" strike="noStrike">
                  <a:solidFill>
                    <a:srgbClr val="b2b2b2"/>
                  </a:solidFill>
                  <a:latin typeface="Times New Roman"/>
                </a:rPr>
                <a:t> 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209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    3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case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 93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    3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54600" y="4534200"/>
              <a:ext cx="0" cy="8380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33840" y="4521240"/>
              <a:ext cx="0" cy="82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86480" y="4826160"/>
              <a:ext cx="309852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47600" y="0"/>
            <a:ext cx="8996400" cy="37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6f89f7"/>
                </a:solidFill>
                <a:uFillTx/>
                <a:latin typeface="Times New Roman"/>
              </a:rPr>
              <a:t>1*** Ratio : 0.41 Phrase n° 1452</a:t>
            </a:r>
            <a:r>
              <a:rPr b="0" lang="fr-FR" sz="1600" spc="-1" strike="noStrike" u="sng">
                <a:solidFill>
                  <a:srgbClr val="6f89f7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ffair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a été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féré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à la cour par 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 européenn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roits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 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omme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(''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''), dans l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lai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 trois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mois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qu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ouvrent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es # de 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6f89f7"/>
                </a:solidFill>
                <a:uFillTx/>
                <a:latin typeface="Times New Roman"/>
              </a:rPr>
              <a:t>1*** Ratio : 0.48 Phrase n° 1464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as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wa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referred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to the court by 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european 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of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uman rights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(''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''), within the three-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nth period laid dow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by # and # of 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6f89f7"/>
                </a:solidFill>
                <a:uFillTx/>
                <a:latin typeface="Times New Roman"/>
              </a:rPr>
              <a:t>2*** Ratio : 0.30 Phrase n° 2856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ffair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a été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férée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à la cour par 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 européenn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roits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 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omme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(''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'') puis par le gouvernement de la confédération suisse  (''le gouvernement'') ,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es # et #, dans l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lai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 troi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i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qu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ouvrent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es # de 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6f89f7"/>
                </a:solidFill>
                <a:uFillTx/>
                <a:latin typeface="Times New Roman"/>
              </a:rPr>
              <a:t>2*** Ratio : 0.36 Phrase n° 2927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ase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wa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referred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to the court by 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european 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of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uman rights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(''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'') and by the government of the swiss confederation (''the government'')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# and # , within the three-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nth period laid dow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by and of 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84280" y="187200"/>
            <a:ext cx="366480" cy="828360"/>
            <a:chOff x="584280" y="187200"/>
            <a:chExt cx="366480" cy="828360"/>
          </a:xfrm>
        </p:grpSpPr>
        <p:sp>
          <p:nvSpPr>
            <p:cNvPr id="648" name=""/>
            <p:cNvSpPr/>
            <p:nvPr/>
          </p:nvSpPr>
          <p:spPr>
            <a:xfrm flipH="1">
              <a:off x="584280" y="18720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4280" y="187200"/>
              <a:ext cx="0" cy="8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84280" y="101556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584280" y="1803240"/>
            <a:ext cx="366480" cy="1041120"/>
            <a:chOff x="584280" y="1803240"/>
            <a:chExt cx="366480" cy="1041120"/>
          </a:xfrm>
        </p:grpSpPr>
        <p:sp>
          <p:nvSpPr>
            <p:cNvPr id="652" name=""/>
            <p:cNvSpPr/>
            <p:nvPr/>
          </p:nvSpPr>
          <p:spPr>
            <a:xfrm flipH="1">
              <a:off x="584280" y="180324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4280" y="1803240"/>
              <a:ext cx="0" cy="1041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584280" y="284436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35568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74720" y="1727280"/>
            <a:ext cx="77724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ous avons rassemblé une série de méthodes qui permettent de rapprocher automatiquement des équivalences de traduction dans les corpus de textes bilingu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es méthodes ne font aucune hypothèse directe sur le contenu lexical des unités à appari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lles mettent en lumière le principe de </a:t>
            </a:r>
            <a:r>
              <a:rPr b="1" i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épendance réciproque</a:t>
            </a:r>
            <a:r>
              <a:rPr b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dans l’alignement des phrases et des mots.</a:t>
            </a:r>
            <a:r>
              <a:rPr b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 parallèle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30120" y="1054080"/>
            <a:ext cx="86108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e corpus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Convention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a été constitué à partir de la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Convention de sauvegarde des Droits de l’Homme et des libertés fondamental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, d'une douzaine de protocoles, et d’une série d’arrêts rendus par la Cour européenne des Droits de l’Homme de Strasbourg en 1995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Chaque volet du corpus (français et anglais) compte approximativement 300 000 occurrence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7960" y="3730680"/>
            <a:ext cx="3886200" cy="285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Dans sa réponse , le requérant confirma qu'il était incapable de fournir une quelconque caution pour les frais à exposer en appel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Persistant à affirmer que le procès avait été une </a:t>
            </a:r>
            <a:r>
              <a:rPr b="1" i="1" lang="fr-FR" sz="1800" spc="-1" strike="noStrike">
                <a:solidFill>
                  <a:srgbClr val="b2b2b2"/>
                </a:solidFill>
                <a:latin typeface="Times New Roman"/>
              </a:rPr>
              <a:t>parodie de justice</a:t>
            </a: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, il déclina l'offr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733920"/>
            <a:ext cx="3886200" cy="283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1" i="1" lang="en-GB" sz="1800" spc="-1" strike="noStrike">
                <a:solidFill>
                  <a:srgbClr val="b2b2b2"/>
                </a:solidFill>
                <a:latin typeface="Times New Roman"/>
              </a:rPr>
              <a:t>travesty of justice</a:t>
            </a: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92640" y="3594240"/>
            <a:ext cx="876240" cy="215640"/>
          </a:xfrm>
          <a:custGeom>
            <a:avLst/>
            <a:gdLst>
              <a:gd name="textAreaLeft" fmla="*/ 153360 w 876240"/>
              <a:gd name="textAreaRight" fmla="*/ 635400 w 8762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4176720" y="6475320"/>
            <a:ext cx="876240" cy="216000"/>
          </a:xfrm>
          <a:custGeom>
            <a:avLst/>
            <a:gdLst>
              <a:gd name="textAreaLeft" fmla="*/ 153360 w 876240"/>
              <a:gd name="textAreaRight" fmla="*/ 635400 w 8762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84200" y="3238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volet frança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45120" y="3238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volet angla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9760" y="151920"/>
            <a:ext cx="881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l’alignement des phras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4102200" y="335448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6000" y="2852640"/>
            <a:ext cx="3886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16600" y="2852640"/>
            <a:ext cx="3886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16000" y="3951360"/>
            <a:ext cx="3886200" cy="2745720"/>
            <a:chOff x="216000" y="3951360"/>
            <a:chExt cx="3886200" cy="2745720"/>
          </a:xfrm>
        </p:grpSpPr>
        <p:sp>
          <p:nvSpPr>
            <p:cNvPr id="232" name=""/>
            <p:cNvSpPr/>
            <p:nvPr/>
          </p:nvSpPr>
          <p:spPr>
            <a:xfrm>
              <a:off x="216000" y="3951360"/>
              <a:ext cx="3886200" cy="1191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spcAft>
                  <a:spcPts val="1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Dans sa réponse , le requérant confirma qu'il était incapable de fournir une quelconque caution pour les frais à exposer en appel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6000" y="5780160"/>
              <a:ext cx="3886200" cy="91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Persistant à affirmer que le procès avait été une </a:t>
              </a:r>
              <a:r>
                <a:rPr b="1" i="1" lang="fr-FR" sz="1800" spc="-1" strike="noStrike">
                  <a:solidFill>
                    <a:srgbClr val="b2b2b2"/>
                  </a:solidFill>
                  <a:latin typeface="Times New Roman"/>
                </a:rPr>
                <a:t>parodie de justice</a:t>
              </a: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, il déclina l'offre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101840" y="4563720"/>
            <a:ext cx="911880" cy="1752840"/>
            <a:chOff x="4101840" y="4563720"/>
            <a:chExt cx="911880" cy="1752840"/>
          </a:xfrm>
        </p:grpSpPr>
        <p:sp>
          <p:nvSpPr>
            <p:cNvPr id="235" name=""/>
            <p:cNvSpPr/>
            <p:nvPr/>
          </p:nvSpPr>
          <p:spPr>
            <a:xfrm flipV="1">
              <a:off x="4556880" y="5347080"/>
              <a:ext cx="456840" cy="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8520" bIns="-38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101840" y="6309360"/>
              <a:ext cx="456840" cy="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8520" bIns="-38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101840" y="4563720"/>
              <a:ext cx="456840" cy="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8520" bIns="-38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9040" y="4567320"/>
              <a:ext cx="0" cy="174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016600" y="4376880"/>
            <a:ext cx="3886200" cy="2014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1" i="1" lang="en-GB" sz="1800" spc="-1" strike="noStrike">
                <a:solidFill>
                  <a:srgbClr val="b2b2b2"/>
                </a:solidFill>
                <a:latin typeface="Times New Roman"/>
              </a:rPr>
              <a:t>travesty of justice</a:t>
            </a: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9360" y="1003320"/>
            <a:ext cx="86104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 recherche dans le domaine de l’alignement a montré que le repérage automatique des correspondances est relativement simple pour les unités de texte relativement étendues (chapitres, sections, articles, paragraphes, etc.)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’utilisation d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méthodes probabilist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a permis des avancées rapides dans l’alignement des phrase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463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es avancées importantes ont été réalisées impliquant l’utilisation conjointe de plusieurs types d’approch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complex" descr=""/>
          <p:cNvPicPr/>
          <p:nvPr/>
        </p:nvPicPr>
        <p:blipFill>
          <a:blip r:embed="rId1"/>
          <a:stretch/>
        </p:blipFill>
        <p:spPr>
          <a:xfrm>
            <a:off x="162000" y="4602240"/>
            <a:ext cx="8829720" cy="2103480"/>
          </a:xfrm>
          <a:prstGeom prst="rect">
            <a:avLst/>
          </a:prstGeom>
          <a:ln w="15840">
            <a:solidFill>
              <a:srgbClr val="cfdbfd"/>
            </a:solidFill>
            <a:miter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imes New Roman"/>
              </a:rPr>
              <a:t>Les mots et les syntagmes des textes </a:t>
            </a:r>
            <a:r>
              <a:rPr b="0" lang="fr-FR" sz="2400" spc="-1" strike="noStrike">
                <a:solidFill>
                  <a:srgbClr val="6f89f7"/>
                </a:solidFill>
                <a:latin typeface="Times New Roman"/>
              </a:rPr>
              <a:t>source</a:t>
            </a:r>
            <a:r>
              <a:rPr b="0" lang="fr-FR" sz="2400" spc="-1" strike="noStrike">
                <a:solidFill>
                  <a:srgbClr val="40458c"/>
                </a:solidFill>
                <a:latin typeface="Times New Roman"/>
              </a:rPr>
              <a:t> et </a:t>
            </a:r>
            <a:r>
              <a:rPr b="0" lang="fr-FR" sz="2400" spc="-1" strike="noStrike">
                <a:solidFill>
                  <a:srgbClr val="6f89f7"/>
                </a:solidFill>
                <a:latin typeface="Times New Roman"/>
              </a:rPr>
              <a:t>cible </a:t>
            </a:r>
            <a:r>
              <a:rPr b="0" lang="fr-FR" sz="2400" spc="-1" strike="noStrike">
                <a:solidFill>
                  <a:srgbClr val="40458c"/>
                </a:solidFill>
                <a:latin typeface="Times New Roman"/>
              </a:rPr>
              <a:t>servent de base à la formation des </a:t>
            </a:r>
            <a:r>
              <a:rPr b="0" lang="fr-FR" sz="2400" spc="-1" strike="noStrike">
                <a:solidFill>
                  <a:srgbClr val="6f89f7"/>
                </a:solidFill>
                <a:latin typeface="Times New Roman"/>
              </a:rPr>
              <a:t>unités minimales d’équivalences de tradu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imes New Roman"/>
              </a:rPr>
              <a:t>La recherche automatique des équivalences minimales est complexe, car il faut tenir compte à la fois de l’architecture globale de chacun des textes et des liens de correspondances qui peuvent exister entre eux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93840" y="279360"/>
            <a:ext cx="8483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br>
              <a:rPr sz="4400"/>
            </a:b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L’alignement des mots et des syntagmes :</a:t>
            </a:r>
            <a:br>
              <a:rPr sz="2800"/>
            </a:br>
            <a:r>
              <a:rPr b="0" i="1" lang="fr-FR" sz="2800" spc="-1" strike="noStrike">
                <a:solidFill>
                  <a:srgbClr val="6f89f7"/>
                </a:solidFill>
                <a:latin typeface="Tahoma"/>
              </a:rPr>
              <a:t>	</a:t>
            </a:r>
            <a:r>
              <a:rPr b="0" i="1" lang="fr-FR" sz="28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6f89f7"/>
                </a:solidFill>
                <a:latin typeface="Tahoma"/>
              </a:rPr>
              <a:t>les problèm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alignés : utilisa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3352680"/>
            <a:ext cx="4354560" cy="32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'accusé a droit à être informé non seulement de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6f89f7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is aussi de leur qualification juridique 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graphe 7 ne modifiait ni le chef d'accusation ni le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6f89f7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aragraphes qui suivent se rapportent au droit tel qu'il se présentait à l'époque de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6f89f7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920" y="1033560"/>
            <a:ext cx="8610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On utilise des corpus parallèles alignés dans l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</a:rPr>
              <a:t>études lexicographiqu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</a:rPr>
              <a:t>terminologiqu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, études de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</a:rPr>
              <a:t>traductologie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</a:rPr>
              <a:t>recherche d ’information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, etc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3352680"/>
            <a:ext cx="4354560" cy="3276720"/>
          </a:xfrm>
          <a:prstGeom prst="rect">
            <a:avLst/>
          </a:prstGeom>
          <a:noFill/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erson charged with a criminal offence was entitled to be informed not only of the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ecd882"/>
                </a:solidFill>
                <a:uFillTx/>
                <a:latin typeface="Times New Roman"/>
              </a:rPr>
              <a:t>material facts alleged</a:t>
            </a:r>
            <a:r>
              <a:rPr b="0" i="1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gainst hi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ut also of their legal classification 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graph 7 had altered neither the charge nor the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ecd882"/>
                </a:solidFill>
                <a:uFillTx/>
                <a:latin typeface="Times New Roman"/>
              </a:rPr>
              <a:t>facts constituting the alleged offences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relates to the law as  it stood at the time of the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ecd882"/>
                </a:solidFill>
                <a:uFillTx/>
                <a:latin typeface="Times New Roman"/>
              </a:rPr>
              <a:t>events complained of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28600" y="4648320"/>
            <a:ext cx="8774280" cy="0"/>
            <a:chOff x="228600" y="4648320"/>
            <a:chExt cx="8774280" cy="0"/>
          </a:xfrm>
        </p:grpSpPr>
        <p:sp>
          <p:nvSpPr>
            <p:cNvPr id="250" name=""/>
            <p:cNvSpPr/>
            <p:nvPr/>
          </p:nvSpPr>
          <p:spPr>
            <a:xfrm>
              <a:off x="4648320" y="4648320"/>
              <a:ext cx="4354560" cy="0"/>
            </a:xfrm>
            <a:prstGeom prst="line">
              <a:avLst/>
            </a:prstGeom>
            <a:ln w="3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" y="4648320"/>
              <a:ext cx="4354560" cy="0"/>
            </a:xfrm>
            <a:prstGeom prst="line">
              <a:avLst/>
            </a:prstGeom>
            <a:ln w="3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28600" y="5562720"/>
            <a:ext cx="8774280" cy="0"/>
            <a:chOff x="228600" y="5562720"/>
            <a:chExt cx="8774280" cy="0"/>
          </a:xfrm>
        </p:grpSpPr>
        <p:sp>
          <p:nvSpPr>
            <p:cNvPr id="253" name=""/>
            <p:cNvSpPr/>
            <p:nvPr/>
          </p:nvSpPr>
          <p:spPr>
            <a:xfrm>
              <a:off x="228600" y="5562720"/>
              <a:ext cx="4354560" cy="0"/>
            </a:xfrm>
            <a:prstGeom prst="line">
              <a:avLst/>
            </a:prstGeom>
            <a:ln w="3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8320" y="5562720"/>
              <a:ext cx="4354560" cy="0"/>
            </a:xfrm>
            <a:prstGeom prst="line">
              <a:avLst/>
            </a:prstGeom>
            <a:ln w="3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28600" y="2209680"/>
            <a:ext cx="4648320" cy="1067040"/>
            <a:chOff x="228600" y="2209680"/>
            <a:chExt cx="4648320" cy="1067040"/>
          </a:xfrm>
        </p:grpSpPr>
        <p:pic>
          <p:nvPicPr>
            <p:cNvPr id="256" name="rech" descr=""/>
            <p:cNvPicPr/>
            <p:nvPr/>
          </p:nvPicPr>
          <p:blipFill>
            <a:blip r:embed="rId1"/>
            <a:stretch/>
          </p:blipFill>
          <p:spPr>
            <a:xfrm>
              <a:off x="228600" y="2209680"/>
              <a:ext cx="4648320" cy="106704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57" name=""/>
            <p:cNvSpPr/>
            <p:nvPr/>
          </p:nvSpPr>
          <p:spPr>
            <a:xfrm>
              <a:off x="380880" y="2819520"/>
              <a:ext cx="2743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04920" y="2743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its incriminé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bouton" descr=""/>
          <p:cNvPicPr/>
          <p:nvPr/>
        </p:nvPicPr>
        <p:blipFill>
          <a:blip r:embed="rId2"/>
          <a:stretch/>
        </p:blipFill>
        <p:spPr>
          <a:xfrm>
            <a:off x="3544920" y="2602080"/>
            <a:ext cx="1181160" cy="30924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5086440" y="2122560"/>
            <a:ext cx="3448080" cy="990360"/>
          </a:xfrm>
          <a:prstGeom prst="wedgeRoundRectCallout">
            <a:avLst>
              <a:gd name="adj1" fmla="val -66388"/>
              <a:gd name="adj2" fmla="val 95671"/>
              <a:gd name="adj3" fmla="val 16667"/>
            </a:avLst>
          </a:prstGeom>
          <a:solidFill>
            <a:srgbClr val="ffffff"/>
          </a:soli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2b2b2"/>
                </a:solidFill>
                <a:latin typeface="Tahoma"/>
              </a:rPr>
              <a:t>L’alignement des mots permet </a:t>
            </a:r>
            <a:br>
              <a:rPr sz="1600"/>
            </a:br>
            <a:r>
              <a:rPr b="1" lang="fr-FR" sz="1600" spc="-1" strike="noStrike">
                <a:solidFill>
                  <a:srgbClr val="b2b2b2"/>
                </a:solidFill>
                <a:latin typeface="Tahoma"/>
              </a:rPr>
              <a:t>d’élaborer des concordanc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2b2b2"/>
                </a:solidFill>
                <a:latin typeface="Tahoma"/>
              </a:rPr>
              <a:t>bilingues</a:t>
            </a:r>
            <a:r>
              <a:rPr b="1" lang="fr-FR" sz="1900" spc="-1" strike="noStrike">
                <a:solidFill>
                  <a:srgbClr val="b2b2b2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0280" y="4648320"/>
            <a:ext cx="8774280" cy="0"/>
            <a:chOff x="260280" y="4648320"/>
            <a:chExt cx="8774280" cy="0"/>
          </a:xfrm>
        </p:grpSpPr>
        <p:sp>
          <p:nvSpPr>
            <p:cNvPr id="262" name=""/>
            <p:cNvSpPr/>
            <p:nvPr/>
          </p:nvSpPr>
          <p:spPr>
            <a:xfrm>
              <a:off x="4680000" y="4648320"/>
              <a:ext cx="4354560" cy="0"/>
            </a:xfrm>
            <a:prstGeom prst="line">
              <a:avLst/>
            </a:prstGeom>
            <a:ln w="324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280" y="4648320"/>
              <a:ext cx="4354560" cy="0"/>
            </a:xfrm>
            <a:prstGeom prst="line">
              <a:avLst/>
            </a:prstGeom>
            <a:ln w="324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60280" y="5562720"/>
            <a:ext cx="8774280" cy="0"/>
            <a:chOff x="260280" y="5562720"/>
            <a:chExt cx="8774280" cy="0"/>
          </a:xfrm>
        </p:grpSpPr>
        <p:sp>
          <p:nvSpPr>
            <p:cNvPr id="265" name=""/>
            <p:cNvSpPr/>
            <p:nvPr/>
          </p:nvSpPr>
          <p:spPr>
            <a:xfrm>
              <a:off x="4680000" y="5562720"/>
              <a:ext cx="4354560" cy="0"/>
            </a:xfrm>
            <a:prstGeom prst="line">
              <a:avLst/>
            </a:prstGeom>
            <a:ln w="324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0280" y="5562720"/>
              <a:ext cx="4354560" cy="0"/>
            </a:xfrm>
            <a:prstGeom prst="line">
              <a:avLst/>
            </a:prstGeom>
            <a:ln w="324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8600" y="81000"/>
            <a:ext cx="8789760" cy="4572000"/>
            <a:chOff x="228600" y="81000"/>
            <a:chExt cx="8789760" cy="4572000"/>
          </a:xfrm>
        </p:grpSpPr>
        <p:sp>
          <p:nvSpPr>
            <p:cNvPr id="268" name=""/>
            <p:cNvSpPr/>
            <p:nvPr/>
          </p:nvSpPr>
          <p:spPr>
            <a:xfrm>
              <a:off x="231840" y="81000"/>
              <a:ext cx="8777160" cy="4572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9" name="adress" descr=""/>
            <p:cNvPicPr/>
            <p:nvPr/>
          </p:nvPicPr>
          <p:blipFill>
            <a:blip r:embed="rId3"/>
            <a:stretch/>
          </p:blipFill>
          <p:spPr>
            <a:xfrm>
              <a:off x="228600" y="108000"/>
              <a:ext cx="878976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206720" y="560520"/>
              <a:ext cx="6994800" cy="3833640"/>
              <a:chOff x="1206720" y="560520"/>
              <a:chExt cx="6994800" cy="3833640"/>
            </a:xfrm>
          </p:grpSpPr>
          <p:pic>
            <p:nvPicPr>
              <p:cNvPr id="271" name="transl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720" y="560520"/>
                <a:ext cx="6994800" cy="38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a_vista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5400" y="3456000"/>
                <a:ext cx="2174400" cy="70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3" name="phrase" descr=""/>
            <p:cNvPicPr/>
            <p:nvPr/>
          </p:nvPicPr>
          <p:blipFill>
            <a:blip r:embed="rId6"/>
            <a:stretch/>
          </p:blipFill>
          <p:spPr>
            <a:xfrm>
              <a:off x="1436040" y="1816200"/>
              <a:ext cx="3511440" cy="6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4114800" y="871560"/>
            <a:ext cx="129528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871560"/>
            <a:ext cx="152424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1880" y="3301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!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41200" y="1955880"/>
            <a:ext cx="1168560" cy="2857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Pour en savoir plus…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3600" y="1612800"/>
            <a:ext cx="79628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0800" indent="-3708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omers H.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(2001). </a:t>
            </a:r>
            <a:r>
              <a:rPr b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"Bilingual Corpora and Language Engineering."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n </a:t>
            </a:r>
            <a:r>
              <a:rPr b="0" i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ceedings of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glo-Indian workshop ‘Language Engineering for South-Asian languages’(LESAL)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 Mumbai, April 2001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0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f89f7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"/>
              </a:rPr>
              <a:t>www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/>
              </a:rPr>
              <a:t>emille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5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6"/>
              </a:rPr>
              <a:t>lancs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8"/>
              </a:rPr>
              <a:t>ac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0"/>
              </a:rPr>
              <a:t>uk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1"/>
              </a:rPr>
              <a:t>/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2"/>
              </a:rPr>
              <a:t>lesal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4"/>
              </a:rPr>
              <a:t>ht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800" indent="-3708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58c"/>
                </a:solidFill>
                <a:latin typeface="Times New Roman"/>
              </a:rPr>
              <a:t>Véronis J.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(Ed.) (2000). </a:t>
            </a:r>
            <a:r>
              <a:rPr b="0" i="1" lang="en-GB" sz="2000" spc="-1" strike="noStrike">
                <a:solidFill>
                  <a:srgbClr val="40458c"/>
                </a:solidFill>
                <a:latin typeface="Times New Roman"/>
              </a:rPr>
              <a:t>Parallel Text Processing: Alignment and Use of Translation Corpora.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Kluwer Academic Publishers, Dordrech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0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0800" indent="-3708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58c"/>
                </a:solidFill>
                <a:latin typeface="Times New Roman"/>
              </a:rPr>
              <a:t>Véronis J. 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(2000). "Alignement de corpus multilingues." In Pierrel J.-M. (Ed.), </a:t>
            </a:r>
            <a:r>
              <a:rPr b="0" i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génierie des langue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Paris : Editions Hermès, pp. 151-171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0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f89f7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Arial"/>
              </a:rPr>
              <a:t>www.up.univ-mrs.fr/~veronis/pdf/2000hermes6.pd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680" y="27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Lexicométri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364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’approche lexicométrique apporte un éclairage précieux sur des régularités dans la structuration de </a:t>
            </a:r>
            <a:r>
              <a:rPr b="0" lang="fr-FR" sz="2400" spc="-1" strike="noStrike">
                <a:solidFill>
                  <a:srgbClr val="6f89f7"/>
                </a:solidFill>
                <a:latin typeface="Tahoma"/>
                <a:ea typeface="Times New Roman"/>
              </a:rPr>
              <a:t>discours parallèles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ette approche peut être utilisée pour l’</a:t>
            </a:r>
            <a:r>
              <a:rPr b="0" lang="fr-FR" sz="2400" spc="-1" strike="noStrike">
                <a:solidFill>
                  <a:srgbClr val="6f89f7"/>
                </a:solidFill>
                <a:latin typeface="Tahoma"/>
                <a:ea typeface="Times New Roman"/>
              </a:rPr>
              <a:t>appariement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automatique des </a:t>
            </a:r>
            <a:r>
              <a:rPr b="0" lang="fr-FR" sz="2400" spc="-1" strike="noStrike">
                <a:solidFill>
                  <a:srgbClr val="6f89f7"/>
                </a:solidFill>
                <a:latin typeface="Tahoma"/>
                <a:ea typeface="Times New Roman"/>
              </a:rPr>
              <a:t>vocabulaires 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t des </a:t>
            </a:r>
            <a:r>
              <a:rPr b="0" lang="fr-FR" sz="2400" spc="-1" strike="noStrike">
                <a:solidFill>
                  <a:srgbClr val="6f89f7"/>
                </a:solidFill>
                <a:latin typeface="Tahoma"/>
                <a:ea typeface="Times New Roman"/>
              </a:rPr>
              <a:t>fragments de texte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907920" y="3260880"/>
            <a:ext cx="7391160" cy="2361960"/>
            <a:chOff x="907920" y="3260880"/>
            <a:chExt cx="7391160" cy="2361960"/>
          </a:xfrm>
        </p:grpSpPr>
        <p:grpSp>
          <p:nvGrpSpPr>
            <p:cNvPr id="283" name=""/>
            <p:cNvGrpSpPr/>
            <p:nvPr/>
          </p:nvGrpSpPr>
          <p:grpSpPr>
            <a:xfrm>
              <a:off x="914400" y="3264840"/>
              <a:ext cx="7376760" cy="2352960"/>
              <a:chOff x="914400" y="3264840"/>
              <a:chExt cx="7376760" cy="235296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914400" y="3264840"/>
                <a:ext cx="1239840" cy="691920"/>
                <a:chOff x="914400" y="3264840"/>
                <a:chExt cx="1239840" cy="6919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978480" y="3264840"/>
                  <a:ext cx="111132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800"/>
                  </a:b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914400" y="3264840"/>
                  <a:ext cx="12398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154600" y="3264840"/>
                <a:ext cx="1567800" cy="691920"/>
                <a:chOff x="2154600" y="3264840"/>
                <a:chExt cx="1567800" cy="6919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219400" y="3264840"/>
                  <a:ext cx="143856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occurrences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54600" y="3264840"/>
                  <a:ext cx="156780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723120" y="3264840"/>
                <a:ext cx="1304640" cy="691920"/>
                <a:chOff x="3723120" y="3264840"/>
                <a:chExt cx="1304640" cy="6919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787920" y="3264840"/>
                  <a:ext cx="11750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formes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723120" y="3264840"/>
                  <a:ext cx="13046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028480" y="3264840"/>
                <a:ext cx="1260720" cy="691920"/>
                <a:chOff x="5028480" y="3264840"/>
                <a:chExt cx="1260720" cy="6919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092560" y="3264840"/>
                  <a:ext cx="113220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hapax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028480" y="3264840"/>
                  <a:ext cx="126072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289560" y="3264840"/>
                <a:ext cx="2001240" cy="691920"/>
                <a:chOff x="6289560" y="3264840"/>
                <a:chExt cx="2001240" cy="6919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354360" y="3264840"/>
                  <a:ext cx="18716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Freq max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289560" y="3264840"/>
                  <a:ext cx="20012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914400" y="3956760"/>
                <a:ext cx="1239840" cy="553320"/>
                <a:chOff x="914400" y="3956760"/>
                <a:chExt cx="1239840" cy="553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78480" y="3956760"/>
                  <a:ext cx="111132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6f89f7"/>
                      </a:solidFill>
                      <a:latin typeface="Times New Roman"/>
                      <a:ea typeface="Times New Roman"/>
                    </a:rPr>
                    <a:t>Français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914400" y="3956760"/>
                  <a:ext cx="12398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154600" y="3956760"/>
                <a:ext cx="1567800" cy="553320"/>
                <a:chOff x="2154600" y="3956760"/>
                <a:chExt cx="1567800" cy="553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219400" y="3956760"/>
                  <a:ext cx="143856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296 396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54600" y="3956760"/>
                  <a:ext cx="15678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3723120" y="3956760"/>
                <a:ext cx="1304640" cy="553320"/>
                <a:chOff x="3723120" y="3956760"/>
                <a:chExt cx="1304640" cy="5533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787920" y="3956760"/>
                  <a:ext cx="11750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2 913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23120" y="3956760"/>
                  <a:ext cx="13046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028480" y="3956760"/>
                <a:ext cx="1260720" cy="553320"/>
                <a:chOff x="5028480" y="3956760"/>
                <a:chExt cx="1260720" cy="553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092560" y="3956760"/>
                  <a:ext cx="11322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4 959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028480" y="3956760"/>
                  <a:ext cx="126072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289560" y="3956760"/>
                <a:ext cx="912600" cy="553320"/>
                <a:chOff x="6289560" y="3956760"/>
                <a:chExt cx="912600" cy="553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354360" y="3956760"/>
                  <a:ext cx="78336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289560" y="3956760"/>
                  <a:ext cx="9126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7202880" y="3956760"/>
                <a:ext cx="1088280" cy="553320"/>
                <a:chOff x="7202880" y="3956760"/>
                <a:chExt cx="1088280" cy="553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267680" y="3956760"/>
                  <a:ext cx="95868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7 572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202880" y="3956760"/>
                  <a:ext cx="108828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914400" y="4510440"/>
                <a:ext cx="1239840" cy="553320"/>
                <a:chOff x="914400" y="4510440"/>
                <a:chExt cx="1239840" cy="553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978480" y="4510440"/>
                  <a:ext cx="111132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ecd882"/>
                      </a:solidFill>
                      <a:latin typeface="Times New Roman"/>
                      <a:ea typeface="Times New Roman"/>
                    </a:rPr>
                    <a:t>Anglais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914400" y="4510440"/>
                  <a:ext cx="12398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154600" y="4510440"/>
                <a:ext cx="1567800" cy="553320"/>
                <a:chOff x="2154600" y="4510440"/>
                <a:chExt cx="1567800" cy="553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219400" y="4510440"/>
                  <a:ext cx="143856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284 958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154600" y="4510440"/>
                  <a:ext cx="15678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723120" y="4510440"/>
                <a:ext cx="1304640" cy="553320"/>
                <a:chOff x="3723120" y="4510440"/>
                <a:chExt cx="1304640" cy="553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787920" y="4510440"/>
                  <a:ext cx="11750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9 530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723120" y="4510440"/>
                  <a:ext cx="13046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028480" y="4510440"/>
                <a:ext cx="1260720" cy="553320"/>
                <a:chOff x="5028480" y="4510440"/>
                <a:chExt cx="1260720" cy="553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092560" y="4510440"/>
                  <a:ext cx="11322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3 407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028480" y="4510440"/>
                  <a:ext cx="126072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289560" y="4510440"/>
                <a:ext cx="912600" cy="553320"/>
                <a:chOff x="6289560" y="4510440"/>
                <a:chExt cx="912600" cy="5533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354360" y="4510440"/>
                  <a:ext cx="78336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he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89560" y="4510440"/>
                  <a:ext cx="9126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202880" y="4510440"/>
                <a:ext cx="1088280" cy="553320"/>
                <a:chOff x="7202880" y="4510440"/>
                <a:chExt cx="1088280" cy="5533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267680" y="4510440"/>
                  <a:ext cx="95868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29 622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02880" y="4510440"/>
                  <a:ext cx="108828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914400" y="5064120"/>
                <a:ext cx="6288120" cy="553680"/>
                <a:chOff x="914400" y="5064120"/>
                <a:chExt cx="6288120" cy="553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978480" y="5064120"/>
                  <a:ext cx="6159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914400" y="5064120"/>
                  <a:ext cx="62881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202880" y="5064120"/>
                <a:ext cx="1088280" cy="553680"/>
                <a:chOff x="7202880" y="5064120"/>
                <a:chExt cx="1088280" cy="5536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267680" y="506412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202880" y="506412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907920" y="3260880"/>
              <a:ext cx="739116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939960" y="166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Principales caractéristiques lexicométriq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8720" y="41904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440" y="257796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ste de caractères-délimiteurs :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,:;!?/_\"'( )[ ]{}§$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3:12:44Z</dcterms:created>
  <dc:creator>Poirot Maria</dc:creator>
  <dc:description/>
  <dc:language>en-US</dc:language>
  <cp:lastModifiedBy>Poirot Maria</cp:lastModifiedBy>
  <dcterms:modified xsi:type="dcterms:W3CDTF">2003-05-11T07:13:35Z</dcterms:modified>
  <cp:revision>139</cp:revision>
  <dc:subject/>
  <dc:title>L'approche quantitative de l’alignement des corpus parallèles </dc:title>
</cp:coreProperties>
</file>