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1.png" ContentType="image/png"/>
  <Override PartName="/ppt/media/image39.png" ContentType="image/png"/>
  <Override PartName="/ppt/media/image45.png" ContentType="image/png"/>
  <Override PartName="/ppt/media/image46.png" ContentType="image/png"/>
  <Override PartName="/ppt/media/image53.gif" ContentType="image/gif"/>
  <Override PartName="/ppt/media/image5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40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008-FDFE-4F7E-80D4-52F309B5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997-3D03-4D49-B523-89B75D2F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A73-B4A7-4D8B-9966-7A12B6BC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67D-5022-4687-8AEC-09EB77F7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0206-E674-4A59-96AE-06327973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6E00-F07A-454F-889C-53A396B3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60CF-EEB5-499C-A51A-9F8A47FE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6487-4C9E-4BA0-8094-AA32CE47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5A99-9F87-4B19-8111-139AEE24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E978-EF6F-4615-9968-623DBB8E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997E-E482-4B58-9CF9-75116C13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40F7-CB83-444F-BCA8-7CAAE262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F9AA-AA6C-4708-A9C3-E5D76CF1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9176-55D7-43F6-918A-6238B586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880B-8709-4026-B6FD-1A0077F2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C979-D364-4A62-AF8E-616DF297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BC0E-084E-487A-BCAF-37207356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C11-FD8E-4849-8DBA-60710A4B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FFD6-F659-46A2-BDA0-87DA0499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05A-2221-4CFB-851B-8D28D725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0DC-3FAE-45AD-9D76-CD324419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4E3-A924-43E0-90FE-C85EFC92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BA0-43BD-4FB8-BC51-F5FA63BB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EE1-3A0F-4282-891A-DFF6FFE2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4496-C348-40E0-9D20-07057773CCB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30E7-297E-432C-8259-225DC870FDC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16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1.png"/><Relationship Id="rId23" Type="http://schemas.openxmlformats.org/officeDocument/2006/relationships/image" Target="../media/image20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17.png"/><Relationship Id="rId27" Type="http://schemas.openxmlformats.org/officeDocument/2006/relationships/image" Target="../media/image16.png"/><Relationship Id="rId28" Type="http://schemas.openxmlformats.org/officeDocument/2006/relationships/image" Target="../media/image2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0.png"/><Relationship Id="rId37" Type="http://schemas.openxmlformats.org/officeDocument/2006/relationships/image" Target="../media/image16.png"/><Relationship Id="rId38" Type="http://schemas.openxmlformats.org/officeDocument/2006/relationships/image" Target="../media/image41.png"/><Relationship Id="rId39" Type="http://schemas.openxmlformats.org/officeDocument/2006/relationships/image" Target="../media/image42.png"/><Relationship Id="rId40" Type="http://schemas.openxmlformats.org/officeDocument/2006/relationships/image" Target="../media/image43.png"/><Relationship Id="rId41" Type="http://schemas.openxmlformats.org/officeDocument/2006/relationships/image" Target="../media/image44.png"/><Relationship Id="rId42" Type="http://schemas.openxmlformats.org/officeDocument/2006/relationships/image" Target="../media/image44.png"/><Relationship Id="rId43" Type="http://schemas.openxmlformats.org/officeDocument/2006/relationships/image" Target="../media/image45.png"/><Relationship Id="rId44" Type="http://schemas.openxmlformats.org/officeDocument/2006/relationships/image" Target="../media/image45.png"/><Relationship Id="rId45" Type="http://schemas.openxmlformats.org/officeDocument/2006/relationships/image" Target="../media/image46.png"/><Relationship Id="rId46" Type="http://schemas.openxmlformats.org/officeDocument/2006/relationships/image" Target="../media/image47.png"/><Relationship Id="rId4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16.png"/><Relationship Id="rId20" Type="http://schemas.openxmlformats.org/officeDocument/2006/relationships/image" Target="../media/image23.png"/><Relationship Id="rId21" Type="http://schemas.openxmlformats.org/officeDocument/2006/relationships/image" Target="../media/image22.png"/><Relationship Id="rId22" Type="http://schemas.openxmlformats.org/officeDocument/2006/relationships/image" Target="../media/image24.png"/><Relationship Id="rId23" Type="http://schemas.openxmlformats.org/officeDocument/2006/relationships/image" Target="../media/image21.png"/><Relationship Id="rId24" Type="http://schemas.openxmlformats.org/officeDocument/2006/relationships/image" Target="../media/image20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17.png"/><Relationship Id="rId28" Type="http://schemas.openxmlformats.org/officeDocument/2006/relationships/image" Target="../media/image16.png"/><Relationship Id="rId29" Type="http://schemas.openxmlformats.org/officeDocument/2006/relationships/image" Target="../media/image48.png"/><Relationship Id="rId30" Type="http://schemas.openxmlformats.org/officeDocument/2006/relationships/image" Target="../media/image49.png"/><Relationship Id="rId31" Type="http://schemas.openxmlformats.org/officeDocument/2006/relationships/image" Target="../media/image50.png"/><Relationship Id="rId32" Type="http://schemas.openxmlformats.org/officeDocument/2006/relationships/image" Target="../media/image51.png"/><Relationship Id="rId33" Type="http://schemas.openxmlformats.org/officeDocument/2006/relationships/image" Target="../media/image23.png"/><Relationship Id="rId34" Type="http://schemas.openxmlformats.org/officeDocument/2006/relationships/image" Target="../media/image16.png"/><Relationship Id="rId35" Type="http://schemas.openxmlformats.org/officeDocument/2006/relationships/image" Target="../media/image40.png"/><Relationship Id="rId36" Type="http://schemas.openxmlformats.org/officeDocument/2006/relationships/image" Target="../media/image38.png"/><Relationship Id="rId37" Type="http://schemas.openxmlformats.org/officeDocument/2006/relationships/image" Target="../media/image34.png"/><Relationship Id="rId38" Type="http://schemas.openxmlformats.org/officeDocument/2006/relationships/image" Target="../media/image39.png"/><Relationship Id="rId39" Type="http://schemas.openxmlformats.org/officeDocument/2006/relationships/image" Target="../media/image52.png"/><Relationship Id="rId40" Type="http://schemas.openxmlformats.org/officeDocument/2006/relationships/image" Target="../media/image44.png"/><Relationship Id="rId41" Type="http://schemas.openxmlformats.org/officeDocument/2006/relationships/image" Target="../media/image53.gif"/><Relationship Id="rId4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4.png"/><Relationship Id="rId5" Type="http://schemas.openxmlformats.org/officeDocument/2006/relationships/image" Target="../media/image28.png"/><Relationship Id="rId6" Type="http://schemas.openxmlformats.org/officeDocument/2006/relationships/image" Target="../media/image30.png"/><Relationship Id="rId7" Type="http://schemas.openxmlformats.org/officeDocument/2006/relationships/image" Target="../media/image32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0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45.png"/><Relationship Id="rId15" Type="http://schemas.openxmlformats.org/officeDocument/2006/relationships/image" Target="../media/image45.png"/><Relationship Id="rId16" Type="http://schemas.openxmlformats.org/officeDocument/2006/relationships/image" Target="../media/image29.png"/><Relationship Id="rId17" Type="http://schemas.openxmlformats.org/officeDocument/2006/relationships/image" Target="../media/image21.png"/><Relationship Id="rId18" Type="http://schemas.openxmlformats.org/officeDocument/2006/relationships/image" Target="../media/image54.png"/><Relationship Id="rId19" Type="http://schemas.openxmlformats.org/officeDocument/2006/relationships/image" Target="../media/image55.png"/><Relationship Id="rId20" Type="http://schemas.openxmlformats.org/officeDocument/2006/relationships/image" Target="../media/image40.png"/><Relationship Id="rId21" Type="http://schemas.openxmlformats.org/officeDocument/2006/relationships/image" Target="../media/image56.png"/><Relationship Id="rId22" Type="http://schemas.openxmlformats.org/officeDocument/2006/relationships/image" Target="../media/image41.png"/><Relationship Id="rId2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8960" y="12571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Approches quantitatives de l’extraction de ressources traductionnelles à partir de corpus parallèles</a:t>
            </a:r>
            <a:r>
              <a:rPr b="1" lang="fr-FR" sz="4400" spc="-1" strike="noStrike">
                <a:solidFill>
                  <a:srgbClr val="ccccff"/>
                </a:solidFill>
                <a:latin typeface="Times New Roman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90280" y="3822840"/>
            <a:ext cx="6451560" cy="23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Maria ZIMINA-POIR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EA 2290 SYLED</a:t>
            </a:r>
            <a:r>
              <a:rPr b="0" i="1" lang="fr-CH" sz="2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, </a:t>
            </a:r>
            <a:r>
              <a:rPr b="1" i="1" lang="fr-CH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Université de la Sorbonne nouvelle </a:t>
            </a:r>
            <a:r>
              <a:rPr b="1" i="1" lang="fr-CH" sz="2400" spc="-1" strike="noStrike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1" i="1" lang="fr-CH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Paris 3 </a:t>
            </a:r>
            <a:r>
              <a:rPr b="1" i="1" lang="fr-CH" sz="2400" spc="-1" strike="noStrike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0" i="1" lang="fr-CH" sz="2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zimina@msh-paris.fr</a:t>
            </a:r>
            <a:r>
              <a:rPr b="0" i="1" lang="fr-FR" sz="30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avi.univ-paris3.fr/ilpga/ed/student/stmz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yline" descr=""/>
          <p:cNvPicPr/>
          <p:nvPr/>
        </p:nvPicPr>
        <p:blipFill>
          <a:blip r:embed="rId1"/>
          <a:stretch/>
        </p:blipFill>
        <p:spPr>
          <a:xfrm flipH="1" rot="10800000">
            <a:off x="1182600" y="3311280"/>
            <a:ext cx="768528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633680" y="228600"/>
            <a:ext cx="590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Textométrie multiling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74600" y="1308240"/>
            <a:ext cx="767556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 méthodes quantitatives peuvent être utilisées avec succès pour l’alignement et l’extraction de ressources traductionnelles des corpus parallè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es méthodes reposent entièrement sur des ressources construites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utomatiquement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à base de corpus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 Elles utilisent les seules fréquences et les distributions des unités textuelles prises comme points de repère pour l’identification et l’extraction des correspondanc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ur en savoir plus, on consultera le site du groupe </a:t>
            </a:r>
            <a:r>
              <a:rPr b="1" lang="fr-F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GADT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ffff"/>
                </a:solidFill>
                <a:latin typeface="Arial Narrow"/>
                <a:ea typeface="Times New Roman"/>
              </a:rPr>
              <a:t>http://www.cavi.univ-paris3.fr/lexicometrica/jadt/textometrie-multilingue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 :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 quantitativ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066680" y="3429000"/>
            <a:ext cx="7391160" cy="2362320"/>
            <a:chOff x="1066680" y="3429000"/>
            <a:chExt cx="7391160" cy="2362320"/>
          </a:xfrm>
        </p:grpSpPr>
        <p:grpSp>
          <p:nvGrpSpPr>
            <p:cNvPr id="254" name=""/>
            <p:cNvGrpSpPr/>
            <p:nvPr/>
          </p:nvGrpSpPr>
          <p:grpSpPr>
            <a:xfrm>
              <a:off x="1073160" y="3432960"/>
              <a:ext cx="7376760" cy="2353320"/>
              <a:chOff x="1073160" y="3432960"/>
              <a:chExt cx="7376760" cy="23533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1073160" y="3432960"/>
                <a:ext cx="1239840" cy="692280"/>
                <a:chOff x="1073160" y="3432960"/>
                <a:chExt cx="1239840" cy="6922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37240" y="3432960"/>
                  <a:ext cx="111132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800"/>
                  </a:b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073160" y="3432960"/>
                  <a:ext cx="12398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313360" y="3432960"/>
                <a:ext cx="1567800" cy="692280"/>
                <a:chOff x="2313360" y="3432960"/>
                <a:chExt cx="1567800" cy="6922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378160" y="3432960"/>
                  <a:ext cx="143856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ccurrenc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313360" y="3432960"/>
                  <a:ext cx="156780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3881880" y="3432960"/>
                <a:ext cx="1304640" cy="692280"/>
                <a:chOff x="3881880" y="3432960"/>
                <a:chExt cx="1304640" cy="6922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946680" y="3432960"/>
                  <a:ext cx="11750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orm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881880" y="3432960"/>
                  <a:ext cx="13046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187240" y="3432960"/>
                <a:ext cx="1260720" cy="692280"/>
                <a:chOff x="5187240" y="3432960"/>
                <a:chExt cx="1260720" cy="6922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251320" y="3432960"/>
                  <a:ext cx="113220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hapax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187240" y="3432960"/>
                  <a:ext cx="126072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448320" y="3432960"/>
                <a:ext cx="2001240" cy="692280"/>
                <a:chOff x="6448320" y="3432960"/>
                <a:chExt cx="2001240" cy="692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513120" y="3432960"/>
                  <a:ext cx="18716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req max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448320" y="3432960"/>
                  <a:ext cx="20012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073160" y="4125240"/>
                <a:ext cx="1239840" cy="553680"/>
                <a:chOff x="1073160" y="4125240"/>
                <a:chExt cx="1239840" cy="5536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137240" y="4125240"/>
                  <a:ext cx="11113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6666ff"/>
                      </a:solidFill>
                      <a:latin typeface="Times New Roman"/>
                      <a:ea typeface="Times New Roman"/>
                    </a:rPr>
                    <a:t>Françai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073160" y="4125240"/>
                  <a:ext cx="123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313360" y="4125240"/>
                <a:ext cx="1567800" cy="553680"/>
                <a:chOff x="2313360" y="4125240"/>
                <a:chExt cx="1567800" cy="5536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378160" y="4125240"/>
                  <a:ext cx="14385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96 396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313360" y="4125240"/>
                  <a:ext cx="15678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3881880" y="4125240"/>
                <a:ext cx="1304640" cy="553680"/>
                <a:chOff x="3881880" y="4125240"/>
                <a:chExt cx="1304640" cy="5536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3946680" y="4125240"/>
                  <a:ext cx="11750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 91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881880" y="4125240"/>
                  <a:ext cx="13046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187240" y="4125240"/>
                <a:ext cx="1260720" cy="553680"/>
                <a:chOff x="5187240" y="4125240"/>
                <a:chExt cx="1260720" cy="5536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251320" y="4125240"/>
                  <a:ext cx="11322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 959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187240" y="4125240"/>
                  <a:ext cx="12607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448320" y="4125240"/>
                <a:ext cx="912600" cy="553680"/>
                <a:chOff x="6448320" y="4125240"/>
                <a:chExt cx="912600" cy="5536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513120" y="4125240"/>
                  <a:ext cx="7833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448320" y="4125240"/>
                  <a:ext cx="912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7361640" y="4125240"/>
                <a:ext cx="1088280" cy="553680"/>
                <a:chOff x="7361640" y="4125240"/>
                <a:chExt cx="1088280" cy="5536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426440" y="412524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7 57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361640" y="412524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1073160" y="4678920"/>
                <a:ext cx="1239840" cy="553680"/>
                <a:chOff x="1073160" y="4678920"/>
                <a:chExt cx="1239840" cy="5536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137240" y="4678920"/>
                  <a:ext cx="11113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Anglai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073160" y="4678920"/>
                  <a:ext cx="123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2313360" y="4678920"/>
                <a:ext cx="1567800" cy="553680"/>
                <a:chOff x="2313360" y="4678920"/>
                <a:chExt cx="1567800" cy="5536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378160" y="4678920"/>
                  <a:ext cx="14385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84 958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313360" y="4678920"/>
                  <a:ext cx="15678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3881880" y="4678920"/>
                <a:ext cx="1304640" cy="553680"/>
                <a:chOff x="3881880" y="4678920"/>
                <a:chExt cx="1304640" cy="5536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946680" y="4678920"/>
                  <a:ext cx="11750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 53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881880" y="4678920"/>
                  <a:ext cx="13046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87240" y="4678920"/>
                <a:ext cx="1260720" cy="553680"/>
                <a:chOff x="5187240" y="4678920"/>
                <a:chExt cx="1260720" cy="5536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251320" y="4678920"/>
                  <a:ext cx="11322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 407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87240" y="4678920"/>
                  <a:ext cx="12607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448320" y="4678920"/>
                <a:ext cx="912600" cy="553680"/>
                <a:chOff x="6448320" y="4678920"/>
                <a:chExt cx="912600" cy="5536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513120" y="4678920"/>
                  <a:ext cx="7833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h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448320" y="4678920"/>
                  <a:ext cx="912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7361640" y="4678920"/>
                <a:ext cx="1088280" cy="553680"/>
                <a:chOff x="7361640" y="4678920"/>
                <a:chExt cx="1088280" cy="5536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426440" y="467892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9 62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361640" y="467892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1073160" y="5232600"/>
                <a:ext cx="6288120" cy="553680"/>
                <a:chOff x="1073160" y="5232600"/>
                <a:chExt cx="6288120" cy="5536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137240" y="5232600"/>
                  <a:ext cx="6159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073160" y="5232600"/>
                  <a:ext cx="62881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7361640" y="5232600"/>
                <a:ext cx="1088280" cy="553680"/>
                <a:chOff x="7361640" y="5232600"/>
                <a:chExt cx="1088280" cy="5536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7426440" y="523260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361640" y="523260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2" name=""/>
            <p:cNvSpPr/>
            <p:nvPr/>
          </p:nvSpPr>
          <p:spPr>
            <a:xfrm>
              <a:off x="1066680" y="3429000"/>
              <a:ext cx="73911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371600" y="16765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Principales caractéristiques lexicomét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25909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 de caractères-délimiteurs 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,:;!?/_\"'( )[ ]{}§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515960" y="5641920"/>
            <a:ext cx="1447920" cy="301680"/>
          </a:xfrm>
          <a:prstGeom prst="line">
            <a:avLst/>
          </a:prstGeom>
          <a:ln w="936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963520" y="5641920"/>
            <a:ext cx="2514600" cy="301680"/>
          </a:xfrm>
          <a:prstGeom prst="line">
            <a:avLst/>
          </a:prstGeom>
          <a:ln w="936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92760" y="5943600"/>
            <a:ext cx="366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ffff"/>
                </a:solidFill>
                <a:latin typeface="Times New Roman"/>
              </a:rPr>
              <a:t>correspondances quasi-univo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90720" y="1638360"/>
            <a:ext cx="585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Dictionnaires des formes graphiques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2286000"/>
            <a:ext cx="8451720" cy="33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rançais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rang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réquence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ffff"/>
                </a:solidFill>
                <a:latin typeface="Times New Roman"/>
              </a:rPr>
              <a:t>anglais</a:t>
            </a:r>
            <a:r>
              <a:rPr b="0" lang="fr-B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rang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réqu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exical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générale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exical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génér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32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1 223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onven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26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1 228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commission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39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   889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ommiss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36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832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paragraphe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44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   740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paragraph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38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802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gouvernement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45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   721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44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740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décision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59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   508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decis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55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563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66ff"/>
                </a:solidFill>
                <a:latin typeface="Times New Roman"/>
              </a:rPr>
              <a:t>mais</a:t>
            </a:r>
            <a:r>
              <a:rPr b="0" lang="en-GB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6666ff"/>
                </a:solidFill>
                <a:latin typeface="Times New Roman"/>
              </a:rPr>
              <a:t>80</a:t>
            </a:r>
            <a:r>
              <a:rPr b="0" lang="en-GB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6666ff"/>
                </a:solidFill>
                <a:latin typeface="Times New Roman"/>
              </a:rPr>
              <a:t>   380</a:t>
            </a:r>
            <a:r>
              <a:rPr b="0" lang="en-GB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but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79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392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article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82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   362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article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87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351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citation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85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   352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ita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88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351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détention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98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6666ff"/>
                </a:solidFill>
                <a:latin typeface="Times New Roman"/>
              </a:rPr>
              <a:t>   314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deten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96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336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 :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 quanti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17440" y="33012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0" i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 quanti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17440" y="1549440"/>
            <a:ext cx="8026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rrespondances quasi-univoques : 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les ca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413080"/>
            <a:ext cx="7772400" cy="4114800"/>
          </a:xfrm>
          <a:prstGeom prst="rect">
            <a:avLst/>
          </a:prstGeom>
          <a:solidFill>
            <a:srgbClr val="6666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deux mots (ou syntagmes) renvoient à un nom propre ou à un nombre :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nçais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réquence          </a:t>
            </a:r>
            <a:r>
              <a:rPr b="1" lang="fr-B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lais</a:t>
            </a:r>
            <a:r>
              <a:rPr b="1" lang="fr-B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équ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bert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29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herbert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tzold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29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petzold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1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13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1991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2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11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1992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57480" y="2260440"/>
            <a:ext cx="7772400" cy="4114800"/>
          </a:xfrm>
          <a:prstGeom prst="rect">
            <a:avLst/>
          </a:prstGeom>
          <a:solidFill>
            <a:srgbClr val="6666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équivalence est imposée par le respect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’usages terminolog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gouvernements signataires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 =  3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governments signatory hereto  F =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èges et immunités            F =  8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s and immunities</a:t>
            </a: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=   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hautes parties contractantes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F = 42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high contracting parties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= 4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55600" y="2070000"/>
            <a:ext cx="7772400" cy="4114800"/>
          </a:xfrm>
          <a:prstGeom prst="rect">
            <a:avLst/>
          </a:prstGeom>
          <a:solidFill>
            <a:srgbClr val="6666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ontexte du corpus réduit l’espace des sen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les pour les deux mots 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Exempl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cle (F = 362) / article (F = 35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 :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correspondances lexicales multiples 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29000" y="2666880"/>
            <a:ext cx="137160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2895480"/>
            <a:ext cx="1371600" cy="1526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429000" y="2209320"/>
            <a:ext cx="1371600" cy="2286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6920" y="2286000"/>
            <a:ext cx="2590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illing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fr-FR" sz="3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fr-FR" sz="3200" spc="-1" strike="noStrike">
                <a:solidFill>
                  <a:srgbClr val="ccccff"/>
                </a:solidFill>
                <a:latin typeface="Times New Roman"/>
              </a:rPr>
              <a:t>=1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76920" y="1828800"/>
            <a:ext cx="266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ath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fr-FR" sz="3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fr-FR" sz="3200" spc="-1" strike="noStrike">
                <a:solidFill>
                  <a:srgbClr val="ccccff"/>
                </a:solidFill>
                <a:latin typeface="Times New Roman"/>
              </a:rPr>
              <a:t>=2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36576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death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penal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circonstances de la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the circumstances of the </a:t>
            </a: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Times New Roman"/>
                <a:ea typeface="MS Mincho"/>
              </a:rPr>
              <a:t>de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un danger de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a risk of </a:t>
            </a: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Times New Roman"/>
                <a:ea typeface="MS Mincho"/>
              </a:rPr>
              <a:t>de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2286000"/>
            <a:ext cx="2362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mor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fr-FR" sz="3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fr-FR" sz="3200" spc="-1" strike="noStrike">
                <a:solidFill>
                  <a:srgbClr val="ccccff"/>
                </a:solidFill>
                <a:latin typeface="Times New Roman"/>
              </a:rPr>
              <a:t>=4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76920" y="2743200"/>
            <a:ext cx="4419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privation of lif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fr-FR" sz="3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fr-FR" sz="3200" spc="-1" strike="noStrike">
                <a:solidFill>
                  <a:srgbClr val="ccccff"/>
                </a:solidFill>
                <a:latin typeface="Times New Roman"/>
              </a:rPr>
              <a:t>=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53341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fligée –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tentional ki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fligée  –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privation of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1101600" y="2558880"/>
            <a:ext cx="4241520" cy="2492640"/>
            <a:chOff x="1101600" y="2558880"/>
            <a:chExt cx="4241520" cy="2492640"/>
          </a:xfrm>
        </p:grpSpPr>
        <p:sp>
          <p:nvSpPr>
            <p:cNvPr id="337" name=""/>
            <p:cNvSpPr/>
            <p:nvPr/>
          </p:nvSpPr>
          <p:spPr>
            <a:xfrm>
              <a:off x="1371240" y="2739960"/>
              <a:ext cx="397188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44520" indent="-124452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petition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6666ff"/>
                  </a:solidFill>
                  <a:latin typeface="Times New Roman"/>
                </a:rPr>
                <a:t>requête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complaint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1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6666ff"/>
                  </a:solidFill>
                  <a:latin typeface="Times New Roman"/>
                </a:rPr>
                <a:t>F = 233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matter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12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application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2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appeal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4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101600" y="2558880"/>
              <a:ext cx="4093920" cy="1904760"/>
              <a:chOff x="1101600" y="2558880"/>
              <a:chExt cx="4093920" cy="1904760"/>
            </a:xfrm>
          </p:grpSpPr>
          <p:sp>
            <p:nvSpPr>
              <p:cNvPr id="339" name=""/>
              <p:cNvSpPr/>
              <p:nvPr/>
            </p:nvSpPr>
            <p:spPr>
              <a:xfrm>
                <a:off x="2486520" y="2804040"/>
                <a:ext cx="0" cy="1442880"/>
              </a:xfrm>
              <a:prstGeom prst="line">
                <a:avLst/>
              </a:prstGeom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01600" y="2558880"/>
                <a:ext cx="4093920" cy="1904760"/>
              </a:xfrm>
              <a:prstGeom prst="ellipse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4606920" y="2379600"/>
            <a:ext cx="4470480" cy="1339920"/>
            <a:chOff x="4606920" y="2379600"/>
            <a:chExt cx="4470480" cy="1339920"/>
          </a:xfrm>
        </p:grpSpPr>
        <p:grpSp>
          <p:nvGrpSpPr>
            <p:cNvPr id="342" name=""/>
            <p:cNvGrpSpPr/>
            <p:nvPr/>
          </p:nvGrpSpPr>
          <p:grpSpPr>
            <a:xfrm>
              <a:off x="4606920" y="2379600"/>
              <a:ext cx="4470480" cy="1339920"/>
              <a:chOff x="4606920" y="2379600"/>
              <a:chExt cx="4470480" cy="1339920"/>
            </a:xfrm>
          </p:grpSpPr>
          <p:sp>
            <p:nvSpPr>
              <p:cNvPr id="343" name=""/>
              <p:cNvSpPr/>
              <p:nvPr/>
            </p:nvSpPr>
            <p:spPr>
              <a:xfrm>
                <a:off x="4606920" y="2379600"/>
                <a:ext cx="3899160" cy="890640"/>
              </a:xfrm>
              <a:prstGeom prst="ellipse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62600" y="2544840"/>
                <a:ext cx="4114800" cy="11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244520" indent="-124452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fr-FR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800" spc="-1" strike="noStrike">
                    <a:solidFill>
                      <a:srgbClr val="6666ff"/>
                    </a:solidFill>
                    <a:latin typeface="Times New Roman"/>
                  </a:rPr>
                  <a:t>recours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ff3300"/>
                    </a:solidFill>
                    <a:latin typeface="Times New Roman"/>
                  </a:rPr>
                  <a:t>use</a:t>
                </a:r>
                <a:r>
                  <a:rPr b="0" lang="en-GB" sz="1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i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F = 17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1244520" indent="-1244520">
                  <a:lnSpc>
                    <a:spcPct val="3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i="1" lang="en-GB" sz="1800" spc="-1" strike="noStrike">
                    <a:solidFill>
                      <a:srgbClr val="6666ff"/>
                    </a:solidFill>
                    <a:latin typeface="Times New Roman"/>
                  </a:rPr>
                  <a:t>F = 294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ff3300"/>
                    </a:solidFill>
                    <a:latin typeface="Times New Roman"/>
                  </a:rPr>
                  <a:t>remedies</a:t>
                </a:r>
                <a:r>
                  <a:rPr b="0" lang="en-GB" sz="1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i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F = 2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1244520" indent="-1244520">
                  <a:lnSpc>
                    <a:spcPct val="3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6080400" y="2558880"/>
              <a:ext cx="0" cy="569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591000" y="2765520"/>
            <a:ext cx="1438200" cy="152280"/>
            <a:chOff x="3591000" y="2765520"/>
            <a:chExt cx="1438200" cy="152280"/>
          </a:xfrm>
        </p:grpSpPr>
        <p:sp>
          <p:nvSpPr>
            <p:cNvPr id="347" name=""/>
            <p:cNvSpPr/>
            <p:nvPr/>
          </p:nvSpPr>
          <p:spPr>
            <a:xfrm>
              <a:off x="3591000" y="2765520"/>
              <a:ext cx="1438200" cy="8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03600" y="2765520"/>
              <a:ext cx="0" cy="152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954320" y="4067280"/>
            <a:ext cx="347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correspondances non univo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 :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correspondances lexicales multiples (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ppt7" descr=""/>
          <p:cNvPicPr/>
          <p:nvPr/>
        </p:nvPicPr>
        <p:blipFill>
          <a:blip r:embed="rId1"/>
          <a:stretch/>
        </p:blipFill>
        <p:spPr>
          <a:xfrm>
            <a:off x="1093680" y="1990800"/>
            <a:ext cx="8050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pt2" descr=""/>
          <p:cNvPicPr/>
          <p:nvPr/>
        </p:nvPicPr>
        <p:blipFill>
          <a:blip r:embed="rId1"/>
          <a:stretch/>
        </p:blipFill>
        <p:spPr>
          <a:xfrm>
            <a:off x="1195560" y="1546200"/>
            <a:ext cx="7103880" cy="52084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28880" y="68580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Principes de sélection et de classements de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segments répétés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pour l’appariement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pt3" descr=""/>
          <p:cNvPicPr/>
          <p:nvPr/>
        </p:nvPicPr>
        <p:blipFill>
          <a:blip r:embed="rId2"/>
          <a:stretch/>
        </p:blipFill>
        <p:spPr>
          <a:xfrm>
            <a:off x="0" y="3938760"/>
            <a:ext cx="9144000" cy="21301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030320" y="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0" i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 quanti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95560" y="2104920"/>
            <a:ext cx="7583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s segments recensés autour de formes  équivalentes  sont triés par ordre décroissant des fréquences, les segments de même fréquence étant triés par ordre de longueur décroissant.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117440" y="0"/>
            <a:ext cx="8026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lassification ascendante hiérarchiqu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15920" y="1257480"/>
            <a:ext cx="79758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Appliquée aux </a:t>
            </a: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tableaux</a:t>
            </a:r>
            <a:r>
              <a:rPr b="0" i="1" lang="fr-FR" sz="2000" spc="-1" strike="noStrike">
                <a:solidFill>
                  <a:srgbClr val="cccc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lexicaux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qui contiennent formes et segments répétés de deux textes, la classification regroupe des éléments aux </a:t>
            </a: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profils de ventilation</a:t>
            </a:r>
            <a:r>
              <a:rPr b="0" i="1" lang="fr-FR" sz="2000" spc="-1" strike="noStrike">
                <a:solidFill>
                  <a:srgbClr val="cccc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ch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4343400"/>
            <a:ext cx="883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réponses à</a:t>
            </a:r>
            <a:r>
              <a:rPr b="0" lang="fr-F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0  0  1  1  0  1  0  0  1  1  1  0  0  2  0  0  0  2  0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replies to</a:t>
            </a:r>
            <a:r>
              <a:rPr b="0" lang="fr-CA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0  0  1  1  0  1  0  0  1  2  2  0  1  1  0  0  0  2  0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es juges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11  0  0  2  0  0  0  1  4  1  0  0  0  0  2  0  0  2  0 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he judges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15  0  0  1  2  0  0  3  5  2  0  0  0  0  2  0  0  0  0 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erdict d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0  0  0  0  0  0  0  1  0  0  0  0  0  0  0  6  1  0  3 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erdict o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0  0  0  0  0  0  0  0  0  0  0  0  0  0  0  6  1  1  3 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60" y="4435560"/>
            <a:ext cx="533160" cy="453600"/>
            <a:chOff x="360" y="4435560"/>
            <a:chExt cx="533160" cy="453600"/>
          </a:xfrm>
        </p:grpSpPr>
        <p:sp>
          <p:nvSpPr>
            <p:cNvPr id="361" name=""/>
            <p:cNvSpPr/>
            <p:nvPr/>
          </p:nvSpPr>
          <p:spPr>
            <a:xfrm flipH="1">
              <a:off x="272880" y="4874040"/>
              <a:ext cx="260640" cy="252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72880" y="4447800"/>
              <a:ext cx="26064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60" y="4660920"/>
              <a:ext cx="26100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82600" y="4435560"/>
              <a:ext cx="0" cy="4536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60" y="5149800"/>
            <a:ext cx="533160" cy="453600"/>
            <a:chOff x="360" y="5149800"/>
            <a:chExt cx="533160" cy="453600"/>
          </a:xfrm>
        </p:grpSpPr>
        <p:sp>
          <p:nvSpPr>
            <p:cNvPr id="366" name=""/>
            <p:cNvSpPr/>
            <p:nvPr/>
          </p:nvSpPr>
          <p:spPr>
            <a:xfrm flipH="1">
              <a:off x="272880" y="5588280"/>
              <a:ext cx="260640" cy="252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72880" y="5162040"/>
              <a:ext cx="26064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60" y="5375160"/>
              <a:ext cx="26100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82600" y="5149800"/>
              <a:ext cx="0" cy="4536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60" y="5878440"/>
            <a:ext cx="533160" cy="453600"/>
            <a:chOff x="360" y="5878440"/>
            <a:chExt cx="533160" cy="453600"/>
          </a:xfrm>
        </p:grpSpPr>
        <p:sp>
          <p:nvSpPr>
            <p:cNvPr id="371" name=""/>
            <p:cNvSpPr/>
            <p:nvPr/>
          </p:nvSpPr>
          <p:spPr>
            <a:xfrm flipH="1">
              <a:off x="272880" y="6316920"/>
              <a:ext cx="260640" cy="252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72880" y="5890680"/>
              <a:ext cx="26064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360" y="6103800"/>
              <a:ext cx="26100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282600" y="5878440"/>
              <a:ext cx="0" cy="4536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465960" y="3927600"/>
            <a:ext cx="2678040" cy="712800"/>
          </a:xfrm>
          <a:noFill/>
          <a:ln w="1584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cc"/>
                </a:solidFill>
                <a:latin typeface="Tahoma"/>
              </a:rPr>
              <a:t>fréquence par part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classes" descr=""/>
          <p:cNvPicPr/>
          <p:nvPr/>
        </p:nvPicPr>
        <p:blipFill>
          <a:blip r:embed="rId1"/>
          <a:stretch/>
        </p:blipFill>
        <p:spPr>
          <a:xfrm>
            <a:off x="95400" y="2097000"/>
            <a:ext cx="9048600" cy="44672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482920" y="1228680"/>
            <a:ext cx="547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rpus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Convention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: résult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17440" y="0"/>
            <a:ext cx="8026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lassification ascendante hiérarchi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Spécificités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1066680"/>
            <a:ext cx="8001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 repérage d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spécificité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permet de sélectionner pour un sous-ensemble quelconque de phrases du corpus une série d’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unité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textuell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surreprésentées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ans ce fragment par rapport à l’ensemble du corpu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l est possible d’établir ce genre de diagnostic parallèlement pour les deux volets du corpus bilingu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79760" y="4025880"/>
            <a:ext cx="1282680" cy="132084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62520" y="43434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30400" y="5638680"/>
            <a:ext cx="193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hrases en français contenant la forme « démocratie 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03440" y="5613480"/>
            <a:ext cx="179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Traductions de ces phrases dans le volet angl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29200" y="3809880"/>
            <a:ext cx="389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cccc"/>
                </a:solidFill>
                <a:latin typeface="Tahoma"/>
                <a:ea typeface="Times New Roman"/>
              </a:rPr>
              <a:t>le</a:t>
            </a:r>
            <a:r>
              <a:rPr b="0" lang="fr-FR" sz="1600" spc="-1" strike="noStrike">
                <a:solidFill>
                  <a:srgbClr val="00cccc"/>
                </a:solidFill>
                <a:latin typeface="Tahoma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00cccc"/>
                </a:solidFill>
                <a:latin typeface="Tahoma"/>
                <a:ea typeface="Times New Roman"/>
              </a:rPr>
              <a:t>calcul des spécificités</a:t>
            </a:r>
            <a:r>
              <a:rPr b="0" lang="fr-FR" sz="1600" spc="-1" strike="noStrike">
                <a:solidFill>
                  <a:srgbClr val="ccccff"/>
                </a:solidFill>
                <a:latin typeface="Tahoma"/>
                <a:ea typeface="Times New Roman"/>
              </a:rPr>
              <a:t> permet de sélectionner parallèlement pour chacun de ces fragments une série d’unités textuelles particulièrement caractéristiq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43480" y="4076640"/>
            <a:ext cx="74268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83080" y="425448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56080" y="4686480"/>
            <a:ext cx="425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87720" y="4927680"/>
            <a:ext cx="74304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52960" y="468648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32320" y="407664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79840" y="3594240"/>
            <a:ext cx="1396800" cy="520560"/>
          </a:xfrm>
          <a:custGeom>
            <a:avLst/>
            <a:gdLst>
              <a:gd name="textAreaLeft" fmla="*/ 244440 w 1396800"/>
              <a:gd name="textAreaRight" fmla="*/ 1012680 w 1396800"/>
              <a:gd name="textAreaTop" fmla="*/ 69480 h 520560"/>
              <a:gd name="textAreaBottom" fmla="*/ 451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36840" y="3657600"/>
            <a:ext cx="107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75120" y="3657600"/>
            <a:ext cx="11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92640" y="4991040"/>
            <a:ext cx="546120" cy="6098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27280" y="4025880"/>
            <a:ext cx="1282680" cy="132084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39880" y="4330800"/>
            <a:ext cx="13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ahoma"/>
              </a:rPr>
              <a:t>démocrat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65440" y="4076640"/>
            <a:ext cx="74268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05040" y="425448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78040" y="4686480"/>
            <a:ext cx="425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22640" y="4927680"/>
            <a:ext cx="74268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74920" y="468648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654280" y="407664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752120" y="5016600"/>
            <a:ext cx="698760" cy="5842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pt12" descr=""/>
          <p:cNvPicPr/>
          <p:nvPr/>
        </p:nvPicPr>
        <p:blipFill>
          <a:blip r:embed="rId1"/>
          <a:stretch/>
        </p:blipFill>
        <p:spPr>
          <a:xfrm>
            <a:off x="411120" y="3530520"/>
            <a:ext cx="8732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68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Pla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8480" y="990720"/>
            <a:ext cx="787248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rpus parallèles multiling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xemple : le corpus bilingue </a:t>
            </a:r>
            <a:r>
              <a:rPr b="1" i="1" lang="fr-FR" sz="2000" spc="-1" strike="noStrike">
                <a:solidFill>
                  <a:srgbClr val="ccccff"/>
                </a:solidFill>
                <a:latin typeface="Times New Roman"/>
              </a:rPr>
              <a:t>Convention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(français/anglai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Domaines d’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lignement automatique de cor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lignement de phr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lignement de mots et de syntagmes : problèmes et enjeu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Outils d’aide à la traduction à base de cor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ncordanciers parallè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émoire de tra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pproches quantitatives de corpus parallè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extométrie multiling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xploration topographique d’équivalences de tra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ventil" descr=""/>
          <p:cNvPicPr/>
          <p:nvPr/>
        </p:nvPicPr>
        <p:blipFill>
          <a:blip r:embed="rId1"/>
          <a:stretch/>
        </p:blipFill>
        <p:spPr>
          <a:xfrm>
            <a:off x="1212840" y="1952640"/>
            <a:ext cx="7097760" cy="49053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139760" y="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Spécificités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36520" y="819000"/>
            <a:ext cx="78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a comparaison des fréquences local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(</a:t>
            </a:r>
            <a:r>
              <a:rPr b="0" i="1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f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et la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localisation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es unités dans les phrases alignées du fragment font apparaître des indices supplémentaires pour l’apparie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Topographie bi-textuelle (i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411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485640" y="638820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Lexico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417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418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419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420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421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422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423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78732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920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427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428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9160" y="291312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3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9160" y="2008080"/>
                <a:ext cx="4519440" cy="37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4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69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7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38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439" name="a2_b" descr=""/>
          <p:cNvPicPr/>
          <p:nvPr/>
        </p:nvPicPr>
        <p:blipFill>
          <a:blip r:embed="rId21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440" name="a4_b" descr=""/>
          <p:cNvPicPr/>
          <p:nvPr/>
        </p:nvPicPr>
        <p:blipFill>
          <a:blip r:embed="rId22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441" name="a5_b" descr=""/>
          <p:cNvPicPr/>
          <p:nvPr/>
        </p:nvPicPr>
        <p:blipFill>
          <a:blip r:embed="rId23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442" name="a8_b" descr=""/>
          <p:cNvPicPr/>
          <p:nvPr/>
        </p:nvPicPr>
        <p:blipFill>
          <a:blip r:embed="rId24"/>
          <a:stretch/>
        </p:blipFill>
        <p:spPr>
          <a:xfrm>
            <a:off x="444960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443" name="a7_b" descr=""/>
          <p:cNvPicPr/>
          <p:nvPr/>
        </p:nvPicPr>
        <p:blipFill>
          <a:blip r:embed="rId25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444" name="a8_b" descr=""/>
          <p:cNvPicPr/>
          <p:nvPr/>
        </p:nvPicPr>
        <p:blipFill>
          <a:blip r:embed="rId26"/>
          <a:stretch/>
        </p:blipFill>
        <p:spPr>
          <a:xfrm>
            <a:off x="444960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445" name="a6cor" descr=""/>
          <p:cNvPicPr/>
          <p:nvPr/>
        </p:nvPicPr>
        <p:blipFill>
          <a:blip r:embed="rId27"/>
          <a:stretch/>
        </p:blipFill>
        <p:spPr>
          <a:xfrm>
            <a:off x="4468680" y="3666960"/>
            <a:ext cx="4548240" cy="1843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8352000" y="3692520"/>
            <a:ext cx="5220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7" name="a3_b" descr=""/>
          <p:cNvPicPr/>
          <p:nvPr/>
        </p:nvPicPr>
        <p:blipFill>
          <a:blip r:embed="rId28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4449600" y="1289160"/>
            <a:ext cx="4621320" cy="4981320"/>
            <a:chOff x="4449600" y="1289160"/>
            <a:chExt cx="4621320" cy="4981320"/>
          </a:xfrm>
        </p:grpSpPr>
        <p:grpSp>
          <p:nvGrpSpPr>
            <p:cNvPr id="449" name=""/>
            <p:cNvGrpSpPr/>
            <p:nvPr/>
          </p:nvGrpSpPr>
          <p:grpSpPr>
            <a:xfrm>
              <a:off x="4449600" y="1289160"/>
              <a:ext cx="4621320" cy="4981320"/>
              <a:chOff x="4449600" y="1289160"/>
              <a:chExt cx="4621320" cy="4981320"/>
            </a:xfrm>
          </p:grpSpPr>
          <p:pic>
            <p:nvPicPr>
              <p:cNvPr id="450" name="f8m" descr=""/>
              <p:cNvPicPr/>
              <p:nvPr/>
            </p:nvPicPr>
            <p:blipFill>
              <a:blip r:embed="rId29"/>
              <a:stretch/>
            </p:blipFill>
            <p:spPr>
              <a:xfrm>
                <a:off x="4449600" y="4419720"/>
                <a:ext cx="4564080" cy="36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f7m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49600" y="405936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f5m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57880" y="2908440"/>
                <a:ext cx="455580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f3m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49600" y="2008080"/>
                <a:ext cx="456408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f2m" descr=""/>
              <p:cNvPicPr/>
              <p:nvPr/>
            </p:nvPicPr>
            <p:blipFill>
              <a:blip r:embed="rId33"/>
              <a:stretch/>
            </p:blipFill>
            <p:spPr>
              <a:xfrm>
                <a:off x="4449600" y="128916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f9m" descr=""/>
              <p:cNvPicPr/>
              <p:nvPr/>
            </p:nvPicPr>
            <p:blipFill>
              <a:blip r:embed="rId34"/>
              <a:stretch/>
            </p:blipFill>
            <p:spPr>
              <a:xfrm>
                <a:off x="4449600" y="49593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f1m" descr=""/>
              <p:cNvPicPr/>
              <p:nvPr/>
            </p:nvPicPr>
            <p:blipFill>
              <a:blip r:embed="rId35"/>
              <a:stretch/>
            </p:blipFill>
            <p:spPr>
              <a:xfrm>
                <a:off x="4449600" y="5248440"/>
                <a:ext cx="4621320" cy="10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f4m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49600" y="2548080"/>
                <a:ext cx="4548240" cy="19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" name="a6cor" descr=""/>
              <p:cNvPicPr/>
              <p:nvPr/>
            </p:nvPicPr>
            <p:blipFill>
              <a:blip r:embed="rId37"/>
              <a:stretch/>
            </p:blipFill>
            <p:spPr>
              <a:xfrm>
                <a:off x="4465800" y="3666960"/>
                <a:ext cx="454788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9" name=""/>
            <p:cNvSpPr/>
            <p:nvPr/>
          </p:nvSpPr>
          <p:spPr>
            <a:xfrm>
              <a:off x="8348760" y="3689280"/>
              <a:ext cx="52200" cy="54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174680" y="201312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</a:rPr>
              <a:t>fonctionn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New-85" descr=""/>
          <p:cNvPicPr/>
          <p:nvPr/>
        </p:nvPicPr>
        <p:blipFill>
          <a:blip r:embed="rId38"/>
          <a:stretch/>
        </p:blipFill>
        <p:spPr>
          <a:xfrm>
            <a:off x="165240" y="6388200"/>
            <a:ext cx="353880" cy="365040"/>
          </a:xfrm>
          <a:prstGeom prst="rect">
            <a:avLst/>
          </a:prstGeom>
          <a:ln w="0">
            <a:noFill/>
          </a:ln>
        </p:spPr>
      </p:pic>
      <p:grpSp>
        <p:nvGrpSpPr>
          <p:cNvPr id="462" name=""/>
          <p:cNvGrpSpPr/>
          <p:nvPr/>
        </p:nvGrpSpPr>
        <p:grpSpPr>
          <a:xfrm>
            <a:off x="1525680" y="4071960"/>
            <a:ext cx="5840280" cy="2509920"/>
            <a:chOff x="1525680" y="4071960"/>
            <a:chExt cx="5840280" cy="2509920"/>
          </a:xfrm>
        </p:grpSpPr>
        <p:grpSp>
          <p:nvGrpSpPr>
            <p:cNvPr id="463" name=""/>
            <p:cNvGrpSpPr/>
            <p:nvPr/>
          </p:nvGrpSpPr>
          <p:grpSpPr>
            <a:xfrm>
              <a:off x="1525680" y="4071960"/>
              <a:ext cx="5840280" cy="2509920"/>
              <a:chOff x="1525680" y="4071960"/>
              <a:chExt cx="5840280" cy="2509920"/>
            </a:xfrm>
          </p:grpSpPr>
          <p:pic>
            <p:nvPicPr>
              <p:cNvPr id="464" name="ang" descr=""/>
              <p:cNvPicPr/>
              <p:nvPr/>
            </p:nvPicPr>
            <p:blipFill>
              <a:blip r:embed="rId39"/>
              <a:stretch/>
            </p:blipFill>
            <p:spPr>
              <a:xfrm>
                <a:off x="4465800" y="4071960"/>
                <a:ext cx="2900160" cy="250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fra-sp" descr=""/>
              <p:cNvPicPr/>
              <p:nvPr/>
            </p:nvPicPr>
            <p:blipFill>
              <a:blip r:embed="rId40"/>
              <a:stretch/>
            </p:blipFill>
            <p:spPr>
              <a:xfrm>
                <a:off x="1525680" y="4071960"/>
                <a:ext cx="2911320" cy="250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6" name="selec" descr=""/>
            <p:cNvPicPr/>
            <p:nvPr/>
          </p:nvPicPr>
          <p:blipFill>
            <a:blip r:embed="rId41"/>
            <a:stretch/>
          </p:blipFill>
          <p:spPr>
            <a:xfrm>
              <a:off x="3963960" y="4227480"/>
              <a:ext cx="3780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selec" descr=""/>
            <p:cNvPicPr/>
            <p:nvPr/>
          </p:nvPicPr>
          <p:blipFill>
            <a:blip r:embed="rId42"/>
            <a:stretch/>
          </p:blipFill>
          <p:spPr>
            <a:xfrm>
              <a:off x="6878520" y="4227480"/>
              <a:ext cx="37800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"/>
          <p:cNvGrpSpPr/>
          <p:nvPr/>
        </p:nvGrpSpPr>
        <p:grpSpPr>
          <a:xfrm>
            <a:off x="139680" y="898560"/>
            <a:ext cx="8621640" cy="1944720"/>
            <a:chOff x="139680" y="898560"/>
            <a:chExt cx="8621640" cy="1944720"/>
          </a:xfrm>
        </p:grpSpPr>
        <p:grpSp>
          <p:nvGrpSpPr>
            <p:cNvPr id="469" name=""/>
            <p:cNvGrpSpPr/>
            <p:nvPr/>
          </p:nvGrpSpPr>
          <p:grpSpPr>
            <a:xfrm>
              <a:off x="139680" y="1314360"/>
              <a:ext cx="8621640" cy="1528920"/>
              <a:chOff x="139680" y="1314360"/>
              <a:chExt cx="8621640" cy="152892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139680" y="1932120"/>
                <a:ext cx="8621640" cy="911160"/>
                <a:chOff x="139680" y="1932120"/>
                <a:chExt cx="8621640" cy="911160"/>
              </a:xfrm>
            </p:grpSpPr>
            <p:pic>
              <p:nvPicPr>
                <p:cNvPr id="471" name="section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13968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section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447516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73" name=""/>
              <p:cNvSpPr/>
              <p:nvPr/>
            </p:nvSpPr>
            <p:spPr>
              <a:xfrm>
                <a:off x="150840" y="1314360"/>
                <a:ext cx="52200" cy="54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75160" y="1314360"/>
                <a:ext cx="52560" cy="54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75" name="tt" descr=""/>
              <p:cNvPicPr/>
              <p:nvPr/>
            </p:nvPicPr>
            <p:blipFill>
              <a:blip r:embed="rId45"/>
              <a:stretch/>
            </p:blipFill>
            <p:spPr>
              <a:xfrm>
                <a:off x="884160" y="2006640"/>
                <a:ext cx="3487680" cy="49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ttt" descr=""/>
              <p:cNvPicPr/>
              <p:nvPr/>
            </p:nvPicPr>
            <p:blipFill>
              <a:blip r:embed="rId46"/>
              <a:stretch/>
            </p:blipFill>
            <p:spPr>
              <a:xfrm>
                <a:off x="5187960" y="2006640"/>
                <a:ext cx="3379680" cy="582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7" name=""/>
            <p:cNvGrpSpPr/>
            <p:nvPr/>
          </p:nvGrpSpPr>
          <p:grpSpPr>
            <a:xfrm>
              <a:off x="149400" y="898560"/>
              <a:ext cx="4349520" cy="365040"/>
              <a:chOff x="149400" y="898560"/>
              <a:chExt cx="4349520" cy="365040"/>
            </a:xfrm>
          </p:grpSpPr>
          <p:sp>
            <p:nvSpPr>
              <p:cNvPr id="478" name=""/>
              <p:cNvSpPr/>
              <p:nvPr/>
            </p:nvSpPr>
            <p:spPr>
              <a:xfrm flipH="1">
                <a:off x="149400" y="907920"/>
                <a:ext cx="4349520" cy="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168120" y="898560"/>
                <a:ext cx="4317480" cy="365040"/>
                <a:chOff x="168120" y="898560"/>
                <a:chExt cx="4317480" cy="365040"/>
              </a:xfrm>
            </p:grpSpPr>
            <p:sp>
              <p:nvSpPr>
                <p:cNvPr id="480" name=""/>
                <p:cNvSpPr/>
                <p:nvPr/>
              </p:nvSpPr>
              <p:spPr>
                <a:xfrm flipH="1">
                  <a:off x="168120" y="898560"/>
                  <a:ext cx="2880" cy="32688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482720" y="904680"/>
                  <a:ext cx="2880" cy="35892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2" name=""/>
          <p:cNvSpPr/>
          <p:nvPr/>
        </p:nvSpPr>
        <p:spPr>
          <a:xfrm>
            <a:off x="4449600" y="1293840"/>
            <a:ext cx="0" cy="49816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42960" y="4829040"/>
            <a:ext cx="1047960" cy="18108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62480" y="4857840"/>
            <a:ext cx="933480" cy="295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90920" y="4924440"/>
            <a:ext cx="1819080" cy="95400"/>
          </a:xfrm>
          <a:prstGeom prst="line">
            <a:avLst/>
          </a:prstGeom>
          <a:ln w="28440">
            <a:solidFill>
              <a:srgbClr val="66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487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9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492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493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494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495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496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497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498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78732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2920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502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503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4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1760" y="291312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7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31760" y="2013120"/>
                <a:ext cx="4519440" cy="37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0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4080"/>
                <a:ext cx="4548240" cy="183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2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13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514" name="a3_b" descr=""/>
          <p:cNvPicPr/>
          <p:nvPr/>
        </p:nvPicPr>
        <p:blipFill>
          <a:blip r:embed="rId21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pic>
        <p:nvPicPr>
          <p:cNvPr id="515" name="a2_b" descr=""/>
          <p:cNvPicPr/>
          <p:nvPr/>
        </p:nvPicPr>
        <p:blipFill>
          <a:blip r:embed="rId22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16" name="a4_b" descr=""/>
          <p:cNvPicPr/>
          <p:nvPr/>
        </p:nvPicPr>
        <p:blipFill>
          <a:blip r:embed="rId23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517" name="a5_b" descr=""/>
          <p:cNvPicPr/>
          <p:nvPr/>
        </p:nvPicPr>
        <p:blipFill>
          <a:blip r:embed="rId24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518" name="a8_b" descr=""/>
          <p:cNvPicPr/>
          <p:nvPr/>
        </p:nvPicPr>
        <p:blipFill>
          <a:blip r:embed="rId25"/>
          <a:stretch/>
        </p:blipFill>
        <p:spPr>
          <a:xfrm>
            <a:off x="446868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519" name="a7_b" descr=""/>
          <p:cNvPicPr/>
          <p:nvPr/>
        </p:nvPicPr>
        <p:blipFill>
          <a:blip r:embed="rId26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520" name="a8_b" descr=""/>
          <p:cNvPicPr/>
          <p:nvPr/>
        </p:nvPicPr>
        <p:blipFill>
          <a:blip r:embed="rId27"/>
          <a:stretch/>
        </p:blipFill>
        <p:spPr>
          <a:xfrm>
            <a:off x="444960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521" name="a6cor" descr=""/>
          <p:cNvPicPr/>
          <p:nvPr/>
        </p:nvPicPr>
        <p:blipFill>
          <a:blip r:embed="rId28"/>
          <a:stretch/>
        </p:blipFill>
        <p:spPr>
          <a:xfrm>
            <a:off x="4448160" y="3666960"/>
            <a:ext cx="4548240" cy="1843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8331120" y="3692520"/>
            <a:ext cx="52560" cy="5400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85640" y="638820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Lexico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143000" y="-25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Topographie bi-textuelle (i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1924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</a:rPr>
              <a:t>fonctionn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449600" y="1293840"/>
            <a:ext cx="4616640" cy="4971600"/>
            <a:chOff x="4449600" y="1293840"/>
            <a:chExt cx="4616640" cy="4971600"/>
          </a:xfrm>
        </p:grpSpPr>
        <p:grpSp>
          <p:nvGrpSpPr>
            <p:cNvPr id="527" name=""/>
            <p:cNvGrpSpPr/>
            <p:nvPr/>
          </p:nvGrpSpPr>
          <p:grpSpPr>
            <a:xfrm>
              <a:off x="4449600" y="1293840"/>
              <a:ext cx="4616640" cy="4971600"/>
              <a:chOff x="4449600" y="1293840"/>
              <a:chExt cx="4616640" cy="4971600"/>
            </a:xfrm>
          </p:grpSpPr>
          <p:pic>
            <p:nvPicPr>
              <p:cNvPr id="528" name="_1" descr=""/>
              <p:cNvPicPr/>
              <p:nvPr/>
            </p:nvPicPr>
            <p:blipFill>
              <a:blip r:embed="rId29"/>
              <a:stretch/>
            </p:blipFill>
            <p:spPr>
              <a:xfrm>
                <a:off x="4449600" y="129384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_2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49600" y="2009520"/>
                <a:ext cx="456408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f5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49600" y="2911320"/>
                <a:ext cx="4556160" cy="55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" name="_8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49600" y="4420800"/>
                <a:ext cx="4564080" cy="369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2" name=""/>
              <p:cNvGrpSpPr/>
              <p:nvPr/>
            </p:nvGrpSpPr>
            <p:grpSpPr>
              <a:xfrm>
                <a:off x="4464000" y="5248080"/>
                <a:ext cx="4602240" cy="1017360"/>
                <a:chOff x="4464000" y="5248080"/>
                <a:chExt cx="4602240" cy="1017360"/>
              </a:xfrm>
            </p:grpSpPr>
            <p:pic>
              <p:nvPicPr>
                <p:cNvPr id="533" name="a1_b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464000" y="5248080"/>
                  <a:ext cx="4602240" cy="101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4" name=""/>
                <p:cNvSpPr/>
                <p:nvPr/>
              </p:nvSpPr>
              <p:spPr>
                <a:xfrm>
                  <a:off x="8080560" y="5265000"/>
                  <a:ext cx="52200" cy="53640"/>
                </a:xfrm>
                <a:prstGeom prst="rect">
                  <a:avLst/>
                </a:prstGeom>
                <a:solidFill>
                  <a:srgbClr val="00cccc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504280" y="5352480"/>
                  <a:ext cx="52560" cy="53640"/>
                </a:xfrm>
                <a:prstGeom prst="rect">
                  <a:avLst/>
                </a:prstGeom>
                <a:solidFill>
                  <a:srgbClr val="00cccc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4449600" y="3665160"/>
                <a:ext cx="4548240" cy="183960"/>
                <a:chOff x="4449600" y="3665160"/>
                <a:chExt cx="4548240" cy="183960"/>
              </a:xfrm>
            </p:grpSpPr>
            <p:pic>
              <p:nvPicPr>
                <p:cNvPr id="537" name="a6cor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4449600" y="3665160"/>
                  <a:ext cx="4548240" cy="18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8" name=""/>
                <p:cNvSpPr/>
                <p:nvPr/>
              </p:nvSpPr>
              <p:spPr>
                <a:xfrm>
                  <a:off x="8332560" y="3687120"/>
                  <a:ext cx="52560" cy="53640"/>
                </a:xfrm>
                <a:prstGeom prst="rect">
                  <a:avLst/>
                </a:prstGeom>
                <a:solidFill>
                  <a:srgbClr val="ff3300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9" name=""/>
            <p:cNvSpPr/>
            <p:nvPr/>
          </p:nvSpPr>
          <p:spPr>
            <a:xfrm>
              <a:off x="8086680" y="5265360"/>
              <a:ext cx="58680" cy="60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05720" y="5351400"/>
              <a:ext cx="60120" cy="61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525312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Courier New"/>
              </a:rPr>
              <a:t>serv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448160" y="2552760"/>
            <a:ext cx="4621320" cy="3720960"/>
            <a:chOff x="4448160" y="2552760"/>
            <a:chExt cx="4621320" cy="3720960"/>
          </a:xfrm>
        </p:grpSpPr>
        <p:pic>
          <p:nvPicPr>
            <p:cNvPr id="543" name="f4m" descr=""/>
            <p:cNvPicPr/>
            <p:nvPr/>
          </p:nvPicPr>
          <p:blipFill>
            <a:blip r:embed="rId35"/>
            <a:stretch/>
          </p:blipFill>
          <p:spPr>
            <a:xfrm>
              <a:off x="4449600" y="2552760"/>
              <a:ext cx="454824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f9m" descr=""/>
            <p:cNvPicPr/>
            <p:nvPr/>
          </p:nvPicPr>
          <p:blipFill>
            <a:blip r:embed="rId36"/>
            <a:stretch/>
          </p:blipFill>
          <p:spPr>
            <a:xfrm>
              <a:off x="4448160" y="496260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f7m" descr=""/>
            <p:cNvPicPr/>
            <p:nvPr/>
          </p:nvPicPr>
          <p:blipFill>
            <a:blip r:embed="rId37"/>
            <a:stretch/>
          </p:blipFill>
          <p:spPr>
            <a:xfrm>
              <a:off x="4468680" y="4064040"/>
              <a:ext cx="4556160" cy="183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6" name=""/>
            <p:cNvGrpSpPr/>
            <p:nvPr/>
          </p:nvGrpSpPr>
          <p:grpSpPr>
            <a:xfrm>
              <a:off x="4448160" y="5251320"/>
              <a:ext cx="4621320" cy="1022400"/>
              <a:chOff x="4448160" y="5251320"/>
              <a:chExt cx="4621320" cy="1022400"/>
            </a:xfrm>
          </p:grpSpPr>
          <p:pic>
            <p:nvPicPr>
              <p:cNvPr id="547" name="f1m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48160" y="5251320"/>
                <a:ext cx="4621320" cy="10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>
                <a:off x="8078760" y="5267160"/>
                <a:ext cx="58680" cy="60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502480" y="5353200"/>
                <a:ext cx="60480" cy="619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0" name=""/>
          <p:cNvSpPr/>
          <p:nvPr/>
        </p:nvSpPr>
        <p:spPr>
          <a:xfrm>
            <a:off x="4430880" y="1289160"/>
            <a:ext cx="0" cy="498132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90920" y="5219640"/>
            <a:ext cx="4238640" cy="108576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903920" y="5202360"/>
            <a:ext cx="2900160" cy="1655640"/>
            <a:chOff x="4903920" y="5202360"/>
            <a:chExt cx="2900160" cy="1655640"/>
          </a:xfrm>
        </p:grpSpPr>
        <p:pic>
          <p:nvPicPr>
            <p:cNvPr id="553" name="bien" descr=""/>
            <p:cNvPicPr/>
            <p:nvPr/>
          </p:nvPicPr>
          <p:blipFill>
            <a:blip r:embed="rId39"/>
            <a:stretch/>
          </p:blipFill>
          <p:spPr>
            <a:xfrm>
              <a:off x="4903920" y="5202360"/>
              <a:ext cx="290016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selec" descr=""/>
            <p:cNvPicPr/>
            <p:nvPr/>
          </p:nvPicPr>
          <p:blipFill>
            <a:blip r:embed="rId40"/>
            <a:stretch/>
          </p:blipFill>
          <p:spPr>
            <a:xfrm>
              <a:off x="7335720" y="5265720"/>
              <a:ext cx="341280" cy="33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"/>
          <p:cNvSpPr/>
          <p:nvPr/>
        </p:nvSpPr>
        <p:spPr>
          <a:xfrm>
            <a:off x="4743360" y="5962680"/>
            <a:ext cx="933480" cy="3240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6" name="cube" descr=""/>
          <p:cNvPicPr/>
          <p:nvPr/>
        </p:nvPicPr>
        <p:blipFill>
          <a:blip r:embed="rId41"/>
          <a:stretch/>
        </p:blipFill>
        <p:spPr>
          <a:xfrm>
            <a:off x="160200" y="6388200"/>
            <a:ext cx="36540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Analyse des résultat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143000" y="114300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ahoma"/>
              </a:rPr>
              <a:t>fonctionnaires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(Frq.Tot.=4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80120" y="771480"/>
            <a:ext cx="3771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officers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rq.P.=10)</a:t>
            </a: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officials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rq.P.= 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servants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rq.P.=3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203800" y="851040"/>
            <a:ext cx="0" cy="1380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851040"/>
            <a:ext cx="380880" cy="1422360"/>
          </a:xfrm>
          <a:custGeom>
            <a:avLst/>
            <a:gdLst>
              <a:gd name="textAreaLeft" fmla="*/ 0 w 380880"/>
              <a:gd name="textAreaRight" fmla="*/ 137520 w 380880"/>
              <a:gd name="textAreaTop" fmla="*/ 37080 h 1422360"/>
              <a:gd name="textAreaBottom" fmla="*/ 1385280 h 14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59720" y="128268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3" name="a5_b" descr=""/>
          <p:cNvPicPr/>
          <p:nvPr/>
        </p:nvPicPr>
        <p:blipFill>
          <a:blip r:embed="rId1"/>
          <a:stretch/>
        </p:blipFill>
        <p:spPr>
          <a:xfrm>
            <a:off x="139680" y="45896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564" name="a4_b" descr=""/>
          <p:cNvPicPr/>
          <p:nvPr/>
        </p:nvPicPr>
        <p:blipFill>
          <a:blip r:embed="rId2"/>
          <a:stretch/>
        </p:blipFill>
        <p:spPr>
          <a:xfrm>
            <a:off x="139680" y="422928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565" name="a3_b" descr=""/>
          <p:cNvPicPr/>
          <p:nvPr/>
        </p:nvPicPr>
        <p:blipFill>
          <a:blip r:embed="rId3"/>
          <a:stretch/>
        </p:blipFill>
        <p:spPr>
          <a:xfrm>
            <a:off x="127080" y="3689280"/>
            <a:ext cx="4519440" cy="374760"/>
          </a:xfrm>
          <a:prstGeom prst="rect">
            <a:avLst/>
          </a:prstGeom>
          <a:ln w="0">
            <a:noFill/>
          </a:ln>
        </p:spPr>
      </p:pic>
      <p:pic>
        <p:nvPicPr>
          <p:cNvPr id="566" name="a2_b" descr=""/>
          <p:cNvPicPr/>
          <p:nvPr/>
        </p:nvPicPr>
        <p:blipFill>
          <a:blip r:embed="rId4"/>
          <a:stretch/>
        </p:blipFill>
        <p:spPr>
          <a:xfrm>
            <a:off x="139680" y="2970360"/>
            <a:ext cx="4556160" cy="55224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95240" y="256860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37120" y="256860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a5" descr=""/>
          <p:cNvPicPr/>
          <p:nvPr/>
        </p:nvPicPr>
        <p:blipFill>
          <a:blip r:embed="rId5"/>
          <a:stretch/>
        </p:blipFill>
        <p:spPr>
          <a:xfrm>
            <a:off x="139680" y="45896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570" name="a3" descr=""/>
          <p:cNvPicPr/>
          <p:nvPr/>
        </p:nvPicPr>
        <p:blipFill>
          <a:blip r:embed="rId6"/>
          <a:stretch/>
        </p:blipFill>
        <p:spPr>
          <a:xfrm>
            <a:off x="139680" y="3689280"/>
            <a:ext cx="4519800" cy="374760"/>
          </a:xfrm>
          <a:prstGeom prst="rect">
            <a:avLst/>
          </a:prstGeom>
          <a:ln w="0">
            <a:noFill/>
          </a:ln>
        </p:spPr>
      </p:pic>
      <p:pic>
        <p:nvPicPr>
          <p:cNvPr id="571" name="a2" descr=""/>
          <p:cNvPicPr/>
          <p:nvPr/>
        </p:nvPicPr>
        <p:blipFill>
          <a:blip r:embed="rId7"/>
          <a:stretch/>
        </p:blipFill>
        <p:spPr>
          <a:xfrm>
            <a:off x="139680" y="297036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572" name="a3_b" descr=""/>
          <p:cNvPicPr/>
          <p:nvPr/>
        </p:nvPicPr>
        <p:blipFill>
          <a:blip r:embed="rId8"/>
          <a:stretch/>
        </p:blipFill>
        <p:spPr>
          <a:xfrm>
            <a:off x="4486320" y="369900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573" name="a2_b" descr=""/>
          <p:cNvPicPr/>
          <p:nvPr/>
        </p:nvPicPr>
        <p:blipFill>
          <a:blip r:embed="rId9"/>
          <a:stretch/>
        </p:blipFill>
        <p:spPr>
          <a:xfrm>
            <a:off x="4457880" y="2970360"/>
            <a:ext cx="4555800" cy="552240"/>
          </a:xfrm>
          <a:prstGeom prst="rect">
            <a:avLst/>
          </a:prstGeom>
          <a:ln w="0">
            <a:noFill/>
          </a:ln>
        </p:spPr>
      </p:pic>
      <p:pic>
        <p:nvPicPr>
          <p:cNvPr id="574" name="a5_b" descr=""/>
          <p:cNvPicPr/>
          <p:nvPr/>
        </p:nvPicPr>
        <p:blipFill>
          <a:blip r:embed="rId10"/>
          <a:stretch/>
        </p:blipFill>
        <p:spPr>
          <a:xfrm>
            <a:off x="4457880" y="4589640"/>
            <a:ext cx="4555800" cy="552240"/>
          </a:xfrm>
          <a:prstGeom prst="rect">
            <a:avLst/>
          </a:prstGeom>
          <a:ln w="0">
            <a:noFill/>
          </a:ln>
        </p:spPr>
      </p:pic>
      <p:pic>
        <p:nvPicPr>
          <p:cNvPr id="575" name="_1" descr=""/>
          <p:cNvPicPr/>
          <p:nvPr/>
        </p:nvPicPr>
        <p:blipFill>
          <a:blip r:embed="rId11"/>
          <a:stretch/>
        </p:blipFill>
        <p:spPr>
          <a:xfrm>
            <a:off x="4456080" y="297180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76" name="_2" descr=""/>
          <p:cNvPicPr/>
          <p:nvPr/>
        </p:nvPicPr>
        <p:blipFill>
          <a:blip r:embed="rId12"/>
          <a:stretch/>
        </p:blipFill>
        <p:spPr>
          <a:xfrm>
            <a:off x="4456080" y="3687840"/>
            <a:ext cx="4564080" cy="377640"/>
          </a:xfrm>
          <a:prstGeom prst="rect">
            <a:avLst/>
          </a:prstGeom>
          <a:ln w="0">
            <a:noFill/>
          </a:ln>
        </p:spPr>
      </p:pic>
      <p:pic>
        <p:nvPicPr>
          <p:cNvPr id="577" name="f5" descr=""/>
          <p:cNvPicPr/>
          <p:nvPr/>
        </p:nvPicPr>
        <p:blipFill>
          <a:blip r:embed="rId13"/>
          <a:stretch/>
        </p:blipFill>
        <p:spPr>
          <a:xfrm>
            <a:off x="4456080" y="45896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578" name="section" descr=""/>
          <p:cNvPicPr/>
          <p:nvPr/>
        </p:nvPicPr>
        <p:blipFill>
          <a:blip r:embed="rId14"/>
          <a:stretch/>
        </p:blipFill>
        <p:spPr>
          <a:xfrm>
            <a:off x="152280" y="5232240"/>
            <a:ext cx="4286520" cy="911520"/>
          </a:xfrm>
          <a:prstGeom prst="rect">
            <a:avLst/>
          </a:prstGeom>
          <a:ln w="0">
            <a:noFill/>
          </a:ln>
        </p:spPr>
      </p:pic>
      <p:pic>
        <p:nvPicPr>
          <p:cNvPr id="579" name="section" descr=""/>
          <p:cNvPicPr/>
          <p:nvPr/>
        </p:nvPicPr>
        <p:blipFill>
          <a:blip r:embed="rId15"/>
          <a:stretch/>
        </p:blipFill>
        <p:spPr>
          <a:xfrm>
            <a:off x="4457880" y="5232240"/>
            <a:ext cx="4286160" cy="911520"/>
          </a:xfrm>
          <a:prstGeom prst="rect">
            <a:avLst/>
          </a:prstGeom>
          <a:ln w="0">
            <a:noFill/>
          </a:ln>
        </p:spPr>
      </p:pic>
      <p:pic>
        <p:nvPicPr>
          <p:cNvPr id="580" name="a4" descr=""/>
          <p:cNvPicPr/>
          <p:nvPr/>
        </p:nvPicPr>
        <p:blipFill>
          <a:blip r:embed="rId16"/>
          <a:stretch/>
        </p:blipFill>
        <p:spPr>
          <a:xfrm>
            <a:off x="139680" y="422928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581" name="a4_b" descr=""/>
          <p:cNvPicPr/>
          <p:nvPr/>
        </p:nvPicPr>
        <p:blipFill>
          <a:blip r:embed="rId17"/>
          <a:stretch/>
        </p:blipFill>
        <p:spPr>
          <a:xfrm>
            <a:off x="4457880" y="4229280"/>
            <a:ext cx="4547880" cy="19044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422280" y="4229280"/>
            <a:ext cx="8583480" cy="1752480"/>
            <a:chOff x="422280" y="4229280"/>
            <a:chExt cx="8583480" cy="1752480"/>
          </a:xfrm>
        </p:grpSpPr>
        <p:grpSp>
          <p:nvGrpSpPr>
            <p:cNvPr id="583" name=""/>
            <p:cNvGrpSpPr/>
            <p:nvPr/>
          </p:nvGrpSpPr>
          <p:grpSpPr>
            <a:xfrm>
              <a:off x="422280" y="4229280"/>
              <a:ext cx="8583480" cy="1752480"/>
              <a:chOff x="422280" y="4229280"/>
              <a:chExt cx="8583480" cy="1752480"/>
            </a:xfrm>
          </p:grpSpPr>
          <p:pic>
            <p:nvPicPr>
              <p:cNvPr id="584" name="textFF" descr=""/>
              <p:cNvPicPr/>
              <p:nvPr/>
            </p:nvPicPr>
            <p:blipFill>
              <a:blip r:embed="rId18"/>
              <a:stretch/>
            </p:blipFill>
            <p:spPr>
              <a:xfrm>
                <a:off x="873000" y="5302080"/>
                <a:ext cx="3473640" cy="54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textA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99120" y="5308560"/>
                <a:ext cx="3502080" cy="67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f4m" descr=""/>
              <p:cNvPicPr/>
              <p:nvPr/>
            </p:nvPicPr>
            <p:blipFill>
              <a:blip r:embed="rId20"/>
              <a:stretch/>
            </p:blipFill>
            <p:spPr>
              <a:xfrm>
                <a:off x="4457880" y="4229280"/>
                <a:ext cx="4547880" cy="1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"/>
              <p:cNvSpPr/>
              <p:nvPr/>
            </p:nvSpPr>
            <p:spPr>
              <a:xfrm>
                <a:off x="422280" y="4338720"/>
                <a:ext cx="42840" cy="4284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88" name="main" descr=""/>
            <p:cNvPicPr/>
            <p:nvPr/>
          </p:nvPicPr>
          <p:blipFill>
            <a:blip r:embed="rId21"/>
            <a:stretch/>
          </p:blipFill>
          <p:spPr>
            <a:xfrm>
              <a:off x="4541760" y="4327560"/>
              <a:ext cx="17640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9" name=""/>
          <p:cNvSpPr/>
          <p:nvPr/>
        </p:nvSpPr>
        <p:spPr>
          <a:xfrm>
            <a:off x="485640" y="638820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Lexico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34000" y="400068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438800" y="2965320"/>
            <a:ext cx="0" cy="217656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415440" y="3946680"/>
            <a:ext cx="4349880" cy="365040"/>
            <a:chOff x="415440" y="3946680"/>
            <a:chExt cx="4349880" cy="365040"/>
          </a:xfrm>
        </p:grpSpPr>
        <p:sp>
          <p:nvSpPr>
            <p:cNvPr id="593" name=""/>
            <p:cNvSpPr/>
            <p:nvPr/>
          </p:nvSpPr>
          <p:spPr>
            <a:xfrm flipH="1">
              <a:off x="415440" y="3956040"/>
              <a:ext cx="434988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434520" y="3946680"/>
              <a:ext cx="4318560" cy="365040"/>
              <a:chOff x="434520" y="3946680"/>
              <a:chExt cx="4318560" cy="365040"/>
            </a:xfrm>
          </p:grpSpPr>
          <p:sp>
            <p:nvSpPr>
              <p:cNvPr id="595" name=""/>
              <p:cNvSpPr/>
              <p:nvPr/>
            </p:nvSpPr>
            <p:spPr>
              <a:xfrm flipH="1">
                <a:off x="434520" y="3946680"/>
                <a:ext cx="3240" cy="32688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49840" y="3952800"/>
                <a:ext cx="3240" cy="35892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97" name="New-85" descr=""/>
          <p:cNvPicPr/>
          <p:nvPr/>
        </p:nvPicPr>
        <p:blipFill>
          <a:blip r:embed="rId22"/>
          <a:stretch/>
        </p:blipFill>
        <p:spPr>
          <a:xfrm>
            <a:off x="165240" y="6388200"/>
            <a:ext cx="35388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143000" y="0"/>
            <a:ext cx="77724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Etique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359000" y="914400"/>
            <a:ext cx="778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La prise en compte de catégorisations </a:t>
            </a:r>
            <a:br>
              <a:rPr sz="2400"/>
            </a:b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morpho-syntaxiques, sémantiques, etc.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371600" y="210816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ffff"/>
                </a:solidFill>
                <a:latin typeface="Tahoma"/>
              </a:rPr>
              <a:t>Exemple :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      REFUSE {CAT = N, NUM = SING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(to)</a:t>
            </a: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EFUSE {CAT = INF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10776600">
            <a:off x="684000" y="1434600"/>
            <a:ext cx="48528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cc"/>
                </a:solidFill>
                <a:latin typeface="Tahoma"/>
              </a:rPr>
              <a:t>TreeTag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02320" y="2095560"/>
            <a:ext cx="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603840" y="2095560"/>
            <a:ext cx="2349720" cy="998280"/>
            <a:chOff x="6603840" y="2095560"/>
            <a:chExt cx="2349720" cy="998280"/>
          </a:xfrm>
        </p:grpSpPr>
        <p:sp>
          <p:nvSpPr>
            <p:cNvPr id="604" name=""/>
            <p:cNvSpPr/>
            <p:nvPr/>
          </p:nvSpPr>
          <p:spPr>
            <a:xfrm>
              <a:off x="6603840" y="2095560"/>
              <a:ext cx="20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cccff"/>
                  </a:solidFill>
                  <a:latin typeface="Tahoma"/>
                </a:rPr>
                <a:t>ord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03840" y="2451240"/>
              <a:ext cx="234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cccff"/>
                  </a:solidFill>
                  <a:latin typeface="Tahoma"/>
                </a:rPr>
                <a:t>décliner, écarter, etc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892600" y="1760400"/>
            <a:ext cx="9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ngl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02040" y="17478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Franç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7372080" y="3557520"/>
            <a:ext cx="1181160" cy="1320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74880" y="44467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1150920" y="5099040"/>
            <a:ext cx="635040" cy="3808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199040" y="621828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Traductions de ces phrases dans le volet franç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283520" y="40273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ahoma"/>
              </a:rPr>
              <a:t>déch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43120" y="3618000"/>
            <a:ext cx="3009600" cy="246060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70920" y="5043600"/>
            <a:ext cx="139680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Tahoma"/>
              </a:rPr>
              <a:t>ref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Tahoma"/>
              </a:rPr>
              <a:t>décli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Tahoma"/>
              </a:rPr>
              <a:t>écar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80920" y="363384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ahoma"/>
              </a:rPr>
              <a:t>ref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84160" y="3944880"/>
            <a:ext cx="17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ahoma"/>
              </a:rPr>
              <a:t>{N} </a:t>
            </a:r>
            <a:r>
              <a:rPr b="0" i="1" lang="fr-FR" sz="1800" spc="-1" strike="noStrike">
                <a:solidFill>
                  <a:srgbClr val="ff3300"/>
                </a:solidFill>
                <a:latin typeface="Tahoma"/>
              </a:rPr>
              <a:t>refuse t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182000" y="3112920"/>
            <a:ext cx="148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cc"/>
                </a:solidFill>
                <a:latin typeface="Tahoma"/>
              </a:rPr>
              <a:t>Spécifici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54360" y="63374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ahoma"/>
              </a:rPr>
              <a:t>démocrat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43000" y="6248520"/>
            <a:ext cx="215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hrases en anglais contenant le nom « refuse 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49360" y="5702400"/>
            <a:ext cx="74304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7400" y="4356000"/>
            <a:ext cx="53964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40080" y="457200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536840" y="5067360"/>
            <a:ext cx="3999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89040" y="4152960"/>
            <a:ext cx="107316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68560" y="4356000"/>
            <a:ext cx="20952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01720" y="4572000"/>
            <a:ext cx="74304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55600" y="5702400"/>
            <a:ext cx="74304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16200" y="5423040"/>
            <a:ext cx="74268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30600" y="54356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19240" y="506736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155600" y="54356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460520" y="54356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78240" y="506736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362320" y="5054760"/>
            <a:ext cx="74268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77760" y="3962520"/>
            <a:ext cx="2692440" cy="927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84160" y="49737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Tahoma"/>
              </a:rPr>
              <a:t>{Inf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65160" y="4991040"/>
            <a:ext cx="2692440" cy="9270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4402080" y="5086440"/>
            <a:ext cx="635040" cy="3808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94280" y="3605040"/>
            <a:ext cx="3009960" cy="24609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600880" y="5689440"/>
            <a:ext cx="742680" cy="1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08560" y="4343400"/>
            <a:ext cx="53964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91240" y="455940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788000" y="5054760"/>
            <a:ext cx="3999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40560" y="4140360"/>
            <a:ext cx="107316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419720" y="434340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4559400"/>
            <a:ext cx="74304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06760" y="5689440"/>
            <a:ext cx="743040" cy="1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67360" y="5410080"/>
            <a:ext cx="743040" cy="1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981760" y="54230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270400" y="505476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06760" y="54230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711680" y="54230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629400" y="505476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13480" y="5041800"/>
            <a:ext cx="743040" cy="1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29280" y="3949560"/>
            <a:ext cx="2692080" cy="927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216320" y="4978440"/>
            <a:ext cx="2692440" cy="9270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866960" y="3327480"/>
            <a:ext cx="102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30720" y="3327480"/>
            <a:ext cx="11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323040" y="3484440"/>
            <a:ext cx="1576440" cy="563760"/>
          </a:xfrm>
          <a:custGeom>
            <a:avLst/>
            <a:gdLst>
              <a:gd name="textAreaLeft" fmla="*/ 275760 w 1576440"/>
              <a:gd name="textAreaRight" fmla="*/ 1143000 w 1576440"/>
              <a:gd name="textAreaTop" fmla="*/ 75240 h 563760"/>
              <a:gd name="textAreaBottom" fmla="*/ 4885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041640" y="4222800"/>
            <a:ext cx="279360" cy="21589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70240" y="360828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5400000">
            <a:off x="7384680" y="4890960"/>
            <a:ext cx="1181160" cy="13208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705720" y="5587920"/>
            <a:ext cx="774720" cy="0"/>
          </a:xfrm>
          <a:prstGeom prst="line">
            <a:avLst/>
          </a:prstGeom>
          <a:ln w="28440">
            <a:solidFill>
              <a:srgbClr val="96969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56520" y="4210200"/>
            <a:ext cx="279360" cy="21589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230480" y="717480"/>
            <a:ext cx="76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Perspectives ouvertes par l’</a:t>
            </a:r>
            <a:r>
              <a:rPr b="0" lang="fr-FR" sz="3600" spc="-1" strike="noStrike">
                <a:solidFill>
                  <a:srgbClr val="6666ff"/>
                </a:solidFill>
                <a:latin typeface="Times New Roman"/>
              </a:rPr>
              <a:t>approche topographiqu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du </a:t>
            </a:r>
            <a:r>
              <a:rPr b="1" i="1" lang="fr-FR" sz="3600" spc="-1" strike="noStrike">
                <a:solidFill>
                  <a:srgbClr val="00cccc"/>
                </a:solidFill>
                <a:latin typeface="Times New Roman"/>
              </a:rPr>
              <a:t>bi-text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81240" y="2433600"/>
            <a:ext cx="8028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igation interactive dans les textes parallèl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érages automatiques d’équivalences de traduction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yse de structures lexicales parallèl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thèse d’information bi-textuell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17520" y="2433600"/>
            <a:ext cx="7355160" cy="3265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56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us avons défini une</a:t>
            </a:r>
            <a:r>
              <a:rPr b="0" lang="fr-M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roche qui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et la description automatique de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rrespondances lexicales multiple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s les corpus parallè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M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tte approch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se sur les ressources construites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utomatiquemen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à base de corpu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uyée sur la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représentation topographi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textes alignés au niveau de la phrase, cette approche offre à l’utilisateur de nouveaux moyens informatisés pour explorer la structure des équivalences lex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54080" y="1092240"/>
            <a:ext cx="777240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« Il est maintenant possible d ’enregistrer et de manipuler par ordinateur des masses pratiquement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illimitées de textes… Compte tenu de l ’évolution récente en informatique, tout indique en effet que les traducteurs pourront bientôt accéder facilement à de très vastes corpus bilingues contenant leurs propres traductions et celles de leurs collègues. 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cccc"/>
                </a:solidFill>
                <a:latin typeface="Times New Roman"/>
              </a:rPr>
              <a:t>ISABELLE Pierre et WARWICK-ARMSTRONG Susan, 199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cccc"/>
                </a:solidFill>
                <a:latin typeface="Times New Roman"/>
              </a:rPr>
              <a:t>Les corpus bilingues : une nouvelle ressource pour le traducteur. In Bouillon, P. et Clas, A., éditeurs,  </a:t>
            </a:r>
            <a:r>
              <a:rPr b="0" i="1" lang="fr-FR" sz="1600" spc="-1" strike="noStrike">
                <a:solidFill>
                  <a:srgbClr val="00cccc"/>
                </a:solidFill>
                <a:latin typeface="Times New Roman"/>
              </a:rPr>
              <a:t>La Traductique</a:t>
            </a:r>
            <a:r>
              <a:rPr b="0" lang="fr-FR" sz="1600" spc="-1" strike="noStrike">
                <a:solidFill>
                  <a:srgbClr val="00cccc"/>
                </a:solidFill>
                <a:latin typeface="Times New Roman"/>
              </a:rPr>
              <a:t>. Montréal : Les Presses de l’Université de Montréal, 288-306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0666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 corpus </a:t>
            </a:r>
            <a:r>
              <a:rPr b="0" i="1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nvention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a été constitué à partir de la</a:t>
            </a:r>
            <a:r>
              <a:rPr b="0" i="1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Convention de sauvegarde des Droits de l’Homme et des libertés fondamental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, d'une douzaine de protocoles, et d’une série d’arrêts rendus par la Cour européenne des Droits de l’Homme de Strasbourg en 199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haque volet du corpus (français et anglais) compte approximativement 300 000 mots graphiqu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3505320"/>
            <a:ext cx="3733560" cy="2851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La chambre du conseil se compose des membres qui ont siégé au procè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Dans sa réponse , le requérant confirma qu'il était incapable de fournir une quelconque caution pour les frais à exposer en app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Persistant à affirmer que le procès avait été une </a:t>
            </a:r>
            <a:r>
              <a:rPr b="0" i="1" lang="fr-FR" sz="1800" spc="-1" strike="noStrike">
                <a:solidFill>
                  <a:srgbClr val="3333ff"/>
                </a:solidFill>
                <a:latin typeface="Times New Roman"/>
              </a:rPr>
              <a:t>parodie de justice</a:t>
            </a: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, il déclina l'off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519360"/>
            <a:ext cx="373392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The review chamber shall consist of the judges who have dealt with the case at the t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In his reply the applicant confirmed that he was unable to provide any security for the costs in the appeal proceedings and , maintaining that the trial had been a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travesty of justice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, declined the off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352680"/>
            <a:ext cx="876600" cy="216000"/>
          </a:xfrm>
          <a:custGeom>
            <a:avLst/>
            <a:gdLst>
              <a:gd name="textAreaLeft" fmla="*/ 153360 w 876600"/>
              <a:gd name="textAreaRight" fmla="*/ 635760 w 8766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0800000">
            <a:off x="4648320" y="6324480"/>
            <a:ext cx="876240" cy="216000"/>
          </a:xfrm>
          <a:custGeom>
            <a:avLst/>
            <a:gdLst>
              <a:gd name="textAreaLeft" fmla="*/ 153360 w 876240"/>
              <a:gd name="textAreaRight" fmla="*/ 635400 w 8762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3048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3048120"/>
            <a:ext cx="19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190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xicograph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erminolo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nseignement des langues étrangè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Recherche d’information multiling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430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s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domaines d’applicatio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799160" y="3402000"/>
            <a:ext cx="45864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68560" y="2900520"/>
            <a:ext cx="363060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La chambre du conseil se compose des membres qui ont siégé au procè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2900520"/>
            <a:ext cx="363204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The review chamber shall consist of the judges who have dealt with the case at the t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68560" y="4146480"/>
            <a:ext cx="3630600" cy="2269440"/>
            <a:chOff x="1168560" y="4146480"/>
            <a:chExt cx="3630600" cy="2269440"/>
          </a:xfrm>
        </p:grpSpPr>
        <p:sp>
          <p:nvSpPr>
            <p:cNvPr id="166" name=""/>
            <p:cNvSpPr/>
            <p:nvPr/>
          </p:nvSpPr>
          <p:spPr>
            <a:xfrm>
              <a:off x="1168560" y="4146480"/>
              <a:ext cx="363060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100000"/>
                </a:lnSpc>
                <a:spcAft>
                  <a:spcPts val="1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ff"/>
                  </a:solidFill>
                  <a:latin typeface="Times New Roman"/>
                </a:rPr>
                <a:t>Dans sa réponse , le requérant confirma qu'il était incapable de fournir une quelconque caution pour les frais à exposer en appel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68560" y="5499000"/>
              <a:ext cx="3630600" cy="916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ff"/>
                  </a:solidFill>
                  <a:latin typeface="Times New Roman"/>
                </a:rPr>
                <a:t>Persistant à affirmer que le procès avait été une </a:t>
              </a:r>
              <a:r>
                <a:rPr b="0" i="1" lang="fr-FR" sz="1800" spc="-1" strike="noStrike">
                  <a:solidFill>
                    <a:srgbClr val="3333ff"/>
                  </a:solidFill>
                  <a:latin typeface="Times New Roman"/>
                </a:rPr>
                <a:t>parodie de justice</a:t>
              </a:r>
              <a:r>
                <a:rPr b="0" lang="fr-FR" sz="1800" spc="-1" strike="noStrike">
                  <a:solidFill>
                    <a:srgbClr val="3333ff"/>
                  </a:solidFill>
                  <a:latin typeface="Times New Roman"/>
                </a:rPr>
                <a:t>, il déclina l'offre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00600" y="4757400"/>
            <a:ext cx="457200" cy="1235520"/>
            <a:chOff x="4800600" y="4757400"/>
            <a:chExt cx="457200" cy="1235520"/>
          </a:xfrm>
        </p:grpSpPr>
        <p:sp>
          <p:nvSpPr>
            <p:cNvPr id="169" name=""/>
            <p:cNvSpPr/>
            <p:nvPr/>
          </p:nvSpPr>
          <p:spPr>
            <a:xfrm flipV="1">
              <a:off x="5028840" y="5310360"/>
              <a:ext cx="228960" cy="3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800600" y="5989320"/>
              <a:ext cx="228960" cy="3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0600" y="4757400"/>
              <a:ext cx="228960" cy="3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29560" y="4759200"/>
              <a:ext cx="0" cy="1231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257800" y="4400640"/>
            <a:ext cx="3632040" cy="201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In his reply the applicant confirmed that he was unable to provide any security for the costs in the appeal proceedings and , maintaining that the trial had been a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travesty of justice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, declined the off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03320" y="838080"/>
            <a:ext cx="78865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a recherche dans le domaine de l’alignement a montré que le repérage automatique des correspondances est relativement simple pour les unités de texte relativement étendues (chapitres, sections, articles, paragraphes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’utilisation d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méthodes probabilist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a permis des avancées rapides dans l’alignement des phr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68560" y="0"/>
            <a:ext cx="8140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0" i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l’alignement des phr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201924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es mots et les syntagmes des text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et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</a:rPr>
              <a:t>cible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ervent de base à la formation d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</a:rPr>
              <a:t>unités minimales d’équivalences de tradu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a recherche automatique de segments de traduction équivalents dans les phrases présente une double difficulté car il faut tenir compte à la fois de la structure des unités de chacun des textes et des liens de correspondances qui existent entre eux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431640"/>
            <a:ext cx="78487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br>
              <a:rPr sz="4400"/>
            </a:br>
            <a:r>
              <a:rPr b="0" lang="fr-FR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L’alignement des mots et des syntagmes :</a:t>
            </a:r>
            <a:br>
              <a:rPr sz="2800"/>
            </a:br>
            <a:r>
              <a:rPr b="0" i="1" lang="fr-FR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</a:rPr>
              <a:t>les problè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complex" descr=""/>
          <p:cNvPicPr/>
          <p:nvPr/>
        </p:nvPicPr>
        <p:blipFill>
          <a:blip r:embed="rId1"/>
          <a:stretch/>
        </p:blipFill>
        <p:spPr>
          <a:xfrm>
            <a:off x="314280" y="4500720"/>
            <a:ext cx="8829720" cy="2103120"/>
          </a:xfrm>
          <a:prstGeom prst="rect">
            <a:avLst/>
          </a:prstGeom>
          <a:ln w="1584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244520" y="0"/>
            <a:ext cx="56642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ncordanciers parallè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3352680"/>
            <a:ext cx="4354560" cy="327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'accusé a droit à être informé non seulement d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3333ff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is aussi de leur qualification juridique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agraphe 7 ne modifiait ni le chef d'accusation ni l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3333ff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paragraphes qui suivent se rapportent au droit tel qu'il se présentait à l'époque d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3333ff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3352680"/>
            <a:ext cx="4354560" cy="327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erson charged with a criminal offence was entitled to be informed not only of th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ff3300"/>
                </a:solidFill>
                <a:uFillTx/>
                <a:latin typeface="Times New Roman"/>
              </a:rPr>
              <a:t>material facts alleged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gainst hi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ut also of their legal classification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agraph 7 had altered neither the charge nor th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ff3300"/>
                </a:solidFill>
                <a:uFillTx/>
                <a:latin typeface="Times New Roman"/>
              </a:rPr>
              <a:t>facts constituting the alleged offence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ollowing relates to the law as  it stood at the time of th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ff3300"/>
                </a:solidFill>
                <a:uFillTx/>
                <a:latin typeface="Times New Roman"/>
              </a:rPr>
              <a:t>events complained of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28600" y="4648320"/>
            <a:ext cx="8774280" cy="0"/>
            <a:chOff x="228600" y="4648320"/>
            <a:chExt cx="8774280" cy="0"/>
          </a:xfrm>
        </p:grpSpPr>
        <p:sp>
          <p:nvSpPr>
            <p:cNvPr id="183" name=""/>
            <p:cNvSpPr/>
            <p:nvPr/>
          </p:nvSpPr>
          <p:spPr>
            <a:xfrm>
              <a:off x="4648320" y="4648320"/>
              <a:ext cx="4354560" cy="0"/>
            </a:xfrm>
            <a:prstGeom prst="line">
              <a:avLst/>
            </a:prstGeom>
            <a:ln w="3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4648320"/>
              <a:ext cx="4354560" cy="0"/>
            </a:xfrm>
            <a:prstGeom prst="line">
              <a:avLst/>
            </a:prstGeom>
            <a:ln w="3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8600" y="5562720"/>
            <a:ext cx="8774280" cy="0"/>
            <a:chOff x="228600" y="5562720"/>
            <a:chExt cx="8774280" cy="0"/>
          </a:xfrm>
        </p:grpSpPr>
        <p:sp>
          <p:nvSpPr>
            <p:cNvPr id="186" name=""/>
            <p:cNvSpPr/>
            <p:nvPr/>
          </p:nvSpPr>
          <p:spPr>
            <a:xfrm>
              <a:off x="228600" y="5562720"/>
              <a:ext cx="4354560" cy="0"/>
            </a:xfrm>
            <a:prstGeom prst="line">
              <a:avLst/>
            </a:prstGeom>
            <a:ln w="3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5562720"/>
              <a:ext cx="4354560" cy="0"/>
            </a:xfrm>
            <a:prstGeom prst="line">
              <a:avLst/>
            </a:prstGeom>
            <a:ln w="3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28600" y="2209680"/>
            <a:ext cx="4648320" cy="1067040"/>
            <a:chOff x="228600" y="2209680"/>
            <a:chExt cx="4648320" cy="1067040"/>
          </a:xfrm>
        </p:grpSpPr>
        <p:pic>
          <p:nvPicPr>
            <p:cNvPr id="189" name="rech" descr=""/>
            <p:cNvPicPr/>
            <p:nvPr/>
          </p:nvPicPr>
          <p:blipFill>
            <a:blip r:embed="rId1"/>
            <a:stretch/>
          </p:blipFill>
          <p:spPr>
            <a:xfrm>
              <a:off x="228600" y="2209680"/>
              <a:ext cx="4648320" cy="106704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90" name=""/>
            <p:cNvSpPr/>
            <p:nvPr/>
          </p:nvSpPr>
          <p:spPr>
            <a:xfrm>
              <a:off x="380880" y="2819520"/>
              <a:ext cx="2743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04920" y="2743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aits incrimin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bouton" descr=""/>
          <p:cNvPicPr/>
          <p:nvPr/>
        </p:nvPicPr>
        <p:blipFill>
          <a:blip r:embed="rId2"/>
          <a:stretch/>
        </p:blipFill>
        <p:spPr>
          <a:xfrm>
            <a:off x="3544920" y="2602080"/>
            <a:ext cx="1181160" cy="309240"/>
          </a:xfrm>
          <a:prstGeom prst="rect">
            <a:avLst/>
          </a:prstGeom>
          <a:ln w="3240">
            <a:solidFill>
              <a:srgbClr val="b2b2b2"/>
            </a:solidFill>
            <a:miter/>
          </a:ln>
        </p:spPr>
      </p:pic>
      <p:grpSp>
        <p:nvGrpSpPr>
          <p:cNvPr id="193" name=""/>
          <p:cNvGrpSpPr/>
          <p:nvPr/>
        </p:nvGrpSpPr>
        <p:grpSpPr>
          <a:xfrm>
            <a:off x="260280" y="4648320"/>
            <a:ext cx="8774280" cy="0"/>
            <a:chOff x="260280" y="4648320"/>
            <a:chExt cx="8774280" cy="0"/>
          </a:xfrm>
        </p:grpSpPr>
        <p:sp>
          <p:nvSpPr>
            <p:cNvPr id="194" name=""/>
            <p:cNvSpPr/>
            <p:nvPr/>
          </p:nvSpPr>
          <p:spPr>
            <a:xfrm>
              <a:off x="4680000" y="4648320"/>
              <a:ext cx="435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0280" y="4648320"/>
              <a:ext cx="435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60280" y="5562720"/>
            <a:ext cx="8774280" cy="0"/>
            <a:chOff x="260280" y="5562720"/>
            <a:chExt cx="8774280" cy="0"/>
          </a:xfrm>
        </p:grpSpPr>
        <p:sp>
          <p:nvSpPr>
            <p:cNvPr id="197" name=""/>
            <p:cNvSpPr/>
            <p:nvPr/>
          </p:nvSpPr>
          <p:spPr>
            <a:xfrm>
              <a:off x="4680000" y="5562720"/>
              <a:ext cx="435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0280" y="5562720"/>
              <a:ext cx="435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28600" y="81000"/>
            <a:ext cx="8789760" cy="4572000"/>
            <a:chOff x="228600" y="81000"/>
            <a:chExt cx="8789760" cy="4572000"/>
          </a:xfrm>
        </p:grpSpPr>
        <p:sp>
          <p:nvSpPr>
            <p:cNvPr id="200" name=""/>
            <p:cNvSpPr/>
            <p:nvPr/>
          </p:nvSpPr>
          <p:spPr>
            <a:xfrm>
              <a:off x="231840" y="81000"/>
              <a:ext cx="8777160" cy="45720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1" name="adress" descr=""/>
            <p:cNvPicPr/>
            <p:nvPr/>
          </p:nvPicPr>
          <p:blipFill>
            <a:blip r:embed="rId3"/>
            <a:stretch/>
          </p:blipFill>
          <p:spPr>
            <a:xfrm>
              <a:off x="228600" y="108000"/>
              <a:ext cx="8789760" cy="35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2" name=""/>
            <p:cNvGrpSpPr/>
            <p:nvPr/>
          </p:nvGrpSpPr>
          <p:grpSpPr>
            <a:xfrm>
              <a:off x="1206720" y="560520"/>
              <a:ext cx="6994800" cy="3833640"/>
              <a:chOff x="1206720" y="560520"/>
              <a:chExt cx="6994800" cy="3833640"/>
            </a:xfrm>
          </p:grpSpPr>
          <p:pic>
            <p:nvPicPr>
              <p:cNvPr id="203" name="transl" descr=""/>
              <p:cNvPicPr/>
              <p:nvPr/>
            </p:nvPicPr>
            <p:blipFill>
              <a:blip r:embed="rId4"/>
              <a:stretch/>
            </p:blipFill>
            <p:spPr>
              <a:xfrm>
                <a:off x="1206720" y="560520"/>
                <a:ext cx="6994800" cy="383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a_vista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5400" y="3456000"/>
                <a:ext cx="2174400" cy="704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5" name="phrase" descr=""/>
            <p:cNvPicPr/>
            <p:nvPr/>
          </p:nvPicPr>
          <p:blipFill>
            <a:blip r:embed="rId6"/>
            <a:stretch/>
          </p:blipFill>
          <p:spPr>
            <a:xfrm>
              <a:off x="1436040" y="1816200"/>
              <a:ext cx="3511440" cy="63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4114800" y="871560"/>
            <a:ext cx="1295280" cy="3222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871560"/>
            <a:ext cx="1524240" cy="3222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1880" y="33012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3300"/>
                </a:solidFill>
                <a:latin typeface="Times New Roman"/>
              </a:rPr>
              <a:t>!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41200" y="1955880"/>
            <a:ext cx="1168560" cy="28573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383000" y="4014720"/>
            <a:ext cx="2033640" cy="676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21120" y="1770120"/>
            <a:ext cx="1175040" cy="739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56040" y="1833480"/>
            <a:ext cx="1114560" cy="5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ocument à tradu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95960" y="2981160"/>
            <a:ext cx="2033280" cy="676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8920" y="2994120"/>
            <a:ext cx="1930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marL="101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ule de tra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0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base d’exe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43440" y="5446800"/>
            <a:ext cx="1176480" cy="11080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6040" y="5605560"/>
            <a:ext cx="1314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ocument tradu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0400" y="4121280"/>
            <a:ext cx="15699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ule d’é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66840" y="2735280"/>
            <a:ext cx="1479600" cy="142560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3246480"/>
            <a:ext cx="1646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RPUS DE REFER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56040" y="1822320"/>
            <a:ext cx="1114560" cy="5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ocument à tradu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87520" y="5489640"/>
            <a:ext cx="1466640" cy="78408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86040" y="4587840"/>
            <a:ext cx="939600" cy="79524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47840" y="5489640"/>
            <a:ext cx="1144800" cy="79524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60800" y="5762520"/>
            <a:ext cx="1299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ctionnai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74920" y="5680080"/>
            <a:ext cx="1647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ases de données terminologiq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25640" y="4789440"/>
            <a:ext cx="1028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xiq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iling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99200" y="2901960"/>
            <a:ext cx="1260720" cy="97308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06400" y="2451240"/>
            <a:ext cx="605160" cy="925200"/>
          </a:xfrm>
          <a:custGeom>
            <a:avLst/>
            <a:gdLst>
              <a:gd name="textAreaLeft" fmla="*/ 81000 w 605160"/>
              <a:gd name="textAreaRight" fmla="*/ 524160 w 605160"/>
              <a:gd name="textAreaTop" fmla="*/ 161640 h 925200"/>
              <a:gd name="textAreaBottom" fmla="*/ 670680 h 92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65280" y="1666800"/>
            <a:ext cx="938160" cy="83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28640" y="1727280"/>
            <a:ext cx="939960" cy="830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06400" y="1785960"/>
            <a:ext cx="938520" cy="83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89120" y="1878120"/>
            <a:ext cx="1149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rpus aligné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3440" y="2486160"/>
            <a:ext cx="0" cy="3016080"/>
          </a:xfrm>
          <a:prstGeom prst="line">
            <a:avLst/>
          </a:prstGeom>
          <a:ln cap="rnd" w="9360">
            <a:solidFill>
              <a:srgbClr val="00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3440" y="5086440"/>
            <a:ext cx="269640" cy="0"/>
          </a:xfrm>
          <a:prstGeom prst="line">
            <a:avLst/>
          </a:prstGeom>
          <a:ln cap="rnd" w="9360">
            <a:solidFill>
              <a:srgbClr val="00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86600" y="3021120"/>
            <a:ext cx="13510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chiers</a:t>
            </a:r>
            <a:r>
              <a:rPr b="0" lang="fr-F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’ex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59520" y="2657520"/>
            <a:ext cx="430200" cy="23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59520" y="3718080"/>
            <a:ext cx="430200" cy="23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24600" y="4794120"/>
            <a:ext cx="430200" cy="490680"/>
          </a:xfrm>
          <a:prstGeom prst="downArrow">
            <a:avLst>
              <a:gd name="adj1" fmla="val 50000"/>
              <a:gd name="adj2" fmla="val 2851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963880" y="4397040"/>
            <a:ext cx="1252440" cy="522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911320" y="4730760"/>
            <a:ext cx="1252800" cy="7128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821040" y="4762440"/>
            <a:ext cx="669960" cy="6652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3933200">
            <a:off x="6402240" y="4376520"/>
            <a:ext cx="996840" cy="507960"/>
          </a:xfrm>
          <a:custGeom>
            <a:avLst/>
            <a:gdLst>
              <a:gd name="textAreaLeft" fmla="*/ 174240 w 996840"/>
              <a:gd name="textAreaRight" fmla="*/ 722880 w 99684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18400" y="4995720"/>
            <a:ext cx="1244520" cy="10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raducteur hum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12120" y="4081320"/>
            <a:ext cx="0" cy="792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99320" y="3970440"/>
            <a:ext cx="0" cy="74448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5120" y="3259080"/>
            <a:ext cx="41112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85120" y="3448080"/>
            <a:ext cx="41112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53000" y="3211560"/>
            <a:ext cx="531720" cy="347760"/>
          </a:xfrm>
          <a:custGeom>
            <a:avLst/>
            <a:gdLst>
              <a:gd name="textAreaLeft" fmla="*/ 82800 w 531720"/>
              <a:gd name="textAreaRight" fmla="*/ 465480 w 531720"/>
              <a:gd name="textAreaTop" fmla="*/ 86760 h 347760"/>
              <a:gd name="textAreaBottom" fmla="*/ 261000 h 347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89120" y="533520"/>
            <a:ext cx="8140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rchitecture d’un systè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mémoire de traduction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6:40:13Z</dcterms:created>
  <dc:creator>Poirot Maria</dc:creator>
  <dc:description/>
  <dc:language>en-US</dc:language>
  <cp:lastModifiedBy>Poirot Maria</cp:lastModifiedBy>
  <dcterms:modified xsi:type="dcterms:W3CDTF">2004-06-17T19:09:26Z</dcterms:modified>
  <cp:revision>154</cp:revision>
  <dc:subject/>
  <dc:title>L’alignement textométrique des unités lexicales à correspondances multiples dans les corpus parallèles</dc:title>
</cp:coreProperties>
</file>