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53.gif" ContentType="image/gif"/>
  <Override PartName="/ppt/media/image5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56C-9D19-4764-9FFE-9798A0BE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791-1065-4651-BF46-54EEC8F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C42-A5C6-4798-AFFD-F1CB9ED8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C52-6DFC-4938-86E0-5FFD1F04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A2F-CB14-4477-9E3F-4C229183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3DA6-EE84-47D3-ABC9-544364DC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E54-07B1-41EB-88D8-6FCFD44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E05C-6DAB-45AC-B055-F676F266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6767-108C-455D-9751-72B993C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A38-FA97-4337-9566-E6A9CDCF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A9E8-29BD-458A-A53E-B3C54B5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687-A356-49DE-8C01-37FF5C0A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197-FB35-4A42-B591-D28C303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951F-0EDF-42CB-83ED-271CBA9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33D-7434-4FDA-B4D1-6FE7CC2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CC9-4835-433D-B74E-111C2E00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EA33-CADF-4925-8A76-F4A4DA84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72D-DB32-4308-B6AA-2366298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FD6-0AAA-4F34-9124-278CACB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1C8-3118-496E-B0FE-29A918A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F3C-E598-4E90-8FDE-6A091D4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D32-ADAD-4587-A228-EFB955F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230-CA97-4B88-99AF-18CB5B2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D85-9C67-47BE-9435-A14746F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4715-54BD-4E54-91CB-7752F17D099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95B8-F99B-41DF-AFF3-20C0718DEF2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16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1.png"/><Relationship Id="rId23" Type="http://schemas.openxmlformats.org/officeDocument/2006/relationships/image" Target="../media/image20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17.png"/><Relationship Id="rId27" Type="http://schemas.openxmlformats.org/officeDocument/2006/relationships/image" Target="../media/image16.png"/><Relationship Id="rId28" Type="http://schemas.openxmlformats.org/officeDocument/2006/relationships/image" Target="../media/image2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16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16.png"/><Relationship Id="rId20" Type="http://schemas.openxmlformats.org/officeDocument/2006/relationships/image" Target="../media/image23.png"/><Relationship Id="rId21" Type="http://schemas.openxmlformats.org/officeDocument/2006/relationships/image" Target="../media/image22.png"/><Relationship Id="rId22" Type="http://schemas.openxmlformats.org/officeDocument/2006/relationships/image" Target="../media/image24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image" Target="../media/image50.png"/><Relationship Id="rId32" Type="http://schemas.openxmlformats.org/officeDocument/2006/relationships/image" Target="../media/image51.png"/><Relationship Id="rId33" Type="http://schemas.openxmlformats.org/officeDocument/2006/relationships/image" Target="../media/image23.png"/><Relationship Id="rId34" Type="http://schemas.openxmlformats.org/officeDocument/2006/relationships/image" Target="../media/image16.png"/><Relationship Id="rId35" Type="http://schemas.openxmlformats.org/officeDocument/2006/relationships/image" Target="../media/image40.png"/><Relationship Id="rId36" Type="http://schemas.openxmlformats.org/officeDocument/2006/relationships/image" Target="../media/image38.png"/><Relationship Id="rId37" Type="http://schemas.openxmlformats.org/officeDocument/2006/relationships/image" Target="../media/image34.png"/><Relationship Id="rId38" Type="http://schemas.openxmlformats.org/officeDocument/2006/relationships/image" Target="../media/image39.png"/><Relationship Id="rId39" Type="http://schemas.openxmlformats.org/officeDocument/2006/relationships/image" Target="../media/image52.png"/><Relationship Id="rId40" Type="http://schemas.openxmlformats.org/officeDocument/2006/relationships/image" Target="../media/image44.png"/><Relationship Id="rId41" Type="http://schemas.openxmlformats.org/officeDocument/2006/relationships/image" Target="../media/image53.gif"/><Relationship Id="rId4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28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0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29.png"/><Relationship Id="rId17" Type="http://schemas.openxmlformats.org/officeDocument/2006/relationships/image" Target="../media/image21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40.png"/><Relationship Id="rId21" Type="http://schemas.openxmlformats.org/officeDocument/2006/relationships/image" Target="../media/image56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257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Approches quantitatives de l’extraction de ressources traductionnelles à partir de corpus parallèles</a:t>
            </a: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90280" y="3822840"/>
            <a:ext cx="6451560" cy="23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Maria ZIMINA-POIR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A 2290 SYLED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, 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Université de la Sorbonne nouvelle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aris 3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zimina@msh-paris.fr</a:t>
            </a:r>
            <a:r>
              <a:rPr b="0" i="1" lang="fr-FR" sz="30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avi.univ-paris3.fr/ilpga/ed/student/stmz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yline" descr=""/>
          <p:cNvPicPr/>
          <p:nvPr/>
        </p:nvPicPr>
        <p:blipFill>
          <a:blip r:embed="rId1"/>
          <a:stretch/>
        </p:blipFill>
        <p:spPr>
          <a:xfrm flipH="1" rot="10800000">
            <a:off x="1182600" y="3311280"/>
            <a:ext cx="76852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33680" y="22860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extométrie mult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74600" y="1308240"/>
            <a:ext cx="767556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 méthodes quantitatives peuvent être utilisées avec succès pour l’alignement et l’extraction de ressources traductionnelles des corpus parallè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es méthodes reposent entièrement sur des ressources construites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utomatiquement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à base de corpus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Elles utilisent les seules fréquences et les distributions des unités textuelles prises comme points de repère pour l’identification et l’extraction des correspondanc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ur en savoir plus, on consultera le site du group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ADT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ff"/>
                </a:solidFill>
                <a:latin typeface="Arial Narrow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254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371600" y="16765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rincipales caractéristiques lexicomét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2590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15960" y="5641920"/>
            <a:ext cx="144792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63520" y="5641920"/>
            <a:ext cx="251460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92760" y="594360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ffff"/>
                </a:solidFill>
                <a:latin typeface="Times New Roman"/>
              </a:rPr>
              <a:t>correspondances quasi-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163836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ctionnaires des formes graphiques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ançai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anglais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32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1 22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ommiss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39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889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paragraphe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gouvernement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45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72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décis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59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50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article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82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6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ita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85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5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déten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98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14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17440" y="33012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17440" y="1549440"/>
            <a:ext cx="802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respondances quasi-univoques : 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es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41308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équ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7480" y="226044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usages terminolog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governments signatory hereto  F =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èges et immunités            F =  8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 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igh contracting parties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55600" y="207000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2895480"/>
            <a:ext cx="1371600" cy="152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228600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illing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ath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2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36576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circonstances de 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the circumstances of the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un danger d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a risk of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2286000"/>
            <a:ext cx="2362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or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4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274320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rivation of lif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334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ntional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101600" y="2558880"/>
            <a:ext cx="4241520" cy="2492640"/>
            <a:chOff x="1101600" y="2558880"/>
            <a:chExt cx="4241520" cy="2492640"/>
          </a:xfrm>
        </p:grpSpPr>
        <p:sp>
          <p:nvSpPr>
            <p:cNvPr id="337" name=""/>
            <p:cNvSpPr/>
            <p:nvPr/>
          </p:nvSpPr>
          <p:spPr>
            <a:xfrm>
              <a:off x="1371240" y="273996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peti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666ff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complaint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6666ff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matter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lica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eal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101600" y="2558880"/>
              <a:ext cx="4093920" cy="1904760"/>
              <a:chOff x="1101600" y="2558880"/>
              <a:chExt cx="4093920" cy="1904760"/>
            </a:xfrm>
          </p:grpSpPr>
          <p:sp>
            <p:nvSpPr>
              <p:cNvPr id="339" name=""/>
              <p:cNvSpPr/>
              <p:nvPr/>
            </p:nvSpPr>
            <p:spPr>
              <a:xfrm>
                <a:off x="2486520" y="2804040"/>
                <a:ext cx="0" cy="144288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01600" y="2558880"/>
                <a:ext cx="4093920" cy="190476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4606920" y="2379600"/>
            <a:ext cx="4470480" cy="1339920"/>
            <a:chOff x="4606920" y="2379600"/>
            <a:chExt cx="4470480" cy="1339920"/>
          </a:xfrm>
        </p:grpSpPr>
        <p:grpSp>
          <p:nvGrpSpPr>
            <p:cNvPr id="342" name=""/>
            <p:cNvGrpSpPr/>
            <p:nvPr/>
          </p:nvGrpSpPr>
          <p:grpSpPr>
            <a:xfrm>
              <a:off x="4606920" y="2379600"/>
              <a:ext cx="4470480" cy="1339920"/>
              <a:chOff x="4606920" y="2379600"/>
              <a:chExt cx="4470480" cy="1339920"/>
            </a:xfrm>
          </p:grpSpPr>
          <p:sp>
            <p:nvSpPr>
              <p:cNvPr id="343" name=""/>
              <p:cNvSpPr/>
              <p:nvPr/>
            </p:nvSpPr>
            <p:spPr>
              <a:xfrm>
                <a:off x="4606920" y="237960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62600" y="254484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800" spc="-1" strike="noStrike">
                    <a:solidFill>
                      <a:srgbClr val="6666ff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use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6666ff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remedies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080400" y="2558880"/>
              <a:ext cx="0" cy="569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591000" y="2765520"/>
            <a:ext cx="1438200" cy="152280"/>
            <a:chOff x="3591000" y="2765520"/>
            <a:chExt cx="1438200" cy="152280"/>
          </a:xfrm>
        </p:grpSpPr>
        <p:sp>
          <p:nvSpPr>
            <p:cNvPr id="347" name=""/>
            <p:cNvSpPr/>
            <p:nvPr/>
          </p:nvSpPr>
          <p:spPr>
            <a:xfrm>
              <a:off x="3591000" y="2765520"/>
              <a:ext cx="1438200" cy="8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03600" y="2765520"/>
              <a:ext cx="0" cy="152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954320" y="406728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pt7" descr=""/>
          <p:cNvPicPr/>
          <p:nvPr/>
        </p:nvPicPr>
        <p:blipFill>
          <a:blip r:embed="rId1"/>
          <a:stretch/>
        </p:blipFill>
        <p:spPr>
          <a:xfrm>
            <a:off x="1093680" y="1990800"/>
            <a:ext cx="805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pt2" descr=""/>
          <p:cNvPicPr/>
          <p:nvPr/>
        </p:nvPicPr>
        <p:blipFill>
          <a:blip r:embed="rId1"/>
          <a:stretch/>
        </p:blipFill>
        <p:spPr>
          <a:xfrm>
            <a:off x="119556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2888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es de sélection et de classements de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segments répété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our l’appariement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3032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95560" y="2104920"/>
            <a:ext cx="7583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117440" y="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lassification ascendante hiérarchiqu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5920" y="1257480"/>
            <a:ext cx="7975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pliquée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tableaux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lexicaux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profils de ventilation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ch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0" y="4435560"/>
            <a:ext cx="533160" cy="453600"/>
            <a:chOff x="360" y="4435560"/>
            <a:chExt cx="533160" cy="453600"/>
          </a:xfrm>
        </p:grpSpPr>
        <p:sp>
          <p:nvSpPr>
            <p:cNvPr id="361" name=""/>
            <p:cNvSpPr/>
            <p:nvPr/>
          </p:nvSpPr>
          <p:spPr>
            <a:xfrm flipH="1">
              <a:off x="272880" y="487404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2880" y="444780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" y="466092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2600" y="443556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0" y="5149800"/>
            <a:ext cx="533160" cy="453600"/>
            <a:chOff x="360" y="5149800"/>
            <a:chExt cx="533160" cy="453600"/>
          </a:xfrm>
        </p:grpSpPr>
        <p:sp>
          <p:nvSpPr>
            <p:cNvPr id="366" name=""/>
            <p:cNvSpPr/>
            <p:nvPr/>
          </p:nvSpPr>
          <p:spPr>
            <a:xfrm flipH="1">
              <a:off x="272880" y="558828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72880" y="516204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" y="537516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2600" y="514980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60" y="5878440"/>
            <a:ext cx="533160" cy="453600"/>
            <a:chOff x="360" y="5878440"/>
            <a:chExt cx="533160" cy="453600"/>
          </a:xfrm>
        </p:grpSpPr>
        <p:sp>
          <p:nvSpPr>
            <p:cNvPr id="371" name=""/>
            <p:cNvSpPr/>
            <p:nvPr/>
          </p:nvSpPr>
          <p:spPr>
            <a:xfrm flipH="1">
              <a:off x="272880" y="631692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2880" y="589068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60" y="610380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82600" y="587844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65960" y="3927600"/>
            <a:ext cx="2678040" cy="712800"/>
          </a:xfrm>
          <a:noFill/>
          <a:ln w="158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cc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lasses" descr=""/>
          <p:cNvPicPr/>
          <p:nvPr/>
        </p:nvPicPr>
        <p:blipFill>
          <a:blip r:embed="rId1"/>
          <a:stretch/>
        </p:blipFill>
        <p:spPr>
          <a:xfrm>
            <a:off x="95400" y="2097000"/>
            <a:ext cx="9048600" cy="4467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482920" y="1228680"/>
            <a:ext cx="547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: résul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7440" y="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lassification ascendante hiérarch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t de sélectionner pour un sous-ensemble quelconque de phrases du corpus une série d’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textuel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urreprésentées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l est possible d’établir ce genre de diagnostic parallèlement pour les deux volets du corpus biling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7976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4343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30400" y="563868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français contenant la forme « démocrati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03440" y="5613480"/>
            <a:ext cx="179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3809880"/>
            <a:ext cx="38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ccccff"/>
                </a:solidFill>
                <a:latin typeface="Tahoma"/>
                <a:ea typeface="Times New Roman"/>
              </a:rPr>
              <a:t> permet de sélectionner parallèlement pour chacun de ces fragments une série d’unités textuelles particulièrement caractéristi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43480" y="40766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83080" y="4254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56080" y="4686480"/>
            <a:ext cx="425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87720" y="4927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52960" y="4686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32320" y="4076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79840" y="3594240"/>
            <a:ext cx="1396800" cy="520560"/>
          </a:xfrm>
          <a:custGeom>
            <a:avLst/>
            <a:gdLst>
              <a:gd name="textAreaLeft" fmla="*/ 244440 w 1396800"/>
              <a:gd name="textAreaRight" fmla="*/ 1012680 w 139680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36840" y="36576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75120" y="365760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92640" y="4991040"/>
            <a:ext cx="546120" cy="609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2728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39880" y="43308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65440" y="407664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5040" y="4254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8040" y="4686480"/>
            <a:ext cx="425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2640" y="492768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74920" y="4686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54280" y="407664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52120" y="5016600"/>
            <a:ext cx="698760" cy="584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pt12" descr=""/>
          <p:cNvPicPr/>
          <p:nvPr/>
        </p:nvPicPr>
        <p:blipFill>
          <a:blip r:embed="rId1"/>
          <a:stretch/>
        </p:blipFill>
        <p:spPr>
          <a:xfrm>
            <a:off x="411120" y="353052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8480" y="990720"/>
            <a:ext cx="787248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rpus parallèles multilin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emple : le corpus bilingue </a:t>
            </a:r>
            <a:r>
              <a:rPr b="1" i="1" lang="fr-FR" sz="20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français/angla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omaines d’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lignement automatiqu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phr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mots et de syntagmes : problèmes et enje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utils d’aide à la traduction à bas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cordanciers parallè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émoire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pproches quantitatives de corpus parallè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xtométrie multilin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ventil" descr=""/>
          <p:cNvPicPr/>
          <p:nvPr/>
        </p:nvPicPr>
        <p:blipFill>
          <a:blip r:embed="rId1"/>
          <a:stretch/>
        </p:blipFill>
        <p:spPr>
          <a:xfrm>
            <a:off x="1212840" y="1952640"/>
            <a:ext cx="7097760" cy="490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39760" y="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6520" y="81900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(i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11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17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18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19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20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21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22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23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427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428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7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8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439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440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41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42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43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44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45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449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450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9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New-85" descr=""/>
          <p:cNvPicPr/>
          <p:nvPr/>
        </p:nvPicPr>
        <p:blipFill>
          <a:blip r:embed="rId38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463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464" name="ang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fra-sp" descr=""/>
              <p:cNvPicPr/>
              <p:nvPr/>
            </p:nvPicPr>
            <p:blipFill>
              <a:blip r:embed="rId40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6" name="selec" descr=""/>
            <p:cNvPicPr/>
            <p:nvPr/>
          </p:nvPicPr>
          <p:blipFill>
            <a:blip r:embed="rId41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elec" descr=""/>
            <p:cNvPicPr/>
            <p:nvPr/>
          </p:nvPicPr>
          <p:blipFill>
            <a:blip r:embed="rId42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469" name=""/>
            <p:cNvGrpSpPr/>
            <p:nvPr/>
          </p:nvGrpSpPr>
          <p:grpSpPr>
            <a:xfrm>
              <a:off x="139680" y="1314360"/>
              <a:ext cx="8621640" cy="1528920"/>
              <a:chOff x="139680" y="1314360"/>
              <a:chExt cx="8621640" cy="15289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471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3" name=""/>
              <p:cNvSpPr/>
              <p:nvPr/>
            </p:nvSpPr>
            <p:spPr>
              <a:xfrm>
                <a:off x="150840" y="1314360"/>
                <a:ext cx="5220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75160" y="1314360"/>
                <a:ext cx="5256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5" name="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t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7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2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87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9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92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93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94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95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96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97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98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502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503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2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3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514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515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16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17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18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519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520" name="a8_b" descr=""/>
          <p:cNvPicPr/>
          <p:nvPr/>
        </p:nvPicPr>
        <p:blipFill>
          <a:blip r:embed="rId27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521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43000" y="-25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449600" y="1293840"/>
            <a:ext cx="4616640" cy="4971600"/>
            <a:chOff x="4449600" y="1293840"/>
            <a:chExt cx="4616640" cy="4971600"/>
          </a:xfrm>
        </p:grpSpPr>
        <p:grpSp>
          <p:nvGrpSpPr>
            <p:cNvPr id="527" name=""/>
            <p:cNvGrpSpPr/>
            <p:nvPr/>
          </p:nvGrpSpPr>
          <p:grpSpPr>
            <a:xfrm>
              <a:off x="4449600" y="1293840"/>
              <a:ext cx="4616640" cy="4971600"/>
              <a:chOff x="4449600" y="1293840"/>
              <a:chExt cx="4616640" cy="4971600"/>
            </a:xfrm>
          </p:grpSpPr>
          <p:pic>
            <p:nvPicPr>
              <p:cNvPr id="528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129384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2009520"/>
                <a:ext cx="45640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2911320"/>
                <a:ext cx="4556160" cy="55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42080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2" name=""/>
              <p:cNvGrpSpPr/>
              <p:nvPr/>
            </p:nvGrpSpPr>
            <p:grpSpPr>
              <a:xfrm>
                <a:off x="4464000" y="5248080"/>
                <a:ext cx="4602240" cy="1017360"/>
                <a:chOff x="4464000" y="5248080"/>
                <a:chExt cx="4602240" cy="1017360"/>
              </a:xfrm>
            </p:grpSpPr>
            <p:pic>
              <p:nvPicPr>
                <p:cNvPr id="533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64000" y="5248080"/>
                  <a:ext cx="46022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4" name=""/>
                <p:cNvSpPr/>
                <p:nvPr/>
              </p:nvSpPr>
              <p:spPr>
                <a:xfrm>
                  <a:off x="8080560" y="5265000"/>
                  <a:ext cx="5220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504280" y="5352480"/>
                  <a:ext cx="5256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4449600" y="3665160"/>
                <a:ext cx="4548240" cy="183960"/>
                <a:chOff x="4449600" y="3665160"/>
                <a:chExt cx="4548240" cy="183960"/>
              </a:xfrm>
            </p:grpSpPr>
            <p:pic>
              <p:nvPicPr>
                <p:cNvPr id="537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49600" y="3665160"/>
                  <a:ext cx="4548240" cy="18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"/>
                <p:cNvSpPr/>
                <p:nvPr/>
              </p:nvSpPr>
              <p:spPr>
                <a:xfrm>
                  <a:off x="8332560" y="3687120"/>
                  <a:ext cx="52560" cy="5364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8086680" y="5265360"/>
              <a:ext cx="58680" cy="6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05720" y="5351400"/>
              <a:ext cx="60120" cy="6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448160" y="2552760"/>
            <a:ext cx="4621320" cy="3720960"/>
            <a:chOff x="4448160" y="2552760"/>
            <a:chExt cx="4621320" cy="3720960"/>
          </a:xfrm>
        </p:grpSpPr>
        <p:pic>
          <p:nvPicPr>
            <p:cNvPr id="543" name="f4m" descr=""/>
            <p:cNvPicPr/>
            <p:nvPr/>
          </p:nvPicPr>
          <p:blipFill>
            <a:blip r:embed="rId35"/>
            <a:stretch/>
          </p:blipFill>
          <p:spPr>
            <a:xfrm>
              <a:off x="4449600" y="2552760"/>
              <a:ext cx="45482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f9m" descr=""/>
            <p:cNvPicPr/>
            <p:nvPr/>
          </p:nvPicPr>
          <p:blipFill>
            <a:blip r:embed="rId36"/>
            <a:stretch/>
          </p:blipFill>
          <p:spPr>
            <a:xfrm>
              <a:off x="4448160" y="496260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f7m" descr=""/>
            <p:cNvPicPr/>
            <p:nvPr/>
          </p:nvPicPr>
          <p:blipFill>
            <a:blip r:embed="rId37"/>
            <a:stretch/>
          </p:blipFill>
          <p:spPr>
            <a:xfrm>
              <a:off x="4468680" y="4064040"/>
              <a:ext cx="4556160" cy="18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6" name=""/>
            <p:cNvGrpSpPr/>
            <p:nvPr/>
          </p:nvGrpSpPr>
          <p:grpSpPr>
            <a:xfrm>
              <a:off x="4448160" y="5251320"/>
              <a:ext cx="4621320" cy="1022400"/>
              <a:chOff x="4448160" y="5251320"/>
              <a:chExt cx="4621320" cy="1022400"/>
            </a:xfrm>
          </p:grpSpPr>
          <p:pic>
            <p:nvPicPr>
              <p:cNvPr id="547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8160" y="5251320"/>
                <a:ext cx="462132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>
                <a:off x="8078760" y="5267160"/>
                <a:ext cx="58680" cy="60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502480" y="5353200"/>
                <a:ext cx="60480" cy="61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553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cube" descr=""/>
          <p:cNvPicPr/>
          <p:nvPr/>
        </p:nvPicPr>
        <p:blipFill>
          <a:blip r:embed="rId41"/>
          <a:stretch/>
        </p:blipFill>
        <p:spPr>
          <a:xfrm>
            <a:off x="160200" y="6388200"/>
            <a:ext cx="3654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nalyse des résultat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1143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Frq.Tot.=4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80120" y="771480"/>
            <a:ext cx="3771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 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3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03800" y="851040"/>
            <a:ext cx="0" cy="138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85104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9720" y="12826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a5_b" descr=""/>
          <p:cNvPicPr/>
          <p:nvPr/>
        </p:nvPicPr>
        <p:blipFill>
          <a:blip r:embed="rId1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64" name="a4_b" descr=""/>
          <p:cNvPicPr/>
          <p:nvPr/>
        </p:nvPicPr>
        <p:blipFill>
          <a:blip r:embed="rId2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65" name="a3_b" descr=""/>
          <p:cNvPicPr/>
          <p:nvPr/>
        </p:nvPicPr>
        <p:blipFill>
          <a:blip r:embed="rId3"/>
          <a:stretch/>
        </p:blipFill>
        <p:spPr>
          <a:xfrm>
            <a:off x="127080" y="36892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66" name="a2_b" descr=""/>
          <p:cNvPicPr/>
          <p:nvPr/>
        </p:nvPicPr>
        <p:blipFill>
          <a:blip r:embed="rId4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9524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3712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a5" descr=""/>
          <p:cNvPicPr/>
          <p:nvPr/>
        </p:nvPicPr>
        <p:blipFill>
          <a:blip r:embed="rId5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0" name="a3" descr=""/>
          <p:cNvPicPr/>
          <p:nvPr/>
        </p:nvPicPr>
        <p:blipFill>
          <a:blip r:embed="rId6"/>
          <a:stretch/>
        </p:blipFill>
        <p:spPr>
          <a:xfrm>
            <a:off x="139680" y="3689280"/>
            <a:ext cx="4519800" cy="374760"/>
          </a:xfrm>
          <a:prstGeom prst="rect">
            <a:avLst/>
          </a:prstGeom>
          <a:ln w="0">
            <a:noFill/>
          </a:ln>
        </p:spPr>
      </p:pic>
      <p:pic>
        <p:nvPicPr>
          <p:cNvPr id="571" name="a2" descr=""/>
          <p:cNvPicPr/>
          <p:nvPr/>
        </p:nvPicPr>
        <p:blipFill>
          <a:blip r:embed="rId7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2" name="a3_b" descr=""/>
          <p:cNvPicPr/>
          <p:nvPr/>
        </p:nvPicPr>
        <p:blipFill>
          <a:blip r:embed="rId8"/>
          <a:stretch/>
        </p:blipFill>
        <p:spPr>
          <a:xfrm>
            <a:off x="4486320" y="36990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573" name="a2_b" descr=""/>
          <p:cNvPicPr/>
          <p:nvPr/>
        </p:nvPicPr>
        <p:blipFill>
          <a:blip r:embed="rId9"/>
          <a:stretch/>
        </p:blipFill>
        <p:spPr>
          <a:xfrm>
            <a:off x="4457880" y="297036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574" name="a5_b" descr=""/>
          <p:cNvPicPr/>
          <p:nvPr/>
        </p:nvPicPr>
        <p:blipFill>
          <a:blip r:embed="rId10"/>
          <a:stretch/>
        </p:blipFill>
        <p:spPr>
          <a:xfrm>
            <a:off x="4457880" y="458964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575" name="_1" descr=""/>
          <p:cNvPicPr/>
          <p:nvPr/>
        </p:nvPicPr>
        <p:blipFill>
          <a:blip r:embed="rId11"/>
          <a:stretch/>
        </p:blipFill>
        <p:spPr>
          <a:xfrm>
            <a:off x="4456080" y="29718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76" name="_2" descr=""/>
          <p:cNvPicPr/>
          <p:nvPr/>
        </p:nvPicPr>
        <p:blipFill>
          <a:blip r:embed="rId12"/>
          <a:stretch/>
        </p:blipFill>
        <p:spPr>
          <a:xfrm>
            <a:off x="4456080" y="36878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577" name="f5" descr=""/>
          <p:cNvPicPr/>
          <p:nvPr/>
        </p:nvPicPr>
        <p:blipFill>
          <a:blip r:embed="rId13"/>
          <a:stretch/>
        </p:blipFill>
        <p:spPr>
          <a:xfrm>
            <a:off x="44560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8" name="section" descr=""/>
          <p:cNvPicPr/>
          <p:nvPr/>
        </p:nvPicPr>
        <p:blipFill>
          <a:blip r:embed="rId14"/>
          <a:stretch/>
        </p:blipFill>
        <p:spPr>
          <a:xfrm>
            <a:off x="152280" y="52322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579" name="section" descr=""/>
          <p:cNvPicPr/>
          <p:nvPr/>
        </p:nvPicPr>
        <p:blipFill>
          <a:blip r:embed="rId15"/>
          <a:stretch/>
        </p:blipFill>
        <p:spPr>
          <a:xfrm>
            <a:off x="4457880" y="5232240"/>
            <a:ext cx="4286160" cy="911520"/>
          </a:xfrm>
          <a:prstGeom prst="rect">
            <a:avLst/>
          </a:prstGeom>
          <a:ln w="0">
            <a:noFill/>
          </a:ln>
        </p:spPr>
      </p:pic>
      <p:pic>
        <p:nvPicPr>
          <p:cNvPr id="580" name="a4" descr=""/>
          <p:cNvPicPr/>
          <p:nvPr/>
        </p:nvPicPr>
        <p:blipFill>
          <a:blip r:embed="rId16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81" name="a4_b" descr=""/>
          <p:cNvPicPr/>
          <p:nvPr/>
        </p:nvPicPr>
        <p:blipFill>
          <a:blip r:embed="rId17"/>
          <a:stretch/>
        </p:blipFill>
        <p:spPr>
          <a:xfrm>
            <a:off x="4457880" y="4229280"/>
            <a:ext cx="4547880" cy="19044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422280" y="4229280"/>
            <a:ext cx="8583480" cy="1752480"/>
            <a:chOff x="422280" y="4229280"/>
            <a:chExt cx="8583480" cy="1752480"/>
          </a:xfrm>
        </p:grpSpPr>
        <p:grpSp>
          <p:nvGrpSpPr>
            <p:cNvPr id="583" name=""/>
            <p:cNvGrpSpPr/>
            <p:nvPr/>
          </p:nvGrpSpPr>
          <p:grpSpPr>
            <a:xfrm>
              <a:off x="422280" y="4229280"/>
              <a:ext cx="8583480" cy="1752480"/>
              <a:chOff x="422280" y="4229280"/>
              <a:chExt cx="8583480" cy="1752480"/>
            </a:xfrm>
          </p:grpSpPr>
          <p:pic>
            <p:nvPicPr>
              <p:cNvPr id="584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873000" y="53020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99120" y="53085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457880" y="42292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422280" y="43387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88" name="main" descr=""/>
            <p:cNvPicPr/>
            <p:nvPr/>
          </p:nvPicPr>
          <p:blipFill>
            <a:blip r:embed="rId21"/>
            <a:stretch/>
          </p:blipFill>
          <p:spPr>
            <a:xfrm>
              <a:off x="4541760" y="43275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34000" y="40006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38800" y="29653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15440" y="3946680"/>
            <a:ext cx="4349880" cy="365040"/>
            <a:chOff x="415440" y="3946680"/>
            <a:chExt cx="4349880" cy="365040"/>
          </a:xfrm>
        </p:grpSpPr>
        <p:sp>
          <p:nvSpPr>
            <p:cNvPr id="593" name=""/>
            <p:cNvSpPr/>
            <p:nvPr/>
          </p:nvSpPr>
          <p:spPr>
            <a:xfrm flipH="1">
              <a:off x="415440" y="39560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34520" y="3946680"/>
              <a:ext cx="4318560" cy="365040"/>
              <a:chOff x="434520" y="3946680"/>
              <a:chExt cx="4318560" cy="3650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434520" y="39466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39528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7" name="New-85" descr=""/>
          <p:cNvPicPr/>
          <p:nvPr/>
        </p:nvPicPr>
        <p:blipFill>
          <a:blip r:embed="rId22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143000" y="0"/>
            <a:ext cx="7772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Etique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59000" y="914400"/>
            <a:ext cx="778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a prise en compte de catégorisations </a:t>
            </a:r>
            <a:br>
              <a:rPr sz="2400"/>
            </a:b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morpho-syntaxiques, sémantiques, etc.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1081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Exemple :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REFUSE {CAT = N, NUM = SING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to)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FUSE {CAT = INF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0776600">
            <a:off x="684000" y="1434600"/>
            <a:ext cx="4852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Tree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02320" y="209556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603840" y="2095560"/>
            <a:ext cx="2349720" cy="998280"/>
            <a:chOff x="6603840" y="2095560"/>
            <a:chExt cx="2349720" cy="998280"/>
          </a:xfrm>
        </p:grpSpPr>
        <p:sp>
          <p:nvSpPr>
            <p:cNvPr id="604" name=""/>
            <p:cNvSpPr/>
            <p:nvPr/>
          </p:nvSpPr>
          <p:spPr>
            <a:xfrm>
              <a:off x="6603840" y="2095560"/>
              <a:ext cx="20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ord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03840" y="2451240"/>
              <a:ext cx="234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décliner, écarter, etc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892600" y="176040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g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02040" y="17478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372080" y="3557520"/>
            <a:ext cx="118116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4446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150920" y="50990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99040" y="621828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3520" y="4027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3120" y="3618000"/>
            <a:ext cx="3009600" cy="246060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70920" y="5043600"/>
            <a:ext cx="1396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ref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décl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éc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80920" y="36338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ref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84160" y="394488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{N} </a:t>
            </a:r>
            <a:r>
              <a:rPr b="0" i="1" lang="fr-FR" sz="1800" spc="-1" strike="noStrike">
                <a:solidFill>
                  <a:srgbClr val="ff3300"/>
                </a:solidFill>
                <a:latin typeface="Tahoma"/>
              </a:rPr>
              <a:t>refuse t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82000" y="3112920"/>
            <a:ext cx="148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54360" y="6337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3000" y="62485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anglais contenant le nom « refus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4936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4356000"/>
            <a:ext cx="53964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40080" y="457200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36840" y="50673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9040" y="4152960"/>
            <a:ext cx="10731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68560" y="435600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01720" y="45720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5560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16200" y="542304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0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19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5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052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78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62320" y="505476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77760" y="3962520"/>
            <a:ext cx="2692440" cy="92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84160" y="49737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{Inf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65160" y="49910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402080" y="50864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94280" y="3605040"/>
            <a:ext cx="3009960" cy="2460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00880" y="5689440"/>
            <a:ext cx="74268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08560" y="4343400"/>
            <a:ext cx="5396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91240" y="4559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88000" y="50547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40560" y="4140360"/>
            <a:ext cx="107316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19720" y="4343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4559400"/>
            <a:ext cx="7430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6760" y="568944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67360" y="541008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81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70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6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1168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13480" y="504180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29280" y="3949560"/>
            <a:ext cx="2692080" cy="927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16320" y="49784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66960" y="3327480"/>
            <a:ext cx="102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30720" y="3327480"/>
            <a:ext cx="11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23040" y="3484440"/>
            <a:ext cx="1576440" cy="563760"/>
          </a:xfrm>
          <a:custGeom>
            <a:avLst/>
            <a:gdLst>
              <a:gd name="textAreaLeft" fmla="*/ 275760 w 1576440"/>
              <a:gd name="textAreaRight" fmla="*/ 1143000 w 1576440"/>
              <a:gd name="textAreaTop" fmla="*/ 75240 h 563760"/>
              <a:gd name="textAreaBottom" fmla="*/ 4885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1640" y="42228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70240" y="36082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7384680" y="4890960"/>
            <a:ext cx="1181160" cy="13208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05720" y="5587920"/>
            <a:ext cx="774720" cy="0"/>
          </a:xfrm>
          <a:prstGeom prst="line">
            <a:avLst/>
          </a:prstGeom>
          <a:ln w="28440">
            <a:solidFill>
              <a:srgbClr val="96969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6520" y="42102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230480" y="717480"/>
            <a:ext cx="76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Perspectives ouvertes par l’</a:t>
            </a:r>
            <a:r>
              <a:rPr b="0" lang="fr-FR" sz="3600" spc="-1" strike="noStrike">
                <a:solidFill>
                  <a:srgbClr val="6666ff"/>
                </a:solidFill>
                <a:latin typeface="Times New Roman"/>
              </a:rPr>
              <a:t>approche topographiqu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du </a:t>
            </a:r>
            <a:r>
              <a:rPr b="1" i="1" lang="fr-FR" sz="3600" spc="-1" strike="noStrike">
                <a:solidFill>
                  <a:srgbClr val="00cccc"/>
                </a:solidFill>
                <a:latin typeface="Times New Roman"/>
              </a:rPr>
              <a:t>bi-text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81240" y="2433600"/>
            <a:ext cx="8028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igation interactive dans les text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érages automatiques d’équivalences de traduct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e de structures lexical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èse d’information bi-textuell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17520" y="2433600"/>
            <a:ext cx="7355160" cy="326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us avons défini une</a:t>
            </a: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roche qui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et la description automatique de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lexicales multipl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s les corpus parallè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te approch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e sur les ressources construit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tomatiquem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à base de corp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uyée sur la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présentation topograph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textes alignés au niveau de la phrase, cette approche offre à l’utilisateur de nouveaux moyens informatisés pour explorer la structure des équivalences lex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54080" y="1092240"/>
            <a:ext cx="77724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Il est maintenant possible d ’enregistrer et de manipuler par ordinateur des masses pratiquement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illimitées de textes… Compte tenu de l ’évolution récente en informatique, tout indique en effet que les traducteurs pourront bientôt accéder facilement à de très vastes corpus bilingues contenant leurs propres traductions et celles de leurs collègues.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cccc"/>
                </a:solidFill>
                <a:latin typeface="Times New Roman"/>
              </a:rPr>
              <a:t>ISABELLE Pierre et WARWICK-ARMSTRONG Susan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Les corpus bilingues : une nouvelle ressource pour le traducteur. In Bouillon, P. et Clas, A., éditeurs,  </a:t>
            </a:r>
            <a:r>
              <a:rPr b="0" i="1" lang="fr-FR" sz="1600" spc="-1" strike="noStrike">
                <a:solidFill>
                  <a:srgbClr val="00cccc"/>
                </a:solidFill>
                <a:latin typeface="Times New Roman"/>
              </a:rPr>
              <a:t>La Traductique</a:t>
            </a: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. Montréal : Les Presses de l’Université de Montréal, 288-30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haque volet du corpus (français et anglais) compte approximativement 300 000 mots graphiq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505320"/>
            <a:ext cx="3733560" cy="28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Persistant à affirmer que le procès avait été une </a:t>
            </a:r>
            <a:r>
              <a:rPr b="0" i="1" lang="fr-FR" sz="1800" spc="-1" strike="noStrike">
                <a:solidFill>
                  <a:srgbClr val="3333ff"/>
                </a:solidFill>
                <a:latin typeface="Times New Roman"/>
              </a:rPr>
              <a:t>parodie de justice</a:t>
            </a: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519360"/>
            <a:ext cx="3733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352680"/>
            <a:ext cx="876600" cy="216000"/>
          </a:xfrm>
          <a:custGeom>
            <a:avLst/>
            <a:gdLst>
              <a:gd name="textAreaLeft" fmla="*/ 153360 w 876600"/>
              <a:gd name="textAreaRight" fmla="*/ 635760 w 8766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4648320" y="632448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048120"/>
            <a:ext cx="19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190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xicograph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rmin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nseignement des langues étrangè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cherche d’information multili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430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s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domaines d’applic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799160" y="3402000"/>
            <a:ext cx="4586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8560" y="2900520"/>
            <a:ext cx="36306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900520"/>
            <a:ext cx="363204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68560" y="4146480"/>
            <a:ext cx="3630600" cy="2269440"/>
            <a:chOff x="1168560" y="4146480"/>
            <a:chExt cx="3630600" cy="2269440"/>
          </a:xfrm>
        </p:grpSpPr>
        <p:sp>
          <p:nvSpPr>
            <p:cNvPr id="166" name=""/>
            <p:cNvSpPr/>
            <p:nvPr/>
          </p:nvSpPr>
          <p:spPr>
            <a:xfrm>
              <a:off x="1168560" y="4146480"/>
              <a:ext cx="36306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68560" y="5499000"/>
              <a:ext cx="3630600" cy="91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Persistant à affirmer que le procès avait été une </a:t>
              </a:r>
              <a:r>
                <a:rPr b="0" i="1" lang="fr-FR" sz="1800" spc="-1" strike="noStrike">
                  <a:solidFill>
                    <a:srgbClr val="3333ff"/>
                  </a:solidFill>
                  <a:latin typeface="Times New Roman"/>
                </a:rPr>
                <a:t>parodie de justice</a:t>
              </a: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00600" y="4757400"/>
            <a:ext cx="457200" cy="1235520"/>
            <a:chOff x="4800600" y="4757400"/>
            <a:chExt cx="457200" cy="1235520"/>
          </a:xfrm>
        </p:grpSpPr>
        <p:sp>
          <p:nvSpPr>
            <p:cNvPr id="169" name=""/>
            <p:cNvSpPr/>
            <p:nvPr/>
          </p:nvSpPr>
          <p:spPr>
            <a:xfrm flipV="1">
              <a:off x="5028840" y="531036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00600" y="598932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0600" y="475740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560" y="4759200"/>
              <a:ext cx="0" cy="12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57800" y="4400640"/>
            <a:ext cx="36320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3320" y="838080"/>
            <a:ext cx="7886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68560" y="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phr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2019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mots et les syntagmes des text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cibl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rvent de base à la form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unités minimales d’équivalences de tradu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automatique de segments de traduction équivalents dans les phrases présente une double difficulté car il faut tenir compte à la fois de la structure des unités de chacun des textes et des liens de correspondances qui existent entre eux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31640"/>
            <a:ext cx="78487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</a:rPr>
              <a:t>les problè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complex" descr=""/>
          <p:cNvPicPr/>
          <p:nvPr/>
        </p:nvPicPr>
        <p:blipFill>
          <a:blip r:embed="rId1"/>
          <a:stretch/>
        </p:blipFill>
        <p:spPr>
          <a:xfrm>
            <a:off x="314280" y="4500720"/>
            <a:ext cx="8829720" cy="2103120"/>
          </a:xfrm>
          <a:prstGeom prst="rect">
            <a:avLst/>
          </a:prstGeom>
          <a:ln w="1584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44520" y="0"/>
            <a:ext cx="566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ordanciers parallè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183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186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189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193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194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197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00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03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383000" y="4014720"/>
            <a:ext cx="203364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1120" y="1770120"/>
            <a:ext cx="1175040" cy="73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6040" y="183348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5960" y="2981160"/>
            <a:ext cx="203328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8920" y="2994120"/>
            <a:ext cx="193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101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e tra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base d’exe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43440" y="5446800"/>
            <a:ext cx="1176480" cy="1108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040" y="5605560"/>
            <a:ext cx="1314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tra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0400" y="4121280"/>
            <a:ext cx="1569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’é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66840" y="2735280"/>
            <a:ext cx="1479600" cy="142560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246480"/>
            <a:ext cx="16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RPUS DE REFER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6040" y="182232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87520" y="5489640"/>
            <a:ext cx="1466640" cy="784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86040" y="4587840"/>
            <a:ext cx="9396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47840" y="5489640"/>
            <a:ext cx="11448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0800" y="5762520"/>
            <a:ext cx="129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4920" y="5680080"/>
            <a:ext cx="1647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ses de données terminolog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5640" y="4789440"/>
            <a:ext cx="1028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x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ling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9200" y="2901960"/>
            <a:ext cx="1260720" cy="9730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6400" y="2451240"/>
            <a:ext cx="605160" cy="925200"/>
          </a:xfrm>
          <a:custGeom>
            <a:avLst/>
            <a:gdLst>
              <a:gd name="textAreaLeft" fmla="*/ 81000 w 605160"/>
              <a:gd name="textAreaRight" fmla="*/ 524160 w 605160"/>
              <a:gd name="textAreaTop" fmla="*/ 161640 h 925200"/>
              <a:gd name="textAreaBottom" fmla="*/ 670680 h 92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65280" y="1666800"/>
            <a:ext cx="93816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28640" y="1727280"/>
            <a:ext cx="939960" cy="830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06400" y="1785960"/>
            <a:ext cx="93852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9120" y="1878120"/>
            <a:ext cx="114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rpus align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3440" y="2486160"/>
            <a:ext cx="0" cy="301608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3440" y="5086440"/>
            <a:ext cx="269640" cy="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3021120"/>
            <a:ext cx="1351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ex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9520" y="265752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59520" y="371808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4600" y="4794120"/>
            <a:ext cx="430200" cy="490680"/>
          </a:xfrm>
          <a:prstGeom prst="downArrow">
            <a:avLst>
              <a:gd name="adj1" fmla="val 50000"/>
              <a:gd name="adj2" fmla="val 285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63880" y="4397040"/>
            <a:ext cx="1252440" cy="52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911320" y="4730760"/>
            <a:ext cx="1252800" cy="712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821040" y="4762440"/>
            <a:ext cx="669960" cy="665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933200">
            <a:off x="6402240" y="4376520"/>
            <a:ext cx="996840" cy="507960"/>
          </a:xfrm>
          <a:custGeom>
            <a:avLst/>
            <a:gdLst>
              <a:gd name="textAreaLeft" fmla="*/ 174240 w 996840"/>
              <a:gd name="textAreaRight" fmla="*/ 722880 w 9968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18400" y="4995720"/>
            <a:ext cx="1244520" cy="10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aducteur hum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12120" y="4081320"/>
            <a:ext cx="0" cy="79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9320" y="3970440"/>
            <a:ext cx="0" cy="74448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5120" y="3259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85120" y="3448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3000" y="3211560"/>
            <a:ext cx="531720" cy="347760"/>
          </a:xfrm>
          <a:custGeom>
            <a:avLst/>
            <a:gdLst>
              <a:gd name="textAreaLeft" fmla="*/ 82800 w 531720"/>
              <a:gd name="textAreaRight" fmla="*/ 465480 w 531720"/>
              <a:gd name="textAreaTop" fmla="*/ 86760 h 347760"/>
              <a:gd name="textAreaBottom" fmla="*/ 261000 h 34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89120" y="53352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chitecture d’un systè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mémoire de traduction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4-06-17T19:09:26Z</dcterms:modified>
  <cp:revision>154</cp:revision>
  <dc:subject/>
  <dc:title>L’alignement textométrique des unités lexicales à correspondances multiples dans les corpus parallèles</dc:title>
</cp:coreProperties>
</file>