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15.wmf" ContentType="image/x-wmf"/>
  <Override PartName="/ppt/media/image57.png" ContentType="image/png"/>
  <Override PartName="/ppt/media/image14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69.png" ContentType="image/png"/>
  <Override PartName="/ppt/media/image25.png" ContentType="image/png"/>
  <Override PartName="/ppt/media/image10.png" ContentType="image/png"/>
  <Override PartName="/ppt/media/image47.png" ContentType="image/png"/>
  <Override PartName="/ppt/media/image23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4.png" ContentType="image/png"/>
  <Override PartName="/ppt/media/image61.png" ContentType="image/png"/>
  <Override PartName="/ppt/media/image62.gif" ContentType="image/gif"/>
  <Override PartName="/ppt/media/image65.png" ContentType="image/png"/>
  <Override PartName="/ppt/media/image22.wmf" ContentType="image/x-wmf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63.png" ContentType="image/png"/>
  <Override PartName="/ppt/media/image20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7.wmf" ContentType="image/x-wmf"/>
  <Override PartName="/ppt/media/image27.png" ContentType="image/png"/>
  <Override PartName="/ppt/media/image66.wmf" ContentType="image/x-wmf"/>
  <Override PartName="/ppt/media/image26.png" ContentType="image/pn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1.gif" ContentType="image/gif"/>
  <Override PartName="/ppt/media/image16.png" ContentType="image/png"/>
  <Override PartName="/ppt/media/image4.png" ContentType="image/png"/>
  <Override PartName="/ppt/media/image34.png" ContentType="image/png"/>
  <Override PartName="/ppt/media/image53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54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52.png" ContentType="image/png"/>
  <Override PartName="/ppt/media/image30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EA3F-4413-4C01-B23D-08B27E1E9781}" type="slidenum"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  ’analyse des profils de répartition des formes « droits » « rights 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permis de vérifier leur évolution parallèle dans les deux volets du cor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 ’en est-il de leur environnement lexical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un repérage exhaustif des correspondances de tra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 niveau des mots et des syntagmes nous allons recourir au calcul 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occurrences. Leur exploitation dans l ’alignement permet d ’aller au-de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s associations contiguë des formes et prendre en considération des fo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ociées sur l ’axe syntagmatiqu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BE4-57C5-43DB-8BF2-80E30432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BB6-D501-43A1-BAEE-BCEBD9DB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197-303C-4C49-AA92-EE44E09F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A85-DAB1-4134-913A-C68862A97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CA2F-F693-46D4-92EE-E3B7FA9A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642F-1DF9-4E60-AD3E-6D65727C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1EB-E9C3-4354-AC4B-54D43E8D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BFD-4EF3-40FA-990B-43E7B56A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031B-3BE5-4825-8998-7CE45BC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68EF-B71C-40CA-A59B-5F289CF9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A393-D5B6-4D03-83E7-0D4064A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D2A-BEBD-4BFB-9DA1-0A27B95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57A2-FF55-47CB-BB9F-A9C081B5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125-DD12-4F14-BFFC-C60C488C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363F-A2C8-4CEC-89F3-4C281C45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91EF-63FA-40BE-9BC3-051B4918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83D1-C851-4C44-9EC4-21745BAE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E24-388D-4B67-9DB7-8960DFAF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77F-B652-414B-8176-059161D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C9F-2D71-4270-8F03-433AB19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BDA-7ADF-40B4-9479-41A1139A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9EC5-4FE0-4757-B12B-3FD6050A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D38-A42A-41DD-88F9-A1AC1151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09B-EF62-46BA-827F-B6417355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5F2-7509-4874-AAE0-6A94C462AEA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4791-2B81-4593-A6C1-34941739933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25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0.png"/><Relationship Id="rId23" Type="http://schemas.openxmlformats.org/officeDocument/2006/relationships/image" Target="../media/image29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6.png"/><Relationship Id="rId27" Type="http://schemas.openxmlformats.org/officeDocument/2006/relationships/image" Target="../media/image25.png"/><Relationship Id="rId28" Type="http://schemas.openxmlformats.org/officeDocument/2006/relationships/image" Target="../media/image3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25.png"/><Relationship Id="rId38" Type="http://schemas.openxmlformats.org/officeDocument/2006/relationships/image" Target="../media/image50.png"/><Relationship Id="rId39" Type="http://schemas.openxmlformats.org/officeDocument/2006/relationships/image" Target="../media/image51.png"/><Relationship Id="rId40" Type="http://schemas.openxmlformats.org/officeDocument/2006/relationships/image" Target="../media/image52.png"/><Relationship Id="rId41" Type="http://schemas.openxmlformats.org/officeDocument/2006/relationships/image" Target="../media/image53.png"/><Relationship Id="rId42" Type="http://schemas.openxmlformats.org/officeDocument/2006/relationships/image" Target="../media/image53.png"/><Relationship Id="rId43" Type="http://schemas.openxmlformats.org/officeDocument/2006/relationships/image" Target="../media/image54.png"/><Relationship Id="rId44" Type="http://schemas.openxmlformats.org/officeDocument/2006/relationships/image" Target="../media/image54.png"/><Relationship Id="rId45" Type="http://schemas.openxmlformats.org/officeDocument/2006/relationships/image" Target="../media/image55.png"/><Relationship Id="rId46" Type="http://schemas.openxmlformats.org/officeDocument/2006/relationships/image" Target="../media/image56.png"/><Relationship Id="rId4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39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25.png"/><Relationship Id="rId20" Type="http://schemas.openxmlformats.org/officeDocument/2006/relationships/image" Target="../media/image32.png"/><Relationship Id="rId21" Type="http://schemas.openxmlformats.org/officeDocument/2006/relationships/image" Target="../media/image31.png"/><Relationship Id="rId22" Type="http://schemas.openxmlformats.org/officeDocument/2006/relationships/image" Target="../media/image33.png"/><Relationship Id="rId23" Type="http://schemas.openxmlformats.org/officeDocument/2006/relationships/image" Target="../media/image30.png"/><Relationship Id="rId24" Type="http://schemas.openxmlformats.org/officeDocument/2006/relationships/image" Target="../media/image29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6.png"/><Relationship Id="rId28" Type="http://schemas.openxmlformats.org/officeDocument/2006/relationships/image" Target="../media/image25.png"/><Relationship Id="rId29" Type="http://schemas.openxmlformats.org/officeDocument/2006/relationships/image" Target="../media/image57.png"/><Relationship Id="rId30" Type="http://schemas.openxmlformats.org/officeDocument/2006/relationships/image" Target="../media/image58.png"/><Relationship Id="rId31" Type="http://schemas.openxmlformats.org/officeDocument/2006/relationships/image" Target="../media/image59.png"/><Relationship Id="rId32" Type="http://schemas.openxmlformats.org/officeDocument/2006/relationships/image" Target="../media/image60.png"/><Relationship Id="rId33" Type="http://schemas.openxmlformats.org/officeDocument/2006/relationships/image" Target="../media/image32.png"/><Relationship Id="rId34" Type="http://schemas.openxmlformats.org/officeDocument/2006/relationships/image" Target="../media/image25.png"/><Relationship Id="rId35" Type="http://schemas.openxmlformats.org/officeDocument/2006/relationships/image" Target="../media/image49.png"/><Relationship Id="rId36" Type="http://schemas.openxmlformats.org/officeDocument/2006/relationships/image" Target="../media/image47.png"/><Relationship Id="rId37" Type="http://schemas.openxmlformats.org/officeDocument/2006/relationships/image" Target="../media/image43.png"/><Relationship Id="rId38" Type="http://schemas.openxmlformats.org/officeDocument/2006/relationships/image" Target="../media/image48.png"/><Relationship Id="rId39" Type="http://schemas.openxmlformats.org/officeDocument/2006/relationships/image" Target="../media/image61.png"/><Relationship Id="rId40" Type="http://schemas.openxmlformats.org/officeDocument/2006/relationships/image" Target="../media/image53.png"/><Relationship Id="rId41" Type="http://schemas.openxmlformats.org/officeDocument/2006/relationships/image" Target="../media/image62.gif"/><Relationship Id="rId4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3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29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54.png"/><Relationship Id="rId15" Type="http://schemas.openxmlformats.org/officeDocument/2006/relationships/image" Target="../media/image54.png"/><Relationship Id="rId16" Type="http://schemas.openxmlformats.org/officeDocument/2006/relationships/image" Target="../media/image38.png"/><Relationship Id="rId17" Type="http://schemas.openxmlformats.org/officeDocument/2006/relationships/image" Target="../media/image30.png"/><Relationship Id="rId18" Type="http://schemas.openxmlformats.org/officeDocument/2006/relationships/image" Target="../media/image63.png"/><Relationship Id="rId19" Type="http://schemas.openxmlformats.org/officeDocument/2006/relationships/image" Target="../media/image64.png"/><Relationship Id="rId20" Type="http://schemas.openxmlformats.org/officeDocument/2006/relationships/image" Target="../media/image49.png"/><Relationship Id="rId21" Type="http://schemas.openxmlformats.org/officeDocument/2006/relationships/image" Target="../media/image65.png"/><Relationship Id="rId22" Type="http://schemas.openxmlformats.org/officeDocument/2006/relationships/image" Target="../media/image50.png"/><Relationship Id="rId2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201888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traction de ressources traductionnelles à partir de corpus parallèles</a:t>
            </a:r>
            <a:r>
              <a:rPr b="1" lang="fr-FR" sz="4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23520" y="4241880"/>
            <a:ext cx="6451560" cy="18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Maria ZIMINA-POIR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EA 2290 SYLED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, 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Université de la Sorbonne nouvelle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1" i="1" lang="fr-CH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aris 3 </a:t>
            </a:r>
            <a:r>
              <a:rPr b="1" i="1" lang="fr-CH" sz="2400" spc="-1" strike="noStrike">
                <a:solidFill>
                  <a:srgbClr val="ccccff"/>
                </a:solidFill>
                <a:latin typeface="Symbol"/>
                <a:ea typeface="Symbol"/>
              </a:rPr>
              <a:t></a:t>
            </a:r>
            <a:r>
              <a:rPr b="0" i="1" lang="fr-CH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cccc"/>
                </a:solidFill>
                <a:latin typeface="Times New Roman"/>
                <a:ea typeface="Times New Roman"/>
              </a:rPr>
              <a:t>zimina@msh-paris.f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byline" descr=""/>
          <p:cNvPicPr/>
          <p:nvPr/>
        </p:nvPicPr>
        <p:blipFill>
          <a:blip r:embed="rId1"/>
          <a:stretch/>
        </p:blipFill>
        <p:spPr>
          <a:xfrm flipH="1" rot="10800000">
            <a:off x="1195560" y="974520"/>
            <a:ext cx="7684920" cy="17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ole d’été de Lille 200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analyse statistique des données textuelles</a:t>
            </a:r>
            <a:r>
              <a:rPr b="0" i="1" lang="fr-FR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2019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mots et les syntagmes des text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et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cibl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rvent de base à la form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unités minimales d’équivalences de tradu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automatique de segments de traduction équivalents dans les phrases présente une double difficulté car il faut tenir compte à la fois de la structure des unités de chacun des textes et des liens de correspondances qui existent entre eux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431640"/>
            <a:ext cx="78487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19044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br>
              <a:rPr sz="4400"/>
            </a:br>
            <a:r>
              <a:rPr b="0" lang="fr-FR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mots et des syntagmes :</a:t>
            </a:r>
            <a:br>
              <a:rPr sz="2800"/>
            </a:b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</a:rPr>
              <a:t>les problè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mplex" descr=""/>
          <p:cNvPicPr/>
          <p:nvPr/>
        </p:nvPicPr>
        <p:blipFill>
          <a:blip r:embed="rId1"/>
          <a:stretch/>
        </p:blipFill>
        <p:spPr>
          <a:xfrm>
            <a:off x="314280" y="4500720"/>
            <a:ext cx="8829720" cy="2103120"/>
          </a:xfrm>
          <a:prstGeom prst="rect">
            <a:avLst/>
          </a:prstGeom>
          <a:ln w="1584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Outils d’aide à la traduction à base de corpus aligné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44520" y="0"/>
            <a:ext cx="56642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ordanciers parallè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'accusé a droit à être informé non seulement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is aussi de leur qualification juridiqu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graphe 7 ne modifiait ni le chef d'accusation ni l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s paragraphes qui suivent se rapportent au droit tel qu'il se présentait à l'époque de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3333ff"/>
                </a:solidFill>
                <a:uFillTx/>
                <a:latin typeface="Times New Roman"/>
              </a:rPr>
              <a:t>faits incriminés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3352680"/>
            <a:ext cx="435456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erson charged with a criminal offence was entitled to be informed not only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material facts alleged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gainst hi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ut also of their legal classification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agraph 7 had altered neither the charge nor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facts constituting the alleged offence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llowing relates to the law as  it stood at the time of the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3300"/>
                </a:solidFill>
                <a:uFillTx/>
                <a:latin typeface="Times New Roman"/>
              </a:rPr>
              <a:t>events complained of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4648320"/>
            <a:ext cx="8774280" cy="0"/>
            <a:chOff x="228600" y="4648320"/>
            <a:chExt cx="8774280" cy="0"/>
          </a:xfrm>
        </p:grpSpPr>
        <p:sp>
          <p:nvSpPr>
            <p:cNvPr id="201" name=""/>
            <p:cNvSpPr/>
            <p:nvPr/>
          </p:nvSpPr>
          <p:spPr>
            <a:xfrm>
              <a:off x="464832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46483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28600" y="5562720"/>
            <a:ext cx="8774280" cy="0"/>
            <a:chOff x="228600" y="5562720"/>
            <a:chExt cx="8774280" cy="0"/>
          </a:xfrm>
        </p:grpSpPr>
        <p:sp>
          <p:nvSpPr>
            <p:cNvPr id="204" name=""/>
            <p:cNvSpPr/>
            <p:nvPr/>
          </p:nvSpPr>
          <p:spPr>
            <a:xfrm>
              <a:off x="22860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5562720"/>
              <a:ext cx="4354560" cy="0"/>
            </a:xfrm>
            <a:prstGeom prst="line">
              <a:avLst/>
            </a:prstGeom>
            <a:ln w="324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8600" y="2209680"/>
            <a:ext cx="4648320" cy="1067040"/>
            <a:chOff x="228600" y="2209680"/>
            <a:chExt cx="4648320" cy="1067040"/>
          </a:xfrm>
        </p:grpSpPr>
        <p:pic>
          <p:nvPicPr>
            <p:cNvPr id="207" name="rech" descr=""/>
            <p:cNvPicPr/>
            <p:nvPr/>
          </p:nvPicPr>
          <p:blipFill>
            <a:blip r:embed="rId1"/>
            <a:stretch/>
          </p:blipFill>
          <p:spPr>
            <a:xfrm>
              <a:off x="228600" y="2209680"/>
              <a:ext cx="4648320" cy="106704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08" name=""/>
            <p:cNvSpPr/>
            <p:nvPr/>
          </p:nvSpPr>
          <p:spPr>
            <a:xfrm>
              <a:off x="380880" y="2819520"/>
              <a:ext cx="2743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743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its incriminé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bouton" descr=""/>
          <p:cNvPicPr/>
          <p:nvPr/>
        </p:nvPicPr>
        <p:blipFill>
          <a:blip r:embed="rId2"/>
          <a:stretch/>
        </p:blipFill>
        <p:spPr>
          <a:xfrm>
            <a:off x="3544920" y="2602080"/>
            <a:ext cx="1181160" cy="30924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211" name=""/>
          <p:cNvGrpSpPr/>
          <p:nvPr/>
        </p:nvGrpSpPr>
        <p:grpSpPr>
          <a:xfrm>
            <a:off x="260280" y="4648320"/>
            <a:ext cx="8774280" cy="0"/>
            <a:chOff x="260280" y="4648320"/>
            <a:chExt cx="8774280" cy="0"/>
          </a:xfrm>
        </p:grpSpPr>
        <p:sp>
          <p:nvSpPr>
            <p:cNvPr id="212" name=""/>
            <p:cNvSpPr/>
            <p:nvPr/>
          </p:nvSpPr>
          <p:spPr>
            <a:xfrm>
              <a:off x="468000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0280" y="46483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0280" y="5562720"/>
            <a:ext cx="8774280" cy="0"/>
            <a:chOff x="260280" y="5562720"/>
            <a:chExt cx="8774280" cy="0"/>
          </a:xfrm>
        </p:grpSpPr>
        <p:sp>
          <p:nvSpPr>
            <p:cNvPr id="215" name=""/>
            <p:cNvSpPr/>
            <p:nvPr/>
          </p:nvSpPr>
          <p:spPr>
            <a:xfrm>
              <a:off x="468000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0280" y="5562720"/>
              <a:ext cx="435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8600" y="81000"/>
            <a:ext cx="8789760" cy="4572000"/>
            <a:chOff x="228600" y="81000"/>
            <a:chExt cx="8789760" cy="4572000"/>
          </a:xfrm>
        </p:grpSpPr>
        <p:sp>
          <p:nvSpPr>
            <p:cNvPr id="218" name=""/>
            <p:cNvSpPr/>
            <p:nvPr/>
          </p:nvSpPr>
          <p:spPr>
            <a:xfrm>
              <a:off x="231840" y="81000"/>
              <a:ext cx="8777160" cy="45720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adress" descr=""/>
            <p:cNvPicPr/>
            <p:nvPr/>
          </p:nvPicPr>
          <p:blipFill>
            <a:blip r:embed="rId3"/>
            <a:stretch/>
          </p:blipFill>
          <p:spPr>
            <a:xfrm>
              <a:off x="228600" y="108000"/>
              <a:ext cx="8789760" cy="3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"/>
            <p:cNvGrpSpPr/>
            <p:nvPr/>
          </p:nvGrpSpPr>
          <p:grpSpPr>
            <a:xfrm>
              <a:off x="1206720" y="560520"/>
              <a:ext cx="6994800" cy="3833640"/>
              <a:chOff x="1206720" y="560520"/>
              <a:chExt cx="6994800" cy="3833640"/>
            </a:xfrm>
          </p:grpSpPr>
          <p:pic>
            <p:nvPicPr>
              <p:cNvPr id="221" name="transl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6720" y="560520"/>
                <a:ext cx="6994800" cy="38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a_vista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5400" y="3456000"/>
                <a:ext cx="21744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3" name="phrase" descr=""/>
            <p:cNvPicPr/>
            <p:nvPr/>
          </p:nvPicPr>
          <p:blipFill>
            <a:blip r:embed="rId6"/>
            <a:stretch/>
          </p:blipFill>
          <p:spPr>
            <a:xfrm>
              <a:off x="1436040" y="1816200"/>
              <a:ext cx="3511440" cy="63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"/>
          <p:cNvSpPr/>
          <p:nvPr/>
        </p:nvSpPr>
        <p:spPr>
          <a:xfrm>
            <a:off x="4114800" y="871560"/>
            <a:ext cx="129528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871560"/>
            <a:ext cx="1524240" cy="3222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1880" y="3301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3300"/>
                </a:solidFill>
                <a:latin typeface="Times New Roman"/>
              </a:rPr>
              <a:t>!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41200" y="1955880"/>
            <a:ext cx="1168560" cy="2857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383000" y="4014720"/>
            <a:ext cx="203364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1120" y="1770120"/>
            <a:ext cx="1175040" cy="7398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56040" y="183348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95960" y="2981160"/>
            <a:ext cx="2033280" cy="676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8920" y="2994120"/>
            <a:ext cx="193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101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e tra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0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base d’exe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43440" y="5446800"/>
            <a:ext cx="1176480" cy="11080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56040" y="5605560"/>
            <a:ext cx="1314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tradu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0400" y="4121280"/>
            <a:ext cx="15699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ule d’éd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66840" y="2735280"/>
            <a:ext cx="1479600" cy="142560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3246480"/>
            <a:ext cx="1646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RPUS DE REFER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6040" y="1822320"/>
            <a:ext cx="111456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ocument à tradu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7520" y="5489640"/>
            <a:ext cx="1466640" cy="78408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86040" y="4587840"/>
            <a:ext cx="9396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47840" y="5489640"/>
            <a:ext cx="1144800" cy="79524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60800" y="5762520"/>
            <a:ext cx="12999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ctionnai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74920" y="5680080"/>
            <a:ext cx="1647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ases de données terminolog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25640" y="4789440"/>
            <a:ext cx="1028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xiq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iling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2901960"/>
            <a:ext cx="1260720" cy="97308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06400" y="2451240"/>
            <a:ext cx="605160" cy="925200"/>
          </a:xfrm>
          <a:custGeom>
            <a:avLst/>
            <a:gdLst>
              <a:gd name="textAreaLeft" fmla="*/ 81000 w 605160"/>
              <a:gd name="textAreaRight" fmla="*/ 524160 w 605160"/>
              <a:gd name="textAreaTop" fmla="*/ 161640 h 925200"/>
              <a:gd name="textAreaBottom" fmla="*/ 670680 h 92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65280" y="1666800"/>
            <a:ext cx="93816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8640" y="1727280"/>
            <a:ext cx="939960" cy="830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06400" y="1785960"/>
            <a:ext cx="938520" cy="8319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89120" y="1878120"/>
            <a:ext cx="114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rpus aligné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3440" y="2486160"/>
            <a:ext cx="0" cy="301608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3440" y="5086440"/>
            <a:ext cx="269640" cy="0"/>
          </a:xfrm>
          <a:prstGeom prst="line">
            <a:avLst/>
          </a:prstGeom>
          <a:ln cap="rnd" w="9360">
            <a:solidFill>
              <a:srgbClr val="00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3021120"/>
            <a:ext cx="135108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chiers</a:t>
            </a:r>
            <a:r>
              <a:rPr b="0" lang="fr-FR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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ex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59520" y="265752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59520" y="3718080"/>
            <a:ext cx="430200" cy="23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24600" y="4794120"/>
            <a:ext cx="430200" cy="490680"/>
          </a:xfrm>
          <a:prstGeom prst="downArrow">
            <a:avLst>
              <a:gd name="adj1" fmla="val 50000"/>
              <a:gd name="adj2" fmla="val 2851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63880" y="4397040"/>
            <a:ext cx="1252440" cy="52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911320" y="4730760"/>
            <a:ext cx="1252800" cy="7128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821040" y="4762440"/>
            <a:ext cx="669960" cy="665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3933200">
            <a:off x="6402240" y="4376520"/>
            <a:ext cx="996840" cy="507960"/>
          </a:xfrm>
          <a:custGeom>
            <a:avLst/>
            <a:gdLst>
              <a:gd name="textAreaLeft" fmla="*/ 174240 w 996840"/>
              <a:gd name="textAreaRight" fmla="*/ 722880 w 996840"/>
              <a:gd name="textAreaTop" fmla="*/ 68040 h 507960"/>
              <a:gd name="textAreaBottom" fmla="*/ 4399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8400" y="4995720"/>
            <a:ext cx="1244520" cy="10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Webdings"/>
                <a:ea typeface="Webdings"/>
              </a:rPr>
              <a:t>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raducteur hum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12120" y="4081320"/>
            <a:ext cx="0" cy="7923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9320" y="3970440"/>
            <a:ext cx="0" cy="74448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85120" y="3259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85120" y="3448080"/>
            <a:ext cx="41112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3000" y="3211560"/>
            <a:ext cx="531720" cy="347760"/>
          </a:xfrm>
          <a:custGeom>
            <a:avLst/>
            <a:gdLst>
              <a:gd name="textAreaLeft" fmla="*/ 82800 w 531720"/>
              <a:gd name="textAreaRight" fmla="*/ 465480 w 531720"/>
              <a:gd name="textAreaTop" fmla="*/ 86760 h 347760"/>
              <a:gd name="textAreaBottom" fmla="*/ 261000 h 347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89120" y="53352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chitecture d’un systè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mémoire de traduction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77760" y="400068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extométrie multilingue : outils et méth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92120" y="241200"/>
            <a:ext cx="59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extométrie mult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74600" y="1308240"/>
            <a:ext cx="767556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  <a:ea typeface="Times New Roman"/>
              </a:rPr>
              <a:t>méthodes quantitativ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uvent être utilisées avec succès pour l’alignement et l’extraction de ressources traductionnelles des corpus parallè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es méthodes reposent entièrement sur des ressources construites 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  <a:ea typeface="Times New Roman"/>
              </a:rPr>
              <a:t>automatiquement à base de corpu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. Elles utilisent les seules fréquences et les distributions des unités textuelles prises comme points de repère pour l’identification et l’extraction des correspondanc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Pour en savoir plus, on consultera, par exemple, le site du groupe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GADT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274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orm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Freq max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Franç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Anglai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371600" y="16765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Principales caractéristiques lexicométr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25909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 de caractères-délimiteurs 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15960" y="5641920"/>
            <a:ext cx="144792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963520" y="5641920"/>
            <a:ext cx="2514600" cy="301680"/>
          </a:xfrm>
          <a:prstGeom prst="line">
            <a:avLst/>
          </a:prstGeom>
          <a:ln w="9360">
            <a:solidFill>
              <a:srgbClr val="00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92760" y="594360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ffff"/>
                </a:solidFill>
                <a:latin typeface="Times New Roman"/>
              </a:rPr>
              <a:t>correspondances quasi-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163836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Dictionnaires des formes graphiques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ançais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anglais</a:t>
            </a:r>
            <a:r>
              <a:rPr b="0" lang="fr-BE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ang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ré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exical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énér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32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1 22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ommiss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39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889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paragraphe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gouvernement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45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72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décis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59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508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cccc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article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82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6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cita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85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52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détention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98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ccccff"/>
                </a:solidFill>
                <a:latin typeface="Times New Roman"/>
              </a:rPr>
              <a:t>   314</a:t>
            </a:r>
            <a:r>
              <a:rPr b="0" lang="fr-FR" sz="1800" spc="-1" strike="noStrike">
                <a:solidFill>
                  <a:srgbClr val="00cccc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fr-FR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17440" y="33012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17440" y="1549440"/>
            <a:ext cx="8026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respondances quasi-univoques : 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es cau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41308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deux mots (ou syntagmes) renvoient à un nom propre ou à un nombre :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çais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réquence          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ais</a:t>
            </a:r>
            <a:r>
              <a:rPr b="1" lang="fr-B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éque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herbert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29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petzold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2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3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11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1992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616040"/>
                <a:tab algn="l" pos="2568600"/>
                <a:tab algn="l" pos="333360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57480" y="226044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équivalence est imposée par le respect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usages terminologiqu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gouvernements signatair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 =  3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governments signatory hereto  F =  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èges et immunités            F =  8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ileges and immunities</a:t>
            </a: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 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utes parties contractantes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F = 42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MS Mincho"/>
              </a:rPr>
              <a:t>high contracting parties                  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55600" y="2070000"/>
            <a:ext cx="7772400" cy="4114800"/>
          </a:xfrm>
          <a:prstGeom prst="rect">
            <a:avLst/>
          </a:prstGeom>
          <a:solidFill>
            <a:srgbClr val="6666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ontexte du corpus réduit l’espace des sens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s pour les deux mots :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cccc"/>
                </a:solidFill>
                <a:latin typeface="Times New Roman"/>
              </a:rPr>
              <a:t>Exempl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 (F = 362) / article (F = 35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051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2895480"/>
            <a:ext cx="1371600" cy="1526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76920" y="228600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killing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ath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2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6576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circonstances de 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the circumstances of the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un danger de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MS Mincho"/>
              </a:rPr>
              <a:t>a risk of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2286000"/>
            <a:ext cx="2362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mort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4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76920" y="274320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privation of lif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fr-FR" sz="3200" spc="-1" strike="noStrike">
                <a:solidFill>
                  <a:srgbClr val="ccccff"/>
                </a:solidFill>
                <a:latin typeface="Times New Roman"/>
              </a:rPr>
              <a:t>F</a:t>
            </a:r>
            <a:r>
              <a:rPr b="0" lang="fr-FR" sz="3200" spc="-1" strike="noStrike">
                <a:solidFill>
                  <a:srgbClr val="ccccff"/>
                </a:solidFill>
                <a:latin typeface="Times New Roman"/>
              </a:rPr>
              <a:t>=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533412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ntional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fligée  –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3320" y="1778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8480" y="901440"/>
            <a:ext cx="80755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pus parallèles multiling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emple : le corpus parallèle </a:t>
            </a:r>
            <a:r>
              <a:rPr b="1" i="1" lang="fr-FR" sz="2000" spc="-1" strike="noStrike">
                <a:solidFill>
                  <a:srgbClr val="ccccff"/>
                </a:solidFill>
                <a:latin typeface="Times New Roman"/>
              </a:rPr>
              <a:t>Convention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(français/angla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omaines d’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lignement automatique de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phr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ignement de mots et de syntagmes : problèmes et enjeu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Outils d’aide à la traduction à base de corpus align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cordanciers parallè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émoire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s quantitatives de corpus parallè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xtométrie multilingue : outils et méth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lassification automatique et alignement de tex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eaux parallèles de correspondances de tra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101600" y="2558880"/>
            <a:ext cx="4241520" cy="2492640"/>
            <a:chOff x="1101600" y="2558880"/>
            <a:chExt cx="4241520" cy="2492640"/>
          </a:xfrm>
        </p:grpSpPr>
        <p:sp>
          <p:nvSpPr>
            <p:cNvPr id="357" name=""/>
            <p:cNvSpPr/>
            <p:nvPr/>
          </p:nvSpPr>
          <p:spPr>
            <a:xfrm>
              <a:off x="1371240" y="2739960"/>
              <a:ext cx="397188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44520" indent="-12445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peti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6666ff"/>
                  </a:solidFill>
                  <a:latin typeface="Times New Roman"/>
                </a:rPr>
                <a:t>requête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complaint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6666ff"/>
                  </a:solidFill>
                  <a:latin typeface="Times New Roman"/>
                </a:rPr>
                <a:t>F = 23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matter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12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lication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2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244520" indent="-1244520"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24764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appeal</a:t>
              </a: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	</a:t>
              </a:r>
              <a:r>
                <a:rPr b="0" i="1" lang="en-GB" sz="1800" spc="-1" strike="noStrike">
                  <a:solidFill>
                    <a:srgbClr val="ff3300"/>
                  </a:solidFill>
                  <a:latin typeface="Times New Roman"/>
                </a:rPr>
                <a:t>F = 4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101600" y="2558880"/>
              <a:ext cx="4093920" cy="1904760"/>
              <a:chOff x="1101600" y="2558880"/>
              <a:chExt cx="4093920" cy="1904760"/>
            </a:xfrm>
          </p:grpSpPr>
          <p:sp>
            <p:nvSpPr>
              <p:cNvPr id="359" name=""/>
              <p:cNvSpPr/>
              <p:nvPr/>
            </p:nvSpPr>
            <p:spPr>
              <a:xfrm>
                <a:off x="2486520" y="2804040"/>
                <a:ext cx="0" cy="1442880"/>
              </a:xfrm>
              <a:prstGeom prst="line">
                <a:avLst/>
              </a:prstGeom>
              <a:ln w="2844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101600" y="2558880"/>
                <a:ext cx="4093920" cy="190476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606920" y="2379600"/>
            <a:ext cx="4470480" cy="1339920"/>
            <a:chOff x="4606920" y="2379600"/>
            <a:chExt cx="4470480" cy="1339920"/>
          </a:xfrm>
        </p:grpSpPr>
        <p:grpSp>
          <p:nvGrpSpPr>
            <p:cNvPr id="362" name=""/>
            <p:cNvGrpSpPr/>
            <p:nvPr/>
          </p:nvGrpSpPr>
          <p:grpSpPr>
            <a:xfrm>
              <a:off x="4606920" y="2379600"/>
              <a:ext cx="4470480" cy="1339920"/>
              <a:chOff x="4606920" y="2379600"/>
              <a:chExt cx="4470480" cy="1339920"/>
            </a:xfrm>
          </p:grpSpPr>
          <p:sp>
            <p:nvSpPr>
              <p:cNvPr id="363" name=""/>
              <p:cNvSpPr/>
              <p:nvPr/>
            </p:nvSpPr>
            <p:spPr>
              <a:xfrm>
                <a:off x="4606920" y="2379600"/>
                <a:ext cx="3899160" cy="890640"/>
              </a:xfrm>
              <a:prstGeom prst="ellipse">
                <a:avLst/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962600" y="2544840"/>
                <a:ext cx="4114800" cy="11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244520" indent="-124452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fr-FR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fr-FR" sz="1800" spc="-1" strike="noStrike">
                    <a:solidFill>
                      <a:srgbClr val="6666ff"/>
                    </a:solidFill>
                    <a:latin typeface="Times New Roman"/>
                  </a:rPr>
                  <a:t>recours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use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17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i="1" lang="en-GB" sz="1800" spc="-1" strike="noStrike">
                    <a:solidFill>
                      <a:srgbClr val="6666ff"/>
                    </a:solidFill>
                    <a:latin typeface="Times New Roman"/>
                  </a:rPr>
                  <a:t>F = 294</a:t>
                </a: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remedies</a:t>
                </a:r>
                <a:r>
                  <a:rPr b="0" lang="en-GB" sz="1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i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F = 2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1244520" indent="-1244520">
                  <a:lnSpc>
                    <a:spcPct val="30000"/>
                  </a:lnSpc>
                  <a:spcBef>
                    <a:spcPts val="1125"/>
                  </a:spcBef>
                  <a:tabLst>
                    <a:tab algn="l" pos="0"/>
                    <a:tab algn="l" pos="22860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080400" y="2558880"/>
              <a:ext cx="0" cy="5698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591000" y="2765520"/>
            <a:ext cx="1438200" cy="152280"/>
            <a:chOff x="3591000" y="2765520"/>
            <a:chExt cx="1438200" cy="152280"/>
          </a:xfrm>
        </p:grpSpPr>
        <p:sp>
          <p:nvSpPr>
            <p:cNvPr id="367" name=""/>
            <p:cNvSpPr/>
            <p:nvPr/>
          </p:nvSpPr>
          <p:spPr>
            <a:xfrm>
              <a:off x="3591000" y="2765520"/>
              <a:ext cx="1438200" cy="8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03600" y="2765520"/>
              <a:ext cx="0" cy="152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954320" y="4067280"/>
            <a:ext cx="347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correspondances non univ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 :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correspondances lexicales multiples (i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1" name="ppt7" descr=""/>
          <p:cNvPicPr/>
          <p:nvPr/>
        </p:nvPicPr>
        <p:blipFill>
          <a:blip r:embed="rId1"/>
          <a:stretch/>
        </p:blipFill>
        <p:spPr>
          <a:xfrm>
            <a:off x="1093680" y="1990800"/>
            <a:ext cx="8050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pt2" descr=""/>
          <p:cNvPicPr/>
          <p:nvPr/>
        </p:nvPicPr>
        <p:blipFill>
          <a:blip r:embed="rId1"/>
          <a:stretch/>
        </p:blipFill>
        <p:spPr>
          <a:xfrm>
            <a:off x="1195560" y="1546200"/>
            <a:ext cx="7103880" cy="5208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028880" y="68580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es de sélection et de classements de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segments répété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pour l’appariement</a:t>
            </a:r>
            <a:r>
              <a:rPr b="0" i="1" lang="fr-F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ppt3" descr=""/>
          <p:cNvPicPr/>
          <p:nvPr/>
        </p:nvPicPr>
        <p:blipFill>
          <a:blip r:embed="rId2"/>
          <a:stretch/>
        </p:blipFill>
        <p:spPr>
          <a:xfrm>
            <a:off x="0" y="3938760"/>
            <a:ext cx="9144000" cy="213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030320" y="0"/>
            <a:ext cx="8356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approche quanti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95560" y="2104920"/>
            <a:ext cx="7583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segments recensés autour de formes  équivalentes  sont triés par ordre décroissant des fréquences, les segments de même fréquence étant triés par ordre de longueur décroissant.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17440" y="392436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ification automatique et alignement de tex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2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803240" y="2513160"/>
            <a:ext cx="6239160" cy="39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1181160" y="15494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2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181160" y="15494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08200" y="2405160"/>
          <a:ext cx="66722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2405160"/>
                    <a:ext cx="6672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888840" y="2376360"/>
          <a:ext cx="8202600" cy="43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2376360"/>
                    <a:ext cx="8202600" cy="43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45680" y="3934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es variations de fréquence dans les corpus parallèles 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: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es partitions de corpu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44520" y="15368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ccccff"/>
                </a:solidFill>
                <a:latin typeface="Times New Roman"/>
              </a:rPr>
              <a:t>: Exemple 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015920" y="0"/>
            <a:ext cx="82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15920" y="1257480"/>
            <a:ext cx="79758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pliquée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tableaux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lexicaux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qui contiennent formes et segments répétés de deux textes, la classification regroupe des éléments aux </a:t>
            </a: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profils de ventilation</a:t>
            </a:r>
            <a:r>
              <a:rPr b="0" i="1" lang="fr-FR" sz="20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ch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3886200"/>
            <a:ext cx="883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éponses à</a:t>
            </a:r>
            <a:r>
              <a:rPr b="0" lang="fr-FR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1  1  0  0  2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replies to</a:t>
            </a: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1  1  0  1  0  0  1  2  2  0  1  1  0  0  0  2  0 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 ju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11  0  0  2  0  0  0  1  4  1  0  0  0  0  2  0  0  2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he judges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15  0  0  1  2  0  0  3  5  2  0  0  0  0  2  0  0  0  0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d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0  0  0  0  0  0  0  1  0  0  0  0  0  0  0  6  1  0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erdict o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0  0  0  0  0  0  0  0  0  0  0  0  0  0  0  6  1  1  3 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60" y="3978360"/>
            <a:ext cx="533160" cy="453600"/>
            <a:chOff x="360" y="3978360"/>
            <a:chExt cx="533160" cy="453600"/>
          </a:xfrm>
        </p:grpSpPr>
        <p:sp>
          <p:nvSpPr>
            <p:cNvPr id="394" name=""/>
            <p:cNvSpPr/>
            <p:nvPr/>
          </p:nvSpPr>
          <p:spPr>
            <a:xfrm flipH="1">
              <a:off x="272880" y="441684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272880" y="399060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360" y="420372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82600" y="397836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60" y="4692600"/>
            <a:ext cx="533160" cy="453600"/>
            <a:chOff x="360" y="4692600"/>
            <a:chExt cx="533160" cy="453600"/>
          </a:xfrm>
        </p:grpSpPr>
        <p:sp>
          <p:nvSpPr>
            <p:cNvPr id="399" name=""/>
            <p:cNvSpPr/>
            <p:nvPr/>
          </p:nvSpPr>
          <p:spPr>
            <a:xfrm flipH="1">
              <a:off x="272880" y="513108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72880" y="470484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60" y="491796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82600" y="469260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0" y="5421240"/>
            <a:ext cx="533160" cy="453600"/>
            <a:chOff x="360" y="5421240"/>
            <a:chExt cx="533160" cy="453600"/>
          </a:xfrm>
        </p:grpSpPr>
        <p:sp>
          <p:nvSpPr>
            <p:cNvPr id="404" name=""/>
            <p:cNvSpPr/>
            <p:nvPr/>
          </p:nvSpPr>
          <p:spPr>
            <a:xfrm flipH="1">
              <a:off x="272880" y="5859720"/>
              <a:ext cx="260640" cy="252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2880" y="5433480"/>
              <a:ext cx="26064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0" y="5646600"/>
              <a:ext cx="261000" cy="18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82600" y="5421240"/>
              <a:ext cx="0" cy="453600"/>
            </a:xfrm>
            <a:prstGeom prst="line">
              <a:avLst/>
            </a:prstGeom>
            <a:ln w="2844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465960" y="3438360"/>
            <a:ext cx="2678040" cy="712800"/>
          </a:xfrm>
          <a:noFill/>
          <a:ln w="1584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cc"/>
                </a:solidFill>
                <a:latin typeface="Tahoma"/>
              </a:rPr>
              <a:t>fréquence par par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106640" y="1546200"/>
            <a:ext cx="7989840" cy="530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101600" y="1060560"/>
            <a:ext cx="7999560" cy="5797440"/>
            <a:chOff x="1101600" y="1060560"/>
            <a:chExt cx="7999560" cy="5797440"/>
          </a:xfrm>
        </p:grpSpPr>
        <p:grpSp>
          <p:nvGrpSpPr>
            <p:cNvPr id="411" name=""/>
            <p:cNvGrpSpPr/>
            <p:nvPr/>
          </p:nvGrpSpPr>
          <p:grpSpPr>
            <a:xfrm>
              <a:off x="1105560" y="1064160"/>
              <a:ext cx="7990920" cy="5789880"/>
              <a:chOff x="1105560" y="1064160"/>
              <a:chExt cx="7990920" cy="57898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1105560" y="1064160"/>
                <a:ext cx="7990920" cy="482400"/>
                <a:chOff x="1105560" y="1064160"/>
                <a:chExt cx="7990920" cy="4824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144080" y="1064160"/>
                  <a:ext cx="791352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r>
                    <a:rPr b="1" i="1" lang="fr-FR" sz="2400" spc="-1" strike="noStrike">
                      <a:solidFill>
                        <a:srgbClr val="ccccff"/>
                      </a:solidFill>
                      <a:latin typeface="Times New Roman"/>
                      <a:ea typeface="Times New Roman"/>
                    </a:rPr>
                    <a:t>Corpus </a:t>
                  </a:r>
                  <a:r>
                    <a:rPr b="1" i="1" lang="fr-FR" sz="2400" spc="-1" strike="noStrike">
                      <a:solidFill>
                        <a:srgbClr val="6666ff"/>
                      </a:solidFill>
                      <a:latin typeface="Times New Roman"/>
                      <a:ea typeface="Times New Roman"/>
                    </a:rPr>
                    <a:t>Convention</a:t>
                  </a:r>
                  <a:r>
                    <a:rPr b="1" i="1" lang="fr-FR" sz="2400" spc="-1" strike="noStrike">
                      <a:solidFill>
                        <a:srgbClr val="ccccff"/>
                      </a:solidFill>
                      <a:latin typeface="Times New Roman"/>
                      <a:ea typeface="Times New Roman"/>
                    </a:rPr>
                    <a:t> : résultats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105560" y="1064160"/>
                  <a:ext cx="799092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105560" y="1546560"/>
                <a:ext cx="3828960" cy="482400"/>
                <a:chOff x="1105560" y="1546560"/>
                <a:chExt cx="3828960" cy="4824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144080" y="15465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>
                      <a:solidFill>
                        <a:srgbClr val="3333ff"/>
                      </a:solidFill>
                      <a:latin typeface="Courier New"/>
                      <a:ea typeface="Courier New"/>
                    </a:rPr>
                    <a:t>Segment répété françai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05560" y="15465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34520" y="1546560"/>
                <a:ext cx="4161600" cy="482400"/>
                <a:chOff x="4934520" y="1546560"/>
                <a:chExt cx="4161600" cy="4824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73400" y="15465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400" spc="-1" strike="noStrike">
                      <a:solidFill>
                        <a:srgbClr val="ff3300"/>
                      </a:solidFill>
                      <a:latin typeface="Courier New"/>
                      <a:ea typeface="Courier New"/>
                    </a:rPr>
                    <a:t>Segment répété anglai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34520" y="15465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105560" y="2028960"/>
                <a:ext cx="3828960" cy="482400"/>
                <a:chOff x="1105560" y="2028960"/>
                <a:chExt cx="3828960" cy="482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144080" y="20289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a date d’entrée en vigueur du présent protocol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105560" y="20289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934520" y="2028960"/>
                <a:ext cx="4161600" cy="482400"/>
                <a:chOff x="4934520" y="2028960"/>
                <a:chExt cx="4161600" cy="4824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973400" y="20289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date of entry into force of this protocol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934520" y="20289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05560" y="2511360"/>
                <a:ext cx="3828960" cy="482400"/>
                <a:chOff x="1105560" y="2511360"/>
                <a:chExt cx="3828960" cy="48240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144080" y="25113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u secrétaire général du conseil de l’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05560" y="25113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934520" y="2511360"/>
                <a:ext cx="4161600" cy="482400"/>
                <a:chOff x="4934520" y="2511360"/>
                <a:chExt cx="4161600" cy="482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973400" y="25113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o the secretary general of the council of 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934520" y="25113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105560" y="2993760"/>
                <a:ext cx="3828960" cy="482400"/>
                <a:chOff x="1105560" y="2993760"/>
                <a:chExt cx="3828960" cy="4824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144080" y="299376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a haute partie contractant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105560" y="299376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934520" y="2993760"/>
                <a:ext cx="4161600" cy="482400"/>
                <a:chOff x="4934520" y="2993760"/>
                <a:chExt cx="4161600" cy="482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973400" y="299376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high contracting part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934520" y="299376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05560" y="3476520"/>
                <a:ext cx="3828960" cy="482400"/>
                <a:chOff x="1105560" y="3476520"/>
                <a:chExt cx="3828960" cy="4824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44080" y="34765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mois après la date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105560" y="34765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934520" y="3476520"/>
                <a:ext cx="4161600" cy="482400"/>
                <a:chOff x="4934520" y="3476520"/>
                <a:chExt cx="4161600" cy="4824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973400" y="34765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months after the dat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934520" y="34765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105560" y="3958920"/>
                <a:ext cx="3828960" cy="482400"/>
                <a:chOff x="1105560" y="3958920"/>
                <a:chExt cx="3828960" cy="482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144080" y="39589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ssemblée consultativ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105560" y="39589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934520" y="3958920"/>
                <a:ext cx="4161600" cy="482400"/>
                <a:chOff x="4934520" y="3958920"/>
                <a:chExt cx="4161600" cy="4824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73400" y="39589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consultative assembl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34520" y="39589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105560" y="4441320"/>
                <a:ext cx="3828960" cy="482400"/>
                <a:chOff x="1105560" y="4441320"/>
                <a:chExt cx="3828960" cy="4824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44080" y="444132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dressée au secrétaire général du conseil de l’europe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05560" y="444132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934520" y="4441320"/>
                <a:ext cx="4161600" cy="482400"/>
                <a:chOff x="4934520" y="4441320"/>
                <a:chExt cx="4161600" cy="4824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973400" y="444132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addressed to the secretary general of the council of europ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934520" y="444132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1105560" y="4924080"/>
                <a:ext cx="3828960" cy="482400"/>
                <a:chOff x="1105560" y="4924080"/>
                <a:chExt cx="3828960" cy="4824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1144080" y="49240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les membres de la commission sont élus</a:t>
                  </a: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105560" y="49240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934520" y="4924080"/>
                <a:ext cx="4161600" cy="482400"/>
                <a:chOff x="4934520" y="4924080"/>
                <a:chExt cx="4161600" cy="4824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973400" y="49240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members of the commission shall be electe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934520" y="49240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105560" y="5406480"/>
                <a:ext cx="3828960" cy="482400"/>
                <a:chOff x="1105560" y="5406480"/>
                <a:chExt cx="3828960" cy="482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144080" y="54064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par le comité des ministre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05560" y="54064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934520" y="5406480"/>
                <a:ext cx="4161600" cy="482400"/>
                <a:chOff x="4934520" y="5406480"/>
                <a:chExt cx="4161600" cy="482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973400" y="54064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by the committee of minister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934520" y="54064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1105560" y="5888880"/>
                <a:ext cx="3828960" cy="482400"/>
                <a:chOff x="1105560" y="5888880"/>
                <a:chExt cx="3828960" cy="4824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1144080" y="588888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sécurité nationale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105560" y="588888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4520" y="5888880"/>
                <a:ext cx="4161600" cy="482400"/>
                <a:chOff x="4934520" y="5888880"/>
                <a:chExt cx="4161600" cy="4824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73400" y="588888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national security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4520" y="588888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1105560" y="6371640"/>
                <a:ext cx="3828960" cy="482400"/>
                <a:chOff x="1105560" y="6371640"/>
                <a:chExt cx="3828960" cy="48240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1144080" y="6371640"/>
                  <a:ext cx="375156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états intéressés 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105560" y="6371640"/>
                  <a:ext cx="382896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934520" y="6371640"/>
                <a:ext cx="4161600" cy="482400"/>
                <a:chOff x="4934520" y="6371640"/>
                <a:chExt cx="4161600" cy="4824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973400" y="6371640"/>
                  <a:ext cx="4083840" cy="48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400" spc="-1" strike="noStrike">
                      <a:solidFill>
                        <a:srgbClr val="003399"/>
                      </a:solidFill>
                      <a:latin typeface="Courier New"/>
                      <a:ea typeface="Courier New"/>
                    </a:rPr>
                    <a:t>the states concerne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0720"/>
                      <a:tab algn="l" pos="1890720"/>
                      <a:tab algn="l" pos="2430360"/>
                      <a:tab algn="l" pos="2700360"/>
                      <a:tab algn="l" pos="2970360"/>
                      <a:tab algn="l" pos="3511440"/>
                      <a:tab algn="l" pos="3781440"/>
                      <a:tab algn="l" pos="4051440"/>
                      <a:tab algn="l" pos="4591080"/>
                      <a:tab algn="l" pos="4861080"/>
                      <a:tab algn="l" pos="5130720"/>
                      <a:tab algn="l" pos="5670720"/>
                      <a:tab algn="l" pos="5940360"/>
                      <a:tab algn="l" pos="6210360"/>
                      <a:tab algn="l" pos="6751800"/>
                      <a:tab algn="l" pos="702144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934520" y="6371640"/>
                  <a:ext cx="4161600" cy="48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1101600" y="1060560"/>
              <a:ext cx="7999560" cy="5797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101600" y="-79200"/>
            <a:ext cx="819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49320" y="0"/>
            <a:ext cx="844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ii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54080" y="1673280"/>
            <a:ext cx="788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 équivalen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occurrenc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se retrouvent parfois dans les mêmes classes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5408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br" descr=""/>
          <p:cNvPicPr/>
          <p:nvPr/>
        </p:nvPicPr>
        <p:blipFill>
          <a:blip r:embed="rId1"/>
          <a:stretch/>
        </p:blipFill>
        <p:spPr>
          <a:xfrm>
            <a:off x="2241720" y="3425760"/>
            <a:ext cx="3235320" cy="29876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487" name="leg" descr=""/>
          <p:cNvPicPr/>
          <p:nvPr/>
        </p:nvPicPr>
        <p:blipFill>
          <a:blip r:embed="rId2"/>
          <a:stretch/>
        </p:blipFill>
        <p:spPr>
          <a:xfrm>
            <a:off x="2751120" y="3689280"/>
            <a:ext cx="1782720" cy="593640"/>
          </a:xfrm>
          <a:prstGeom prst="rect">
            <a:avLst/>
          </a:prstGeom>
          <a:ln w="0">
            <a:noFill/>
          </a:ln>
        </p:spPr>
      </p:pic>
      <p:pic>
        <p:nvPicPr>
          <p:cNvPr id="488" name="br2" descr=""/>
          <p:cNvPicPr/>
          <p:nvPr/>
        </p:nvPicPr>
        <p:blipFill>
          <a:blip r:embed="rId3"/>
          <a:stretch/>
        </p:blipFill>
        <p:spPr>
          <a:xfrm>
            <a:off x="5559480" y="3438360"/>
            <a:ext cx="3406680" cy="29750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489" name="leg2" descr=""/>
          <p:cNvPicPr/>
          <p:nvPr/>
        </p:nvPicPr>
        <p:blipFill>
          <a:blip r:embed="rId4"/>
          <a:stretch/>
        </p:blipFill>
        <p:spPr>
          <a:xfrm>
            <a:off x="6056280" y="3689280"/>
            <a:ext cx="1600200" cy="2858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85800" y="3425760"/>
            <a:ext cx="1409760" cy="197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CLASSE 265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tely necess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absolument nécessai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3399"/>
                </a:solidFill>
                <a:latin typeface="Courier New"/>
                <a:ea typeface="MS Mincho"/>
              </a:rPr>
              <a:t>homicide lég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5153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5040" y="4924440"/>
            <a:ext cx="1333440" cy="4953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22840" y="2984400"/>
            <a:ext cx="39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"/>
          <p:cNvGraphicFramePr/>
          <p:nvPr/>
        </p:nvGraphicFramePr>
        <p:xfrm>
          <a:off x="1828800" y="3340080"/>
          <a:ext cx="6286680" cy="124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40080"/>
                    <a:ext cx="6286680" cy="124452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7719480" y="3681360"/>
            <a:ext cx="305280" cy="228600"/>
            <a:chOff x="7719480" y="3681360"/>
            <a:chExt cx="305280" cy="228600"/>
          </a:xfrm>
        </p:grpSpPr>
        <p:sp>
          <p:nvSpPr>
            <p:cNvPr id="497" name=""/>
            <p:cNvSpPr/>
            <p:nvPr/>
          </p:nvSpPr>
          <p:spPr>
            <a:xfrm>
              <a:off x="7719840" y="368136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4760" y="368136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719480" y="390996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00" name=""/>
          <p:cNvGraphicFramePr/>
          <p:nvPr/>
        </p:nvGraphicFramePr>
        <p:xfrm>
          <a:off x="1828800" y="4838760"/>
          <a:ext cx="6286680" cy="12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838760"/>
                    <a:ext cx="6286680" cy="128268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02" name=""/>
          <p:cNvGrpSpPr/>
          <p:nvPr/>
        </p:nvGrpSpPr>
        <p:grpSpPr>
          <a:xfrm>
            <a:off x="7719480" y="5208480"/>
            <a:ext cx="305280" cy="228600"/>
            <a:chOff x="7719480" y="5208480"/>
            <a:chExt cx="305280" cy="228600"/>
          </a:xfrm>
        </p:grpSpPr>
        <p:sp>
          <p:nvSpPr>
            <p:cNvPr id="503" name=""/>
            <p:cNvSpPr/>
            <p:nvPr/>
          </p:nvSpPr>
          <p:spPr>
            <a:xfrm>
              <a:off x="7719840" y="52084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4760" y="5208480"/>
              <a:ext cx="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719480" y="5437080"/>
              <a:ext cx="304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323040" y="2540160"/>
            <a:ext cx="1792080" cy="716040"/>
            <a:chOff x="6323040" y="2540160"/>
            <a:chExt cx="1792080" cy="716040"/>
          </a:xfrm>
        </p:grpSpPr>
        <p:sp>
          <p:nvSpPr>
            <p:cNvPr id="507" name=""/>
            <p:cNvSpPr/>
            <p:nvPr/>
          </p:nvSpPr>
          <p:spPr>
            <a:xfrm>
              <a:off x="6323040" y="2540160"/>
              <a:ext cx="1790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3333ff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33ff"/>
                  </a:solidFill>
                  <a:latin typeface="Arial"/>
                </a:rPr>
                <a:t>=</a:t>
              </a: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i="1" lang="fr-FR" sz="1800" spc="-1" strike="noStrike">
                  <a:solidFill>
                    <a:srgbClr val="3333ff"/>
                  </a:solidFill>
                  <a:latin typeface="Courier New"/>
                </a:rPr>
                <a:t>franç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24840" y="2858760"/>
              <a:ext cx="17902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ff3300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i="1" lang="fr-FR" sz="1800" spc="-1" strike="noStrike">
                  <a:solidFill>
                    <a:srgbClr val="ff3300"/>
                  </a:solidFill>
                  <a:latin typeface="Courier New"/>
                </a:rPr>
                <a:t>angl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952560" y="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iv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55600" y="102888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41480" y="1657440"/>
            <a:ext cx="7886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pparier les formes et segments avec des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</a:rPr>
              <a:t>fréquences générales homogènes</a:t>
            </a:r>
            <a:r>
              <a:rPr b="0" i="1" lang="fr-FR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349360" y="2552760"/>
            <a:ext cx="393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Corpus parallèles multilingu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77760" y="0"/>
            <a:ext cx="834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ffff"/>
                </a:solidFill>
                <a:latin typeface="Times New Roman"/>
              </a:rPr>
              <a:t>Classification ascendante hiérarchique </a:t>
            </a:r>
            <a:r>
              <a:rPr b="0" lang="fr-FR" sz="3500" spc="-1" strike="noStrike">
                <a:solidFill>
                  <a:srgbClr val="00ffff"/>
                </a:solidFill>
                <a:latin typeface="Times New Roman"/>
              </a:rPr>
              <a:t>(v)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79640" y="1015920"/>
            <a:ext cx="55753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iltrage de bruit dans les résultats 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ii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57480" y="1720800"/>
            <a:ext cx="7886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enir compte de l’influence du 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</a:rPr>
              <a:t>découpag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u corpu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1981080" y="3111480"/>
          <a:ext cx="62103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11480"/>
                    <a:ext cx="6210360" cy="3048120"/>
                  </a:xfrm>
                  <a:prstGeom prst="rect">
                    <a:avLst/>
                  </a:prstGeom>
                  <a:ln w="936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"/>
          <p:cNvGrpSpPr/>
          <p:nvPr/>
        </p:nvGrpSpPr>
        <p:grpSpPr>
          <a:xfrm>
            <a:off x="5292720" y="3557520"/>
            <a:ext cx="2513880" cy="2349000"/>
            <a:chOff x="5292720" y="3557520"/>
            <a:chExt cx="2513880" cy="2349000"/>
          </a:xfrm>
        </p:grpSpPr>
        <p:grpSp>
          <p:nvGrpSpPr>
            <p:cNvPr id="519" name=""/>
            <p:cNvGrpSpPr/>
            <p:nvPr/>
          </p:nvGrpSpPr>
          <p:grpSpPr>
            <a:xfrm>
              <a:off x="5292720" y="3557520"/>
              <a:ext cx="2513880" cy="1017360"/>
              <a:chOff x="5292720" y="3557520"/>
              <a:chExt cx="2513880" cy="1017360"/>
            </a:xfrm>
          </p:grpSpPr>
          <p:sp>
            <p:nvSpPr>
              <p:cNvPr id="520" name=""/>
              <p:cNvSpPr/>
              <p:nvPr/>
            </p:nvSpPr>
            <p:spPr>
              <a:xfrm>
                <a:off x="5292720" y="35575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2720" y="3557520"/>
                <a:ext cx="0" cy="10173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06600" y="3557520"/>
                <a:ext cx="0" cy="10173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92720" y="457488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292720" y="4810320"/>
              <a:ext cx="2513880" cy="547920"/>
              <a:chOff x="5292720" y="4810320"/>
              <a:chExt cx="2513880" cy="547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292720" y="48103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292720" y="535824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292720" y="4810320"/>
                <a:ext cx="0" cy="547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06600" y="4810320"/>
                <a:ext cx="0" cy="547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5292720" y="5515200"/>
              <a:ext cx="2513880" cy="391320"/>
              <a:chOff x="5292720" y="5515200"/>
              <a:chExt cx="2513880" cy="391320"/>
            </a:xfrm>
          </p:grpSpPr>
          <p:sp>
            <p:nvSpPr>
              <p:cNvPr id="530" name=""/>
              <p:cNvSpPr/>
              <p:nvPr/>
            </p:nvSpPr>
            <p:spPr>
              <a:xfrm>
                <a:off x="5292720" y="551520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92720" y="5906520"/>
                <a:ext cx="251388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92720" y="5515200"/>
                <a:ext cx="0" cy="3913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806600" y="5515200"/>
                <a:ext cx="0" cy="3913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2282760" y="3575160"/>
            <a:ext cx="2133720" cy="2349000"/>
            <a:chOff x="2282760" y="3575160"/>
            <a:chExt cx="2133720" cy="2349000"/>
          </a:xfrm>
        </p:grpSpPr>
        <p:sp>
          <p:nvSpPr>
            <p:cNvPr id="535" name=""/>
            <p:cNvSpPr/>
            <p:nvPr/>
          </p:nvSpPr>
          <p:spPr>
            <a:xfrm>
              <a:off x="4416480" y="3575160"/>
              <a:ext cx="0" cy="2349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2760" y="3575160"/>
              <a:ext cx="0" cy="2349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82760" y="5924160"/>
              <a:ext cx="2133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82760" y="3575160"/>
              <a:ext cx="2133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 rot="10800600">
            <a:off x="4587480" y="3555720"/>
            <a:ext cx="533520" cy="2286000"/>
          </a:xfrm>
          <a:custGeom>
            <a:avLst/>
            <a:gdLst>
              <a:gd name="textAreaLeft" fmla="*/ 0 w 533520"/>
              <a:gd name="textAreaRight" fmla="*/ 192600 w 5335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399360" y="2311560"/>
            <a:ext cx="1791720" cy="716040"/>
            <a:chOff x="6399360" y="2311560"/>
            <a:chExt cx="1791720" cy="716040"/>
          </a:xfrm>
        </p:grpSpPr>
        <p:sp>
          <p:nvSpPr>
            <p:cNvPr id="541" name=""/>
            <p:cNvSpPr/>
            <p:nvPr/>
          </p:nvSpPr>
          <p:spPr>
            <a:xfrm>
              <a:off x="6399360" y="2311560"/>
              <a:ext cx="179028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3333ff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33ff"/>
                  </a:solidFill>
                  <a:latin typeface="Arial"/>
                </a:rPr>
                <a:t>=</a:t>
              </a:r>
              <a:r>
                <a:rPr b="0" lang="fr-FR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i="1" lang="fr-FR" sz="1800" spc="-1" strike="noStrike">
                  <a:solidFill>
                    <a:srgbClr val="3333ff"/>
                  </a:solidFill>
                  <a:latin typeface="Courier New"/>
                </a:rPr>
                <a:t>franç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1160" y="2630160"/>
              <a:ext cx="178992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spcAft>
                  <a:spcPts val="113"/>
                </a:spcAft>
                <a:buClr>
                  <a:srgbClr val="ff3300"/>
                </a:buClr>
                <a:buSzPct val="6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= </a:t>
              </a:r>
              <a:r>
                <a:rPr b="1" i="1" lang="fr-FR" sz="1800" spc="-1" strike="noStrike">
                  <a:solidFill>
                    <a:srgbClr val="ff3300"/>
                  </a:solidFill>
                  <a:latin typeface="Courier New"/>
                </a:rPr>
                <a:t>angla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527200" y="2438280"/>
            <a:ext cx="393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rpus 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Con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080" y="3924360"/>
            <a:ext cx="81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xploration topographique d’équivalences de tra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repérage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pécific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permet de sélectionner pour un sous-ensemble quelconque de phrases du corpus une série d’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uni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textuel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surreprésentées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ans ce fragment par rapport à l’ensemble du corpu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Il est possible d’établir ce genre de diagnostic parallèlement pour les deux volets du corpus bilingu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7976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4343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30400" y="5638680"/>
            <a:ext cx="193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français contenant la forme « démocrati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03440" y="5613480"/>
            <a:ext cx="179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029200" y="3809880"/>
            <a:ext cx="389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le</a:t>
            </a:r>
            <a:r>
              <a:rPr b="0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 </a:t>
            </a:r>
            <a:r>
              <a:rPr b="1" lang="fr-FR" sz="1600" spc="-1" strike="noStrike">
                <a:solidFill>
                  <a:srgbClr val="00cccc"/>
                </a:solidFill>
                <a:latin typeface="Tahoma"/>
                <a:ea typeface="Times New Roman"/>
              </a:rPr>
              <a:t>calcul des spécificités</a:t>
            </a:r>
            <a:r>
              <a:rPr b="0" lang="fr-FR" sz="1600" spc="-1" strike="noStrike">
                <a:solidFill>
                  <a:srgbClr val="ccccff"/>
                </a:solidFill>
                <a:latin typeface="Tahoma"/>
                <a:ea typeface="Times New Roman"/>
              </a:rPr>
              <a:t> permet de sélectionner parallèlement pour chacun de ces fragments une série d’unités textuelles particulièrement caractéristiq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43480" y="4076640"/>
            <a:ext cx="74268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83080" y="4254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56080" y="4686480"/>
            <a:ext cx="425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87720" y="4927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152960" y="4686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432320" y="4076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679840" y="3594240"/>
            <a:ext cx="1396800" cy="520560"/>
          </a:xfrm>
          <a:custGeom>
            <a:avLst/>
            <a:gdLst>
              <a:gd name="textAreaLeft" fmla="*/ 244440 w 1396800"/>
              <a:gd name="textAreaRight" fmla="*/ 1012680 w 139680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36840" y="3657600"/>
            <a:ext cx="10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75120" y="3657600"/>
            <a:ext cx="110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292640" y="4991040"/>
            <a:ext cx="546120" cy="6098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27280" y="4025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739880" y="43308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5440" y="407664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05040" y="4254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78040" y="4686480"/>
            <a:ext cx="425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22640" y="4927680"/>
            <a:ext cx="74268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74920" y="468648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654280" y="407664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752120" y="5016600"/>
            <a:ext cx="698760" cy="5842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pt12" descr=""/>
          <p:cNvPicPr/>
          <p:nvPr/>
        </p:nvPicPr>
        <p:blipFill>
          <a:blip r:embed="rId1"/>
          <a:stretch/>
        </p:blipFill>
        <p:spPr>
          <a:xfrm>
            <a:off x="411120" y="3530520"/>
            <a:ext cx="873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ventil" descr=""/>
          <p:cNvPicPr/>
          <p:nvPr/>
        </p:nvPicPr>
        <p:blipFill>
          <a:blip r:embed="rId1"/>
          <a:stretch/>
        </p:blipFill>
        <p:spPr>
          <a:xfrm>
            <a:off x="1212840" y="1952640"/>
            <a:ext cx="7097760" cy="49053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139760" y="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Spécificité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36520" y="819000"/>
            <a:ext cx="784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comparaison des fréquences loca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(</a:t>
            </a:r>
            <a:r>
              <a:rPr b="0" i="1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f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et la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localisation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des unités dans les phrases alignées du fragment font apparaître des indices supplémentaires pour l’apparie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578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584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585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586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587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588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589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590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594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595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7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0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1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05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606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607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08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09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610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11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12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4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616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617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8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9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0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1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2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3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4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5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6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8" name="New-85" descr=""/>
          <p:cNvPicPr/>
          <p:nvPr/>
        </p:nvPicPr>
        <p:blipFill>
          <a:blip r:embed="rId38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  <p:grpSp>
        <p:nvGrpSpPr>
          <p:cNvPr id="629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630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631" name="ang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2" name="fra-sp" descr=""/>
              <p:cNvPicPr/>
              <p:nvPr/>
            </p:nvPicPr>
            <p:blipFill>
              <a:blip r:embed="rId40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3" name="selec" descr=""/>
            <p:cNvPicPr/>
            <p:nvPr/>
          </p:nvPicPr>
          <p:blipFill>
            <a:blip r:embed="rId41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selec" descr=""/>
            <p:cNvPicPr/>
            <p:nvPr/>
          </p:nvPicPr>
          <p:blipFill>
            <a:blip r:embed="rId42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636" name=""/>
            <p:cNvGrpSpPr/>
            <p:nvPr/>
          </p:nvGrpSpPr>
          <p:grpSpPr>
            <a:xfrm>
              <a:off x="139680" y="1314360"/>
              <a:ext cx="8621640" cy="1528920"/>
              <a:chOff x="139680" y="1314360"/>
              <a:chExt cx="8621640" cy="152892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638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section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40" name=""/>
              <p:cNvSpPr/>
              <p:nvPr/>
            </p:nvSpPr>
            <p:spPr>
              <a:xfrm>
                <a:off x="150840" y="1314360"/>
                <a:ext cx="5220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75160" y="1314360"/>
                <a:ext cx="52560" cy="54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42" name="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3" name="ttt" descr=""/>
              <p:cNvPicPr/>
              <p:nvPr/>
            </p:nvPicPr>
            <p:blipFill>
              <a:blip r:embed="rId46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4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645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647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9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654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56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8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59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660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61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62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63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664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665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669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670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1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2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3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5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6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8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9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0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681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682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683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684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685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686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687" name="a8_b" descr=""/>
          <p:cNvPicPr/>
          <p:nvPr/>
        </p:nvPicPr>
        <p:blipFill>
          <a:blip r:embed="rId27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688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-25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Topographie bi-textuelle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449600" y="1293840"/>
            <a:ext cx="4616640" cy="4971600"/>
            <a:chOff x="4449600" y="1293840"/>
            <a:chExt cx="4616640" cy="4971600"/>
          </a:xfrm>
        </p:grpSpPr>
        <p:grpSp>
          <p:nvGrpSpPr>
            <p:cNvPr id="694" name=""/>
            <p:cNvGrpSpPr/>
            <p:nvPr/>
          </p:nvGrpSpPr>
          <p:grpSpPr>
            <a:xfrm>
              <a:off x="4449600" y="1293840"/>
              <a:ext cx="4616640" cy="4971600"/>
              <a:chOff x="4449600" y="1293840"/>
              <a:chExt cx="4616640" cy="4971600"/>
            </a:xfrm>
          </p:grpSpPr>
          <p:pic>
            <p:nvPicPr>
              <p:cNvPr id="695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129384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6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2009520"/>
                <a:ext cx="45640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7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49600" y="2911320"/>
                <a:ext cx="4556160" cy="55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8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442080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9" name=""/>
              <p:cNvGrpSpPr/>
              <p:nvPr/>
            </p:nvGrpSpPr>
            <p:grpSpPr>
              <a:xfrm>
                <a:off x="4464000" y="5248080"/>
                <a:ext cx="4602240" cy="1017360"/>
                <a:chOff x="4464000" y="5248080"/>
                <a:chExt cx="4602240" cy="1017360"/>
              </a:xfrm>
            </p:grpSpPr>
            <p:pic>
              <p:nvPicPr>
                <p:cNvPr id="700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64000" y="5248080"/>
                  <a:ext cx="46022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8080560" y="5265000"/>
                  <a:ext cx="5220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504280" y="5352480"/>
                  <a:ext cx="52560" cy="53640"/>
                </a:xfrm>
                <a:prstGeom prst="rect">
                  <a:avLst/>
                </a:prstGeom>
                <a:solidFill>
                  <a:srgbClr val="00cccc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449600" y="3665160"/>
                <a:ext cx="4548240" cy="183960"/>
                <a:chOff x="4449600" y="3665160"/>
                <a:chExt cx="4548240" cy="183960"/>
              </a:xfrm>
            </p:grpSpPr>
            <p:pic>
              <p:nvPicPr>
                <p:cNvPr id="704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49600" y="3665160"/>
                  <a:ext cx="4548240" cy="18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5" name=""/>
                <p:cNvSpPr/>
                <p:nvPr/>
              </p:nvSpPr>
              <p:spPr>
                <a:xfrm>
                  <a:off x="8332560" y="3687120"/>
                  <a:ext cx="52560" cy="5364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8086680" y="5265360"/>
              <a:ext cx="58680" cy="6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05720" y="5351400"/>
              <a:ext cx="60120" cy="61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4448160" y="2552760"/>
            <a:ext cx="4621320" cy="3720960"/>
            <a:chOff x="4448160" y="2552760"/>
            <a:chExt cx="4621320" cy="3720960"/>
          </a:xfrm>
        </p:grpSpPr>
        <p:pic>
          <p:nvPicPr>
            <p:cNvPr id="710" name="f4m" descr=""/>
            <p:cNvPicPr/>
            <p:nvPr/>
          </p:nvPicPr>
          <p:blipFill>
            <a:blip r:embed="rId35"/>
            <a:stretch/>
          </p:blipFill>
          <p:spPr>
            <a:xfrm>
              <a:off x="4449600" y="2552760"/>
              <a:ext cx="45482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f9m" descr=""/>
            <p:cNvPicPr/>
            <p:nvPr/>
          </p:nvPicPr>
          <p:blipFill>
            <a:blip r:embed="rId36"/>
            <a:stretch/>
          </p:blipFill>
          <p:spPr>
            <a:xfrm>
              <a:off x="4448160" y="496260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2" name="f7m" descr=""/>
            <p:cNvPicPr/>
            <p:nvPr/>
          </p:nvPicPr>
          <p:blipFill>
            <a:blip r:embed="rId37"/>
            <a:stretch/>
          </p:blipFill>
          <p:spPr>
            <a:xfrm>
              <a:off x="4468680" y="4064040"/>
              <a:ext cx="4556160" cy="18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"/>
            <p:cNvGrpSpPr/>
            <p:nvPr/>
          </p:nvGrpSpPr>
          <p:grpSpPr>
            <a:xfrm>
              <a:off x="4448160" y="5251320"/>
              <a:ext cx="4621320" cy="1022400"/>
              <a:chOff x="4448160" y="5251320"/>
              <a:chExt cx="4621320" cy="1022400"/>
            </a:xfrm>
          </p:grpSpPr>
          <p:pic>
            <p:nvPicPr>
              <p:cNvPr id="714" name="f1m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48160" y="5251320"/>
                <a:ext cx="4621320" cy="10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8078760" y="5267160"/>
                <a:ext cx="58680" cy="60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02480" y="5353200"/>
                <a:ext cx="60480" cy="61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720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2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cube" descr=""/>
          <p:cNvPicPr/>
          <p:nvPr/>
        </p:nvPicPr>
        <p:blipFill>
          <a:blip r:embed="rId41"/>
          <a:stretch/>
        </p:blipFill>
        <p:spPr>
          <a:xfrm>
            <a:off x="160200" y="6388200"/>
            <a:ext cx="3654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nalyse des résultat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143000" y="1143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(Frq.Tot.=4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80120" y="771480"/>
            <a:ext cx="3771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 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q.P.=3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03800" y="851040"/>
            <a:ext cx="0" cy="1380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178840" y="85104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59720" y="12826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a5_b" descr=""/>
          <p:cNvPicPr/>
          <p:nvPr/>
        </p:nvPicPr>
        <p:blipFill>
          <a:blip r:embed="rId1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1" name="a4_b" descr=""/>
          <p:cNvPicPr/>
          <p:nvPr/>
        </p:nvPicPr>
        <p:blipFill>
          <a:blip r:embed="rId2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732" name="a3_b" descr=""/>
          <p:cNvPicPr/>
          <p:nvPr/>
        </p:nvPicPr>
        <p:blipFill>
          <a:blip r:embed="rId3"/>
          <a:stretch/>
        </p:blipFill>
        <p:spPr>
          <a:xfrm>
            <a:off x="127080" y="36892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733" name="a2_b" descr=""/>
          <p:cNvPicPr/>
          <p:nvPr/>
        </p:nvPicPr>
        <p:blipFill>
          <a:blip r:embed="rId4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79524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37120" y="25686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6" name="a5" descr=""/>
          <p:cNvPicPr/>
          <p:nvPr/>
        </p:nvPicPr>
        <p:blipFill>
          <a:blip r:embed="rId5"/>
          <a:stretch/>
        </p:blipFill>
        <p:spPr>
          <a:xfrm>
            <a:off x="1396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7" name="a3" descr=""/>
          <p:cNvPicPr/>
          <p:nvPr/>
        </p:nvPicPr>
        <p:blipFill>
          <a:blip r:embed="rId6"/>
          <a:stretch/>
        </p:blipFill>
        <p:spPr>
          <a:xfrm>
            <a:off x="139680" y="3689280"/>
            <a:ext cx="4519800" cy="374760"/>
          </a:xfrm>
          <a:prstGeom prst="rect">
            <a:avLst/>
          </a:prstGeom>
          <a:ln w="0">
            <a:noFill/>
          </a:ln>
        </p:spPr>
      </p:pic>
      <p:pic>
        <p:nvPicPr>
          <p:cNvPr id="738" name="a2" descr=""/>
          <p:cNvPicPr/>
          <p:nvPr/>
        </p:nvPicPr>
        <p:blipFill>
          <a:blip r:embed="rId7"/>
          <a:stretch/>
        </p:blipFill>
        <p:spPr>
          <a:xfrm>
            <a:off x="139680" y="29703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39" name="a3_b" descr=""/>
          <p:cNvPicPr/>
          <p:nvPr/>
        </p:nvPicPr>
        <p:blipFill>
          <a:blip r:embed="rId8"/>
          <a:stretch/>
        </p:blipFill>
        <p:spPr>
          <a:xfrm>
            <a:off x="4486320" y="36990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740" name="a2_b" descr=""/>
          <p:cNvPicPr/>
          <p:nvPr/>
        </p:nvPicPr>
        <p:blipFill>
          <a:blip r:embed="rId9"/>
          <a:stretch/>
        </p:blipFill>
        <p:spPr>
          <a:xfrm>
            <a:off x="4457880" y="297036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741" name="a5_b" descr=""/>
          <p:cNvPicPr/>
          <p:nvPr/>
        </p:nvPicPr>
        <p:blipFill>
          <a:blip r:embed="rId10"/>
          <a:stretch/>
        </p:blipFill>
        <p:spPr>
          <a:xfrm>
            <a:off x="4457880" y="4589640"/>
            <a:ext cx="4555800" cy="552240"/>
          </a:xfrm>
          <a:prstGeom prst="rect">
            <a:avLst/>
          </a:prstGeom>
          <a:ln w="0">
            <a:noFill/>
          </a:ln>
        </p:spPr>
      </p:pic>
      <p:pic>
        <p:nvPicPr>
          <p:cNvPr id="742" name="_1" descr=""/>
          <p:cNvPicPr/>
          <p:nvPr/>
        </p:nvPicPr>
        <p:blipFill>
          <a:blip r:embed="rId11"/>
          <a:stretch/>
        </p:blipFill>
        <p:spPr>
          <a:xfrm>
            <a:off x="4456080" y="29718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743" name="_2" descr=""/>
          <p:cNvPicPr/>
          <p:nvPr/>
        </p:nvPicPr>
        <p:blipFill>
          <a:blip r:embed="rId12"/>
          <a:stretch/>
        </p:blipFill>
        <p:spPr>
          <a:xfrm>
            <a:off x="4456080" y="36878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744" name="f5" descr=""/>
          <p:cNvPicPr/>
          <p:nvPr/>
        </p:nvPicPr>
        <p:blipFill>
          <a:blip r:embed="rId13"/>
          <a:stretch/>
        </p:blipFill>
        <p:spPr>
          <a:xfrm>
            <a:off x="4456080" y="45896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745" name="section" descr=""/>
          <p:cNvPicPr/>
          <p:nvPr/>
        </p:nvPicPr>
        <p:blipFill>
          <a:blip r:embed="rId14"/>
          <a:stretch/>
        </p:blipFill>
        <p:spPr>
          <a:xfrm>
            <a:off x="152280" y="52322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746" name="section" descr=""/>
          <p:cNvPicPr/>
          <p:nvPr/>
        </p:nvPicPr>
        <p:blipFill>
          <a:blip r:embed="rId15"/>
          <a:stretch/>
        </p:blipFill>
        <p:spPr>
          <a:xfrm>
            <a:off x="4457880" y="5232240"/>
            <a:ext cx="4286160" cy="911520"/>
          </a:xfrm>
          <a:prstGeom prst="rect">
            <a:avLst/>
          </a:prstGeom>
          <a:ln w="0">
            <a:noFill/>
          </a:ln>
        </p:spPr>
      </p:pic>
      <p:pic>
        <p:nvPicPr>
          <p:cNvPr id="747" name="a4" descr=""/>
          <p:cNvPicPr/>
          <p:nvPr/>
        </p:nvPicPr>
        <p:blipFill>
          <a:blip r:embed="rId16"/>
          <a:stretch/>
        </p:blipFill>
        <p:spPr>
          <a:xfrm>
            <a:off x="139680" y="42292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748" name="a4_b" descr=""/>
          <p:cNvPicPr/>
          <p:nvPr/>
        </p:nvPicPr>
        <p:blipFill>
          <a:blip r:embed="rId17"/>
          <a:stretch/>
        </p:blipFill>
        <p:spPr>
          <a:xfrm>
            <a:off x="4457880" y="4229280"/>
            <a:ext cx="4547880" cy="190440"/>
          </a:xfrm>
          <a:prstGeom prst="rect">
            <a:avLst/>
          </a:prstGeom>
          <a:ln w="0">
            <a:noFill/>
          </a:ln>
        </p:spPr>
      </p:pic>
      <p:grpSp>
        <p:nvGrpSpPr>
          <p:cNvPr id="749" name=""/>
          <p:cNvGrpSpPr/>
          <p:nvPr/>
        </p:nvGrpSpPr>
        <p:grpSpPr>
          <a:xfrm>
            <a:off x="422280" y="4229280"/>
            <a:ext cx="8583480" cy="1752480"/>
            <a:chOff x="422280" y="4229280"/>
            <a:chExt cx="8583480" cy="1752480"/>
          </a:xfrm>
        </p:grpSpPr>
        <p:grpSp>
          <p:nvGrpSpPr>
            <p:cNvPr id="750" name=""/>
            <p:cNvGrpSpPr/>
            <p:nvPr/>
          </p:nvGrpSpPr>
          <p:grpSpPr>
            <a:xfrm>
              <a:off x="422280" y="4229280"/>
              <a:ext cx="8583480" cy="1752480"/>
              <a:chOff x="422280" y="4229280"/>
              <a:chExt cx="8583480" cy="1752480"/>
            </a:xfrm>
          </p:grpSpPr>
          <p:pic>
            <p:nvPicPr>
              <p:cNvPr id="751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873000" y="53020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2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99120" y="53085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457880" y="42292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422280" y="43387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755" name="main" descr=""/>
            <p:cNvPicPr/>
            <p:nvPr/>
          </p:nvPicPr>
          <p:blipFill>
            <a:blip r:embed="rId21"/>
            <a:stretch/>
          </p:blipFill>
          <p:spPr>
            <a:xfrm>
              <a:off x="4541760" y="43275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"/>
          <p:cNvSpPr/>
          <p:nvPr/>
        </p:nvSpPr>
        <p:spPr>
          <a:xfrm>
            <a:off x="485640" y="63882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Lexico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34000" y="40006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438800" y="29653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15440" y="3946680"/>
            <a:ext cx="4349880" cy="365040"/>
            <a:chOff x="415440" y="3946680"/>
            <a:chExt cx="4349880" cy="365040"/>
          </a:xfrm>
        </p:grpSpPr>
        <p:sp>
          <p:nvSpPr>
            <p:cNvPr id="760" name=""/>
            <p:cNvSpPr/>
            <p:nvPr/>
          </p:nvSpPr>
          <p:spPr>
            <a:xfrm flipH="1">
              <a:off x="415440" y="39560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34520" y="3946680"/>
              <a:ext cx="4318560" cy="365040"/>
              <a:chOff x="434520" y="3946680"/>
              <a:chExt cx="4318560" cy="3650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434520" y="39466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749840" y="39528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4" name="New-85" descr=""/>
          <p:cNvPicPr/>
          <p:nvPr/>
        </p:nvPicPr>
        <p:blipFill>
          <a:blip r:embed="rId22"/>
          <a:stretch/>
        </p:blipFill>
        <p:spPr>
          <a:xfrm>
            <a:off x="165240" y="6388200"/>
            <a:ext cx="35388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143000" y="0"/>
            <a:ext cx="77724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Etique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59000" y="914400"/>
            <a:ext cx="778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La prise en compte de catégorisations </a:t>
            </a:r>
            <a:br>
              <a:rPr sz="2400"/>
            </a:b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morpho-syntaxiques, sémantiques, etc.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371600" y="21081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Exemple :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REFUSE {CAT = N, NUM = SING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to)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FUSE {CAT = INF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10776600">
            <a:off x="684000" y="1434600"/>
            <a:ext cx="48528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Tree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502320" y="2095560"/>
            <a:ext cx="0" cy="7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603840" y="2095560"/>
            <a:ext cx="2349720" cy="998280"/>
            <a:chOff x="6603840" y="2095560"/>
            <a:chExt cx="2349720" cy="998280"/>
          </a:xfrm>
        </p:grpSpPr>
        <p:sp>
          <p:nvSpPr>
            <p:cNvPr id="771" name=""/>
            <p:cNvSpPr/>
            <p:nvPr/>
          </p:nvSpPr>
          <p:spPr>
            <a:xfrm>
              <a:off x="6603840" y="2095560"/>
              <a:ext cx="201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ordur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03840" y="2451240"/>
              <a:ext cx="234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87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ccccff"/>
                  </a:solidFill>
                  <a:latin typeface="Tahoma"/>
                </a:rPr>
                <a:t>décliner, écarter, etc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2892600" y="1760400"/>
            <a:ext cx="9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ng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02040" y="17478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5400000">
            <a:off x="7372080" y="3557520"/>
            <a:ext cx="1181160" cy="13208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874880" y="44467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1150920" y="50990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99040" y="6218280"/>
            <a:ext cx="24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Traductions de ces phrases dans le 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83520" y="40273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char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43120" y="3618000"/>
            <a:ext cx="3009600" cy="2460600"/>
          </a:xfrm>
          <a:prstGeom prst="foldedCorner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70920" y="5043600"/>
            <a:ext cx="13968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ref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décl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éca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0920" y="363384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ref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4160" y="394488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ahoma"/>
              </a:rPr>
              <a:t>{N} </a:t>
            </a:r>
            <a:r>
              <a:rPr b="0" i="1" lang="fr-FR" sz="1800" spc="-1" strike="noStrike">
                <a:solidFill>
                  <a:srgbClr val="ff3300"/>
                </a:solidFill>
                <a:latin typeface="Tahoma"/>
              </a:rPr>
              <a:t>refuse t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182000" y="3112920"/>
            <a:ext cx="148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cc"/>
                </a:solidFill>
                <a:latin typeface="Tahoma"/>
              </a:rPr>
              <a:t>Spécific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854360" y="6337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43000" y="62485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Phrases en anglais contenant le nom « refuse 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936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57400" y="4356000"/>
            <a:ext cx="53964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40080" y="457200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50673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89040" y="4152960"/>
            <a:ext cx="107316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68560" y="435600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01720" y="457200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155600" y="5702400"/>
            <a:ext cx="74304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16200" y="542304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30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19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15560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60520" y="54356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378240" y="50673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362320" y="5054760"/>
            <a:ext cx="74268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77760" y="3962520"/>
            <a:ext cx="2692440" cy="92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84160" y="49737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69696"/>
                </a:solidFill>
                <a:latin typeface="Tahoma"/>
              </a:rPr>
              <a:t>{Inf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965160" y="49910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02080" y="5086440"/>
            <a:ext cx="635040" cy="3808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94280" y="3605040"/>
            <a:ext cx="3009960" cy="2460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00880" y="5689440"/>
            <a:ext cx="74268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08560" y="4343400"/>
            <a:ext cx="5396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91240" y="4559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88000" y="5054760"/>
            <a:ext cx="3999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40560" y="4140360"/>
            <a:ext cx="107316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19720" y="4343400"/>
            <a:ext cx="20952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559400"/>
            <a:ext cx="743040" cy="1443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06760" y="568944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67360" y="541008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81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270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40676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11680" y="542304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629400" y="5054760"/>
            <a:ext cx="15876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613480" y="5041800"/>
            <a:ext cx="743040" cy="144720"/>
          </a:xfrm>
          <a:prstGeom prst="rect">
            <a:avLst/>
          </a:prstGeom>
          <a:solidFill>
            <a:srgbClr val="969696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29280" y="3949560"/>
            <a:ext cx="2692080" cy="9273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16320" y="4978440"/>
            <a:ext cx="2692440" cy="927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66960" y="3327480"/>
            <a:ext cx="102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angl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130720" y="3327480"/>
            <a:ext cx="11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volet franç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323040" y="3484440"/>
            <a:ext cx="1576440" cy="563760"/>
          </a:xfrm>
          <a:custGeom>
            <a:avLst/>
            <a:gdLst>
              <a:gd name="textAreaLeft" fmla="*/ 275760 w 1576440"/>
              <a:gd name="textAreaRight" fmla="*/ 1143000 w 1576440"/>
              <a:gd name="textAreaTop" fmla="*/ 75240 h 563760"/>
              <a:gd name="textAreaBottom" fmla="*/ 4885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041640" y="42228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70240" y="3608280"/>
            <a:ext cx="13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7384680" y="4890960"/>
            <a:ext cx="1181160" cy="13208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05720" y="5587920"/>
            <a:ext cx="774720" cy="0"/>
          </a:xfrm>
          <a:prstGeom prst="line">
            <a:avLst/>
          </a:prstGeom>
          <a:ln w="28440">
            <a:solidFill>
              <a:srgbClr val="96969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356520" y="4210200"/>
            <a:ext cx="279360" cy="21589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027080" y="654120"/>
            <a:ext cx="76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erspectives ouvertes par l’</a:t>
            </a:r>
            <a:r>
              <a:rPr b="1" lang="fr-FR" sz="3600" spc="-1" strike="noStrike">
                <a:solidFill>
                  <a:srgbClr val="6666ff"/>
                </a:solidFill>
                <a:latin typeface="Times New Roman"/>
              </a:rPr>
              <a:t>approche topographiqu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du </a:t>
            </a:r>
            <a:r>
              <a:rPr b="1" i="1" lang="fr-FR" sz="3600" spc="-1" strike="noStrike">
                <a:solidFill>
                  <a:srgbClr val="00cccc"/>
                </a:solidFill>
                <a:latin typeface="Times New Roman"/>
              </a:rPr>
              <a:t>bi-texte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16000" y="2370240"/>
            <a:ext cx="8028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igation interactive dans les textes multilingu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érages automatiques de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lexicales multipl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s les corpus de traduction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se de structures lexicales parallèles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èse d’information bi-textuelle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52640" y="2370240"/>
            <a:ext cx="7799400" cy="3875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pproches quantitatives de corpus parallè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91176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seaux parallèles de correspondances de tra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1480" y="507960"/>
            <a:ext cx="781056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« Il est maintenant possible d ’enregistrer et de manipuler par ordinateur des masses pratiquement 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00"/>
                </a:solidFill>
                <a:latin typeface="Times New Roman"/>
              </a:rPr>
              <a:t>illimitées de textes… Compte tenu de l ’évolution récente en informatique, tout indique en effet que les traducteurs pourront bientôt accéder facilement à de très vastes corpus bilingues contenant leurs propres traductions et celles de leurs collègues.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ISABELLE Pierre et WARWICK-ARMSTRONG Susan (1993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« Les corpus bilingues : une nouvelle ressource pour le traducteur 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In Bouillon, P. et Clas, A. (Eds.), La Traductique. Montréal : Les Presses de l’Université de Montréal, pp. 288-30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68560" y="4915080"/>
            <a:ext cx="7569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7" name=""/>
          <p:cNvGraphicFramePr/>
          <p:nvPr/>
        </p:nvGraphicFramePr>
        <p:xfrm>
          <a:off x="1201680" y="1994040"/>
          <a:ext cx="69706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1994040"/>
                    <a:ext cx="69706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"/>
          <p:cNvSpPr/>
          <p:nvPr/>
        </p:nvSpPr>
        <p:spPr>
          <a:xfrm>
            <a:off x="1206360" y="1039680"/>
            <a:ext cx="7658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ttractions lexicales</a:t>
            </a:r>
            <a:br>
              <a:rPr sz="3600"/>
            </a:b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autour d ’un </a:t>
            </a:r>
            <a:r>
              <a:rPr b="1" lang="fr-FR" sz="3600" spc="-1" strike="noStrike">
                <a:solidFill>
                  <a:srgbClr val="6666ff"/>
                </a:solidFill>
                <a:latin typeface="Times New Roman"/>
              </a:rPr>
              <a:t>pôle biling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49160" y="468648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 comparaison des fréquences locales permet de vérifi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 ’évolution parallèle des formes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6666ff"/>
                </a:solidFill>
                <a:latin typeface="Times New Roman"/>
              </a:rPr>
              <a:t>droit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 »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et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FR" sz="2400" spc="-1" strike="noStrike">
                <a:solidFill>
                  <a:srgbClr val="ff3300"/>
                </a:solidFill>
                <a:latin typeface="Times New Roman"/>
              </a:rPr>
              <a:t>right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is qu ’en est-il de leur environnement lexical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172360" y="4978440"/>
            <a:ext cx="7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322200" y="1333440"/>
            <a:ext cx="8524800" cy="55245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3520" y="0"/>
            <a:ext cx="86104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Principaux cooccurrents binaires des formes « </a:t>
            </a: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droit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 » et «</a:t>
            </a: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rights</a:t>
            </a:r>
            <a:r>
              <a:rPr b="1" i="1" lang="fr-FR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84280" y="1091880"/>
            <a:ext cx="3949560" cy="267120"/>
            <a:chOff x="584280" y="1091880"/>
            <a:chExt cx="3949560" cy="267120"/>
          </a:xfrm>
        </p:grpSpPr>
        <p:sp>
          <p:nvSpPr>
            <p:cNvPr id="845" name=""/>
            <p:cNvSpPr/>
            <p:nvPr/>
          </p:nvSpPr>
          <p:spPr>
            <a:xfrm flipV="1">
              <a:off x="584280" y="1104840"/>
              <a:ext cx="0" cy="25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84280" y="1104840"/>
              <a:ext cx="394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521240" y="109188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4737240" y="1091880"/>
            <a:ext cx="3949560" cy="267120"/>
            <a:chOff x="4737240" y="1091880"/>
            <a:chExt cx="3949560" cy="267120"/>
          </a:xfrm>
        </p:grpSpPr>
        <p:sp>
          <p:nvSpPr>
            <p:cNvPr id="849" name=""/>
            <p:cNvSpPr/>
            <p:nvPr/>
          </p:nvSpPr>
          <p:spPr>
            <a:xfrm flipV="1">
              <a:off x="4737240" y="1104840"/>
              <a:ext cx="0" cy="254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737240" y="1104840"/>
              <a:ext cx="3949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8674200" y="109188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184480" y="673200"/>
            <a:ext cx="172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dro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660240"/>
            <a:ext cx="1727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1371600" y="1778040"/>
            <a:ext cx="3352680" cy="24120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447920" y="3911400"/>
            <a:ext cx="3289320" cy="59508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536840" y="3276720"/>
            <a:ext cx="3174840" cy="10238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62040" y="2019240"/>
            <a:ext cx="3137040" cy="1922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562040" y="2235240"/>
            <a:ext cx="3124440" cy="1239840"/>
          </a:xfrm>
          <a:prstGeom prst="line">
            <a:avLst/>
          </a:prstGeom>
          <a:ln w="9360">
            <a:solidFill>
              <a:srgbClr val="00cc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8176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507960" y="812880"/>
            <a:ext cx="8389800" cy="5765400"/>
            <a:chOff x="507960" y="812880"/>
            <a:chExt cx="8389800" cy="5765400"/>
          </a:xfrm>
        </p:grpSpPr>
        <p:sp>
          <p:nvSpPr>
            <p:cNvPr id="861" name=""/>
            <p:cNvSpPr/>
            <p:nvPr/>
          </p:nvSpPr>
          <p:spPr>
            <a:xfrm>
              <a:off x="507960" y="812880"/>
              <a:ext cx="8389800" cy="57654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1079280" y="1465920"/>
              <a:ext cx="7406280" cy="4352760"/>
              <a:chOff x="1079280" y="1465920"/>
              <a:chExt cx="7406280" cy="4352760"/>
            </a:xfrm>
          </p:grpSpPr>
          <p:sp>
            <p:nvSpPr>
              <p:cNvPr id="863" name=""/>
              <p:cNvSpPr/>
              <p:nvPr/>
            </p:nvSpPr>
            <p:spPr>
              <a:xfrm>
                <a:off x="4368240" y="1565280"/>
                <a:ext cx="380520" cy="369000"/>
              </a:xfrm>
              <a:custGeom>
                <a:avLst/>
                <a:gdLst>
                  <a:gd name="textAreaLeft" fmla="*/ 59400 w 380520"/>
                  <a:gd name="textAreaRight" fmla="*/ 333000 w 380520"/>
                  <a:gd name="textAreaTop" fmla="*/ 92160 h 369000"/>
                  <a:gd name="textAreaBottom" fmla="*/ 276840 h 36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648800" y="15188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36080" y="312552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36080" y="360648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793160" y="1842120"/>
                <a:ext cx="1440" cy="19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793160" y="32853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805760" y="3767760"/>
                <a:ext cx="14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58560" y="15188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345840" y="312552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45840" y="360648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3202560" y="1842120"/>
                <a:ext cx="1080" cy="192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202920" y="32853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02920" y="3767760"/>
                <a:ext cx="1425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45840" y="2587680"/>
                <a:ext cx="286920" cy="322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202920" y="2756160"/>
                <a:ext cx="1425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736520" y="1465920"/>
                <a:ext cx="37490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L ’exploitation de ce type de résultats reste limitée :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le calcul des cooccurrenc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binaires  signale des associations du pôl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avec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UN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cooccurrent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79280" y="5157720"/>
                <a:ext cx="6781320" cy="0"/>
              </a:xfrm>
              <a:prstGeom prst="line">
                <a:avLst/>
              </a:prstGeom>
              <a:ln w="3168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83960" y="4632480"/>
                <a:ext cx="2085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000" spc="-1" strike="noStrike">
                    <a:solidFill>
                      <a:srgbClr val="00ffff"/>
                    </a:solidFill>
                    <a:latin typeface="Times New Roman"/>
                  </a:rPr>
                  <a:t>axe syntagmatiqu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456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11724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9934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895280" y="4985640"/>
                <a:ext cx="286920" cy="322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201440" y="5115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4000" spc="-1" strike="noStrike">
                    <a:solidFill>
                      <a:srgbClr val="00ffff"/>
                    </a:solidFill>
                    <a:latin typeface="Times New Roman"/>
                  </a:rPr>
                  <a:t>?</a:t>
                </a:r>
                <a:endParaRPr b="0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244520" y="2374920"/>
            <a:ext cx="6718320" cy="4178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3720960" y="4522680"/>
            <a:ext cx="3813480" cy="1687680"/>
            <a:chOff x="3720960" y="4522680"/>
            <a:chExt cx="3813480" cy="1687680"/>
          </a:xfrm>
        </p:grpSpPr>
        <p:sp>
          <p:nvSpPr>
            <p:cNvPr id="888" name=""/>
            <p:cNvSpPr/>
            <p:nvPr/>
          </p:nvSpPr>
          <p:spPr>
            <a:xfrm>
              <a:off x="3720960" y="5842080"/>
              <a:ext cx="811440" cy="36828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F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65640" y="4522680"/>
              <a:ext cx="2368800" cy="8622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666880" y="3591000"/>
            <a:ext cx="4867560" cy="2619360"/>
            <a:chOff x="2666880" y="3591000"/>
            <a:chExt cx="4867560" cy="2619360"/>
          </a:xfrm>
        </p:grpSpPr>
        <p:sp>
          <p:nvSpPr>
            <p:cNvPr id="891" name=""/>
            <p:cNvSpPr/>
            <p:nvPr/>
          </p:nvSpPr>
          <p:spPr>
            <a:xfrm>
              <a:off x="2666880" y="5842080"/>
              <a:ext cx="811440" cy="36828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E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165640" y="3591000"/>
              <a:ext cx="2368800" cy="860400"/>
            </a:xfrm>
            <a:prstGeom prst="rect">
              <a:avLst/>
            </a:pr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587600" y="2657520"/>
            <a:ext cx="5946840" cy="3552840"/>
            <a:chOff x="1587600" y="2657520"/>
            <a:chExt cx="5946840" cy="3552840"/>
          </a:xfrm>
        </p:grpSpPr>
        <p:sp>
          <p:nvSpPr>
            <p:cNvPr id="894" name=""/>
            <p:cNvSpPr/>
            <p:nvPr/>
          </p:nvSpPr>
          <p:spPr>
            <a:xfrm>
              <a:off x="1587600" y="5842080"/>
              <a:ext cx="811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AB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5640" y="2657520"/>
              <a:ext cx="2368800" cy="8604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1130400" y="2016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219320" y="1074600"/>
            <a:ext cx="76453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a méthode est fondée sur la réitération du calcu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ifférents filtrages limitent le nombre des explorations contextuelles et réduisent le brui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1400" indent="-1314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37280" y="2728800"/>
            <a:ext cx="1722240" cy="1650960"/>
          </a:xfrm>
          <a:prstGeom prst="rect">
            <a:avLst/>
          </a:prstGeom>
          <a:noFill/>
          <a:ln w="316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237280" y="4594320"/>
            <a:ext cx="1722240" cy="717480"/>
          </a:xfrm>
          <a:prstGeom prst="rect">
            <a:avLst/>
          </a:prstGeom>
          <a:noFill/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08560" y="2800440"/>
            <a:ext cx="1076400" cy="2439720"/>
          </a:xfrm>
          <a:prstGeom prst="rect">
            <a:avLst/>
          </a:prstGeom>
          <a:noFill/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81640" y="2873520"/>
            <a:ext cx="430200" cy="3371760"/>
          </a:xfrm>
          <a:prstGeom prst="rect">
            <a:avLst/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452920" y="38750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2604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26040" y="54547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26040" y="588492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00960" y="3876840"/>
            <a:ext cx="28728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0096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175520" y="3876840"/>
            <a:ext cx="2858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75520" y="480996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40560" y="40212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313320" y="40212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888240" y="40212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88240" y="49528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61360" y="4021200"/>
            <a:ext cx="287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52920" y="480852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026040" y="480996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740560" y="49528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13320" y="495288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452920" y="54547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40560" y="55990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52920" y="5884920"/>
            <a:ext cx="287640" cy="28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40560" y="602928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52920" y="3014640"/>
            <a:ext cx="2876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2604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600960" y="3016080"/>
            <a:ext cx="2872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175520" y="3016080"/>
            <a:ext cx="28584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40560" y="3159000"/>
            <a:ext cx="28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313320" y="3159000"/>
            <a:ext cx="2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888240" y="315900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960560" y="297036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53368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533680" y="42642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33680" y="4694400"/>
            <a:ext cx="287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108240" y="297180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683160" y="297180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683160" y="34034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47840" y="3116160"/>
            <a:ext cx="28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20960" y="31161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395520" y="31161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390760" y="3116160"/>
            <a:ext cx="1440" cy="17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390760" y="44067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965320" y="3116160"/>
            <a:ext cx="1800" cy="86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65320" y="397656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90760" y="4838760"/>
            <a:ext cx="1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968640" y="354636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108240" y="3833640"/>
            <a:ext cx="287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683160" y="3833640"/>
            <a:ext cx="2854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95520" y="3976560"/>
            <a:ext cx="28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38440" y="3116160"/>
            <a:ext cx="1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538440" y="3546360"/>
            <a:ext cx="144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413000" y="5454720"/>
            <a:ext cx="3284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n sélectionne des chemins origin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136520" y="201600"/>
            <a:ext cx="80074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90720" y="2992320"/>
            <a:ext cx="81532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algré les différences dans l ’ordre et le nombre de leurs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éléments, les réseaux tendent à former des ensembles équivalent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6480" indent="-186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11320" y="608040"/>
            <a:ext cx="78804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imes New Roman"/>
              </a:rPr>
              <a:t>Extraits des réseaux de cooccurrences élaborés à partir des pôles « droits » et « rights »</a:t>
            </a:r>
            <a:r>
              <a:rPr b="0" lang="fr-FR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52280" y="3733920"/>
            <a:ext cx="8991360" cy="3124080"/>
            <a:chOff x="152280" y="3733920"/>
            <a:chExt cx="8991360" cy="3124080"/>
          </a:xfrm>
        </p:grpSpPr>
        <p:grpSp>
          <p:nvGrpSpPr>
            <p:cNvPr id="956" name=""/>
            <p:cNvGrpSpPr/>
            <p:nvPr/>
          </p:nvGrpSpPr>
          <p:grpSpPr>
            <a:xfrm>
              <a:off x="152280" y="3733920"/>
              <a:ext cx="8991360" cy="3124080"/>
              <a:chOff x="152280" y="3733920"/>
              <a:chExt cx="8991360" cy="3124080"/>
            </a:xfrm>
          </p:grpSpPr>
          <p:sp>
            <p:nvSpPr>
              <p:cNvPr id="957" name=""/>
              <p:cNvSpPr/>
              <p:nvPr/>
            </p:nvSpPr>
            <p:spPr>
              <a:xfrm>
                <a:off x="152280" y="3733920"/>
                <a:ext cx="8991360" cy="3124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158400" y="3832200"/>
                <a:ext cx="8952120" cy="3025800"/>
                <a:chOff x="158400" y="3832200"/>
                <a:chExt cx="8952120" cy="3025800"/>
              </a:xfrm>
            </p:grpSpPr>
            <p:grpSp>
              <p:nvGrpSpPr>
                <p:cNvPr id="959" name=""/>
                <p:cNvGrpSpPr/>
                <p:nvPr/>
              </p:nvGrpSpPr>
              <p:grpSpPr>
                <a:xfrm>
                  <a:off x="158400" y="3832200"/>
                  <a:ext cx="8952120" cy="1600200"/>
                  <a:chOff x="158400" y="3832200"/>
                  <a:chExt cx="8952120" cy="1600200"/>
                </a:xfrm>
              </p:grpSpPr>
              <p:pic>
                <p:nvPicPr>
                  <p:cNvPr id="960" name="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58400" y="3832200"/>
                    <a:ext cx="895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61" name="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7280" y="4593960"/>
                    <a:ext cx="23868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62" name="gre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64440" y="4670280"/>
                    <a:ext cx="820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158400" y="5279760"/>
                  <a:ext cx="8951760" cy="1578240"/>
                  <a:chOff x="158400" y="5279760"/>
                  <a:chExt cx="8951760" cy="157824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158400" y="5279760"/>
                    <a:ext cx="8951760" cy="826920"/>
                    <a:chOff x="158400" y="5279760"/>
                    <a:chExt cx="8951760" cy="826920"/>
                  </a:xfrm>
                </p:grpSpPr>
                <p:pic>
                  <p:nvPicPr>
                    <p:cNvPr id="965" name="chemR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8400" y="5279760"/>
                      <a:ext cx="283104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6" name="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9440" y="5279760"/>
                      <a:ext cx="6120720" cy="82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1277280" y="5965560"/>
                    <a:ext cx="3170160" cy="892440"/>
                    <a:chOff x="1277280" y="5965560"/>
                    <a:chExt cx="3170160" cy="892440"/>
                  </a:xfrm>
                </p:grpSpPr>
                <p:pic>
                  <p:nvPicPr>
                    <p:cNvPr id="968" name="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77280" y="6057720"/>
                      <a:ext cx="242424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969" name="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664080" y="5965560"/>
                      <a:ext cx="78336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grpSp>
          <p:nvGrpSpPr>
            <p:cNvPr id="970" name=""/>
            <p:cNvGrpSpPr/>
            <p:nvPr/>
          </p:nvGrpSpPr>
          <p:grpSpPr>
            <a:xfrm>
              <a:off x="7070400" y="5965920"/>
              <a:ext cx="2040120" cy="892080"/>
              <a:chOff x="7070400" y="5965920"/>
              <a:chExt cx="2040120" cy="892080"/>
            </a:xfrm>
          </p:grpSpPr>
          <p:pic>
            <p:nvPicPr>
              <p:cNvPr id="971" name="leg" descr=""/>
              <p:cNvPicPr/>
              <p:nvPr/>
            </p:nvPicPr>
            <p:blipFill>
              <a:blip r:embed="rId8"/>
              <a:stretch/>
            </p:blipFill>
            <p:spPr>
              <a:xfrm>
                <a:off x="7070400" y="6058080"/>
                <a:ext cx="204012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>
                <a:off x="7070400" y="5965920"/>
                <a:ext cx="2040120" cy="89208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3" name=""/>
          <p:cNvGrpSpPr/>
          <p:nvPr/>
        </p:nvGrpSpPr>
        <p:grpSpPr>
          <a:xfrm>
            <a:off x="4686480" y="4521240"/>
            <a:ext cx="3098520" cy="851040"/>
            <a:chOff x="4686480" y="4521240"/>
            <a:chExt cx="3098520" cy="851040"/>
          </a:xfrm>
        </p:grpSpPr>
        <p:sp>
          <p:nvSpPr>
            <p:cNvPr id="974" name=""/>
            <p:cNvSpPr/>
            <p:nvPr/>
          </p:nvSpPr>
          <p:spPr>
            <a:xfrm>
              <a:off x="4686480" y="4521240"/>
              <a:ext cx="3098520" cy="834480"/>
            </a:xfrm>
            <a:prstGeom prst="rect">
              <a:avLst/>
            </a:prstGeom>
            <a:noFill/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ff3399"/>
                  </a:solidFill>
                  <a:latin typeface="Times New Roman"/>
                </a:rPr>
                <a:t>              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fréq tot. (F)    co-freq (f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affaire</a:t>
              </a:r>
              <a:r>
                <a:rPr b="0" i="1" lang="fr-FR" sz="1600" spc="-1" strike="noStrike">
                  <a:solidFill>
                    <a:srgbClr val="6666ff"/>
                  </a:solidFill>
                  <a:latin typeface="Times New Roman"/>
                </a:rPr>
                <a:t> 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209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1143000"/>
                  <a:tab algn="l" pos="2095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case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93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	</a:t>
              </a:r>
              <a:r>
                <a:rPr b="0" lang="fr-FR" sz="1600" spc="-1" strike="noStrike">
                  <a:solidFill>
                    <a:srgbClr val="6666ff"/>
                  </a:solidFill>
                  <a:latin typeface="Times New Roman"/>
                </a:rPr>
                <a:t>    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54600" y="4534200"/>
              <a:ext cx="0" cy="83808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433840" y="4521240"/>
              <a:ext cx="0" cy="82548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86480" y="4826160"/>
              <a:ext cx="3098520" cy="0"/>
            </a:xfrm>
            <a:prstGeom prst="line">
              <a:avLst/>
            </a:prstGeom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52280" y="0"/>
            <a:ext cx="8996400" cy="3790800"/>
          </a:xfrm>
          <a:prstGeom prst="rect">
            <a:avLst/>
          </a:prstGeom>
          <a:solidFill>
            <a:srgbClr val="ffffff"/>
          </a:solidFill>
          <a:ln w="1908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*** Ratio : 0.41 Phrase n° 145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a été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à la cour par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, dans l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 trois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 moi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les # de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1*** Ratio : 0.48 Phrase n° 1464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wa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o the court by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by # and # of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*** Ratio : 0.30 Phrase n° 2856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affair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a été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féré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à la cour par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 européenne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roits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e l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omme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 puis par le gouvernement de la confédération suisse  (''le gouvernement'') 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# et #, dans l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délai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de troi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i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qu'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ouvrent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les # de la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2*** Ratio : 0.36 Phrase n° 2927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ase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referred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o the court by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european 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human righ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''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mmiss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'') and by the government of the swiss confederation (''the government'')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# and # , within the three-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month period laid dow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by and of the </a:t>
            </a:r>
            <a:r>
              <a:rPr b="0" lang="fr-FR" sz="1600" spc="-1" strike="noStrike">
                <a:solidFill>
                  <a:srgbClr val="ff0000"/>
                </a:solidFill>
                <a:latin typeface="Times New Roman"/>
              </a:rPr>
              <a:t>conventio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84280" y="187200"/>
            <a:ext cx="366480" cy="828360"/>
            <a:chOff x="584280" y="187200"/>
            <a:chExt cx="366480" cy="828360"/>
          </a:xfrm>
        </p:grpSpPr>
        <p:sp>
          <p:nvSpPr>
            <p:cNvPr id="980" name=""/>
            <p:cNvSpPr/>
            <p:nvPr/>
          </p:nvSpPr>
          <p:spPr>
            <a:xfrm flipH="1">
              <a:off x="584280" y="18720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84280" y="187200"/>
              <a:ext cx="0" cy="8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584280" y="10155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584280" y="1803240"/>
            <a:ext cx="366480" cy="1041120"/>
            <a:chOff x="584280" y="1803240"/>
            <a:chExt cx="366480" cy="1041120"/>
          </a:xfrm>
        </p:grpSpPr>
        <p:sp>
          <p:nvSpPr>
            <p:cNvPr id="984" name=""/>
            <p:cNvSpPr/>
            <p:nvPr/>
          </p:nvSpPr>
          <p:spPr>
            <a:xfrm flipH="1">
              <a:off x="584280" y="180324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84280" y="1803240"/>
              <a:ext cx="0" cy="1041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584280" y="2844360"/>
              <a:ext cx="366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2520" y="736560"/>
            <a:ext cx="7828200" cy="18208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08080" y="2627280"/>
            <a:ext cx="7808760" cy="154152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095480" y="4224240"/>
            <a:ext cx="7788240" cy="26337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 txBox="1"/>
          <p:nvPr/>
        </p:nvSpPr>
        <p:spPr>
          <a:xfrm>
            <a:off x="7970760" y="846000"/>
            <a:ext cx="771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8021520" y="2751120"/>
            <a:ext cx="771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7970760" y="5786280"/>
            <a:ext cx="77148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ôle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3" name=""/>
          <p:cNvSpPr/>
          <p:nvPr/>
        </p:nvSpPr>
        <p:spPr>
          <a:xfrm>
            <a:off x="1085760" y="2016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Les réseaux de cooccurrences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67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us avons défini une</a:t>
            </a: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roche qui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et d’extraire l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rrespondances traductionnelles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 corpus parallèles sur des bases quantita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M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tte approch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se sur les ressources construites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utomatiquement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à base de corpu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uyée sur la 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présentation topograph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textes alignés au niveau de la phrase, cette approche offre à l’utilisateur de nouveaux moyens informatisés pour explorer la structure des équivalences lex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162080" y="455760"/>
            <a:ext cx="719460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Pour en savoir plu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952560" y="1041120"/>
            <a:ext cx="7975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8320" indent="-148320">
              <a:lnSpc>
                <a:spcPct val="90000"/>
              </a:lnSpc>
              <a:spcBef>
                <a:spcPts val="1800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MS Mincho"/>
              </a:rPr>
              <a:t>ISABELLE Pierre, WARWICK-ARMSTRONG Susan (1993).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« Les corpus bilingues : une nouvelle ressource pour le traducteur. » In Bouillon P., Clas A. (Eds.),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La Traductique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Études et Recherches de traduction par ordinateur.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Montréal: Les Presses de l’Université de Montréal, pp. 288-30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RS Harold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1).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Bilingual Corpora and Language Engineering. In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edings of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glo-Indian workshop ‘Language Engineering for South-Asian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s’ (LESAL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Mumbai, April 200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ÉRONIS Jean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d.)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0b).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ext Processing: Alignment and use of translation corpora. 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rdrecht: Kluwer Academic Publishers,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2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675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IMINA Maria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C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004).</a:t>
            </a:r>
            <a:br>
              <a:rPr sz="1800"/>
            </a:b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 Alignement textométrique des unités lexicales à correspondances multiples dans les corpus parallèles. » In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es des 7es Journées internationales d’Analyse statistique des Données Textuelles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ouvain-la-Neuve, 2004, pp. 1195-12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-148320">
              <a:lnSpc>
                <a:spcPct val="90000"/>
              </a:lnSpc>
              <a:spcBef>
                <a:spcPts val="2001"/>
              </a:spcBef>
              <a:buClr>
                <a:srgbClr val="ff0066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 algn="just">
              <a:lnSpc>
                <a:spcPct val="7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4832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e corpus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onventio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été constitué à partir de la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Convention de sauvegarde des Droits de l’Homme et des libertés fondamental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, d'une douzaine de protocoles, et d’une série d’arrêts rendus par la Cour européenne des Droits de l’Homme de Strasbourg en 199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Chaque volet du corpus (français et anglais) compte approximativement 300 000 mots graphiq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505320"/>
            <a:ext cx="3733560" cy="2851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Dans sa réponse , le requérant confirma qu'il était incapable de fournir une quelconque caution pour les frais à exposer en app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Persistant à affirmer que le procès avait été une </a:t>
            </a:r>
            <a:r>
              <a:rPr b="0" i="1" lang="fr-FR" sz="1800" spc="-1" strike="noStrike">
                <a:solidFill>
                  <a:srgbClr val="3333ff"/>
                </a:solidFill>
                <a:latin typeface="Times New Roman"/>
              </a:rPr>
              <a:t>parodie de justice</a:t>
            </a: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, il déclina l'off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3519360"/>
            <a:ext cx="37339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3352680"/>
            <a:ext cx="876600" cy="216000"/>
          </a:xfrm>
          <a:custGeom>
            <a:avLst/>
            <a:gdLst>
              <a:gd name="textAreaLeft" fmla="*/ 153360 w 876600"/>
              <a:gd name="textAreaRight" fmla="*/ 635760 w 8766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4648320" y="6324480"/>
            <a:ext cx="876240" cy="216000"/>
          </a:xfrm>
          <a:custGeom>
            <a:avLst/>
            <a:gdLst>
              <a:gd name="textAreaLeft" fmla="*/ 153360 w 876240"/>
              <a:gd name="textAreaRight" fmla="*/ 635400 w 8762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3048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048120"/>
            <a:ext cx="19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ccff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104840" y="159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Tra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Lexicograph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Termino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Enseignement des langues étrangè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echerche d’information multilin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parallèles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domaines d’applicatio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06360" y="5499000"/>
            <a:ext cx="758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ÉRONIS Jean (2000). « Alignement de corpus multilingues. »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ierrel J.-M. (Ed.), Ingénierie des langues. Paris : Editions Hermès,</a:t>
            </a:r>
            <a:br>
              <a:rPr sz="1800"/>
            </a:b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. 151-17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17440" y="5423040"/>
            <a:ext cx="7569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00"/>
                </a:solidFill>
                <a:latin typeface="Times New Roman"/>
              </a:rPr>
              <a:t>Alignement automatique de corpus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799160" y="3402000"/>
            <a:ext cx="458640" cy="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68560" y="2900520"/>
            <a:ext cx="363060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La chambre du conseil se compose des membres qui ont siégé au procè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900520"/>
            <a:ext cx="363204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The review chamber shall consist of the judges who have dealt with the case at the t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168560" y="4146480"/>
            <a:ext cx="3630600" cy="2269440"/>
            <a:chOff x="1168560" y="4146480"/>
            <a:chExt cx="3630600" cy="2269440"/>
          </a:xfrm>
        </p:grpSpPr>
        <p:sp>
          <p:nvSpPr>
            <p:cNvPr id="179" name=""/>
            <p:cNvSpPr/>
            <p:nvPr/>
          </p:nvSpPr>
          <p:spPr>
            <a:xfrm>
              <a:off x="1168560" y="4146480"/>
              <a:ext cx="36306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spcAft>
                  <a:spcPts val="1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Dans sa réponse , le requérant confirma qu'il était incapable de fournir une quelconque caution pour les frais à exposer en appel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68560" y="5499000"/>
              <a:ext cx="3630600" cy="916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Persistant à affirmer que le procès avait été une </a:t>
              </a:r>
              <a:r>
                <a:rPr b="0" i="1" lang="fr-FR" sz="1800" spc="-1" strike="noStrike">
                  <a:solidFill>
                    <a:srgbClr val="3333ff"/>
                  </a:solidFill>
                  <a:latin typeface="Times New Roman"/>
                </a:rPr>
                <a:t>parodie de justice</a:t>
              </a:r>
              <a:r>
                <a:rPr b="0" lang="fr-FR" sz="1800" spc="-1" strike="noStrike">
                  <a:solidFill>
                    <a:srgbClr val="3333ff"/>
                  </a:solidFill>
                  <a:latin typeface="Times New Roman"/>
                </a:rPr>
                <a:t>, il déclina l'offre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00600" y="4757400"/>
            <a:ext cx="457200" cy="1235520"/>
            <a:chOff x="4800600" y="4757400"/>
            <a:chExt cx="457200" cy="1235520"/>
          </a:xfrm>
        </p:grpSpPr>
        <p:sp>
          <p:nvSpPr>
            <p:cNvPr id="182" name=""/>
            <p:cNvSpPr/>
            <p:nvPr/>
          </p:nvSpPr>
          <p:spPr>
            <a:xfrm flipV="1">
              <a:off x="5028840" y="531036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800600" y="598932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800600" y="4757400"/>
              <a:ext cx="228960" cy="3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29560" y="4759200"/>
              <a:ext cx="0" cy="1231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57800" y="4400640"/>
            <a:ext cx="3632040" cy="201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In his reply the applicant confirmed that he was unable to provide any security for the costs in the appeal proceedings and , maintaining that the trial had been a </a:t>
            </a:r>
            <a:r>
              <a:rPr b="0" i="1" lang="en-GB" sz="1800" spc="-1" strike="noStrike">
                <a:solidFill>
                  <a:srgbClr val="ff3300"/>
                </a:solidFill>
                <a:latin typeface="Times New Roman"/>
              </a:rPr>
              <a:t>travesty of justice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, declined the off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03320" y="838080"/>
            <a:ext cx="7886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a recherche dans le domaine de l’alignement a montré que le repérage automatique des correspondances est relativement simple pour les unités de texte relativement étendues (chapitres, sections, articles, paragraphes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L’utilisation d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  <a:ea typeface="Times New Roman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 a permis des avancées rapides dans l’alignement d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8560" y="0"/>
            <a:ext cx="8140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Corpus </a:t>
            </a:r>
            <a:r>
              <a:rPr b="0" i="1" lang="fr-FR" sz="3600" spc="-1" strike="noStrike">
                <a:solidFill>
                  <a:srgbClr val="6666ff"/>
                </a:solidFill>
                <a:latin typeface="Times New Roman"/>
              </a:rPr>
              <a:t>Convention</a:t>
            </a: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ffff"/>
                </a:solidFill>
                <a:latin typeface="Times New Roman"/>
              </a:rPr>
              <a:t>:</a:t>
            </a: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l’alignement des phr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6346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L’alignement automatique des phrases :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méthodes</a:t>
            </a:r>
            <a:r>
              <a:rPr b="1" lang="fr-FR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</a:rPr>
              <a:t>probabiliste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79640" y="2073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Les </a:t>
            </a:r>
            <a:r>
              <a:rPr b="0" lang="fr-FR" sz="1800" spc="-1" strike="noStrike">
                <a:solidFill>
                  <a:srgbClr val="ccccff"/>
                </a:solidFill>
                <a:latin typeface="Tahoma"/>
              </a:rPr>
              <a:t>méthodes probabilist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utilisées dans l ’alignement des phrases se basent sur des critères formels tels que la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similitude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des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longueur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e chaînes à apparier, les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mots apparenté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fr-ML" sz="1800" spc="-1" strike="noStrike">
                <a:solidFill>
                  <a:srgbClr val="ffffff"/>
                </a:solidFill>
                <a:latin typeface="Tahoma"/>
              </a:rPr>
              <a:t>cognates)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ou l’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ordre des mot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dans les phra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ertaines méthodes prévoient également le recours à un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dictionnaire bilingue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s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scores statistiques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sont ensuite attribués en fonction de l’ensemble de ces critères pour effectuer l’appariement le plus prob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1160" y="561348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ÉRONIS Jean (Ed.) 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0). Parallel Text Processing: Alignment and use of translation corpora.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rdrecht: Kluwer Academic Publishers, 402p.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17440" y="5423040"/>
            <a:ext cx="7569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4-10-02T03:40:12Z</dcterms:modified>
  <cp:revision>249</cp:revision>
  <dc:subject/>
  <dc:title>L’alignement textométrique des unités lexicales à correspondances multiples dans les corpus parallèles</dc:title>
</cp:coreProperties>
</file>