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D5A-A717-4E7E-894B-019B9894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C75-9564-4929-A21F-5EF40833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8B89-5EEC-415D-B25C-D2F2411E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B63E-2F22-47F9-AE45-EE16DDD0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5C70-F7AC-48CD-A19D-AB547F19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9278-F711-45C2-B6FD-100037CD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AC96-8E11-453F-A6DB-932DED98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1669-B82C-462F-ABD0-4E8A9F1C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CFEE-688A-4DAB-9B18-FE77CB08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5CFD-9DDA-4F36-BF95-1A75A98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81F1-AF60-4C1F-9079-CFC48795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AF6-431F-4AA4-8E34-6F846D5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4DDB-8AB7-463F-95CE-825DF54D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A336-45C1-4612-BB42-8B206174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D1F7-9D94-4570-A5F4-54F6FD45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75D2-616B-4CA0-AA89-506BD161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5018-AA3A-4DAA-9ED5-D9835CA5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898-E7C2-4AAF-ABD9-908B5665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08A-EB95-49AC-889D-FA21614F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A88-56FD-4F61-8E5F-49B9664B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1E5-0BC5-4B15-9925-E999D49E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476-FAA0-47D9-9EEE-37AFFED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E26-08D3-433C-AAF1-381160C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642-1D83-4364-95CE-270E510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77B2-BBB5-4284-AB93-053BD46F9B7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5BA7-183B-4112-A883-213D331B88E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8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3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9.png"/><Relationship Id="rId27" Type="http://schemas.openxmlformats.org/officeDocument/2006/relationships/image" Target="../media/image14.png"/><Relationship Id="rId28" Type="http://schemas.openxmlformats.org/officeDocument/2006/relationships/image" Target="../media/image7.jpeg"/><Relationship Id="rId29" Type="http://schemas.openxmlformats.org/officeDocument/2006/relationships/image" Target="../media/image1.png"/><Relationship Id="rId30" Type="http://schemas.openxmlformats.org/officeDocument/2006/relationships/image" Target="../media/image8.png"/><Relationship Id="rId31" Type="http://schemas.openxmlformats.org/officeDocument/2006/relationships/image" Target="../media/image25.png"/><Relationship Id="rId32" Type="http://schemas.openxmlformats.org/officeDocument/2006/relationships/image" Target="../media/image26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image" Target="../media/image31.png"/><Relationship Id="rId38" Type="http://schemas.openxmlformats.org/officeDocument/2006/relationships/image" Target="../media/image32.png"/><Relationship Id="rId39" Type="http://schemas.openxmlformats.org/officeDocument/2006/relationships/image" Target="../media/image8.png"/><Relationship Id="rId40" Type="http://schemas.openxmlformats.org/officeDocument/2006/relationships/image" Target="../media/image33.png"/><Relationship Id="rId41" Type="http://schemas.openxmlformats.org/officeDocument/2006/relationships/image" Target="../media/image34.png"/><Relationship Id="rId42" Type="http://schemas.openxmlformats.org/officeDocument/2006/relationships/image" Target="../media/image35.png"/><Relationship Id="rId43" Type="http://schemas.openxmlformats.org/officeDocument/2006/relationships/image" Target="../media/image35.png"/><Relationship Id="rId44" Type="http://schemas.openxmlformats.org/officeDocument/2006/relationships/image" Target="../media/image36.png"/><Relationship Id="rId45" Type="http://schemas.openxmlformats.org/officeDocument/2006/relationships/image" Target="../media/image36.png"/><Relationship Id="rId46" Type="http://schemas.openxmlformats.org/officeDocument/2006/relationships/image" Target="../media/image37.png"/><Relationship Id="rId47" Type="http://schemas.openxmlformats.org/officeDocument/2006/relationships/image" Target="../media/image38.png"/><Relationship Id="rId4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8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6.png"/><Relationship Id="rId23" Type="http://schemas.openxmlformats.org/officeDocument/2006/relationships/image" Target="../media/image13.png"/><Relationship Id="rId24" Type="http://schemas.openxmlformats.org/officeDocument/2006/relationships/image" Target="../media/image12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9.png"/><Relationship Id="rId28" Type="http://schemas.openxmlformats.org/officeDocument/2006/relationships/image" Target="../media/image7.jpeg"/><Relationship Id="rId29" Type="http://schemas.openxmlformats.org/officeDocument/2006/relationships/image" Target="../media/image1.png"/><Relationship Id="rId30" Type="http://schemas.openxmlformats.org/officeDocument/2006/relationships/image" Target="../media/image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15.png"/><Relationship Id="rId36" Type="http://schemas.openxmlformats.org/officeDocument/2006/relationships/image" Target="../media/image8.png"/><Relationship Id="rId37" Type="http://schemas.openxmlformats.org/officeDocument/2006/relationships/image" Target="../media/image26.png"/><Relationship Id="rId38" Type="http://schemas.openxmlformats.org/officeDocument/2006/relationships/image" Target="../media/image31.png"/><Relationship Id="rId39" Type="http://schemas.openxmlformats.org/officeDocument/2006/relationships/image" Target="../media/image30.png"/><Relationship Id="rId40" Type="http://schemas.openxmlformats.org/officeDocument/2006/relationships/image" Target="../media/image32.png"/><Relationship Id="rId41" Type="http://schemas.openxmlformats.org/officeDocument/2006/relationships/image" Target="../media/image43.png"/><Relationship Id="rId42" Type="http://schemas.openxmlformats.org/officeDocument/2006/relationships/image" Target="../media/image35.png"/><Relationship Id="rId4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2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21.png"/><Relationship Id="rId17" Type="http://schemas.openxmlformats.org/officeDocument/2006/relationships/image" Target="../media/image13.png"/><Relationship Id="rId18" Type="http://schemas.openxmlformats.org/officeDocument/2006/relationships/image" Target="../media/image44.png"/><Relationship Id="rId19" Type="http://schemas.openxmlformats.org/officeDocument/2006/relationships/image" Target="../media/image45.png"/><Relationship Id="rId20" Type="http://schemas.openxmlformats.org/officeDocument/2006/relationships/image" Target="../media/image32.png"/><Relationship Id="rId21" Type="http://schemas.openxmlformats.org/officeDocument/2006/relationships/image" Target="../media/image46.png"/><Relationship Id="rId22" Type="http://schemas.openxmlformats.org/officeDocument/2006/relationships/image" Target="../media/image7.jpeg"/><Relationship Id="rId23" Type="http://schemas.openxmlformats.org/officeDocument/2006/relationships/image" Target="../media/image1.png"/><Relationship Id="rId2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al.univ-paris3.fr/outils-tal-p3.html" TargetMode="External"/><Relationship Id="rId2" Type="http://schemas.openxmlformats.org/officeDocument/2006/relationships/hyperlink" Target="http://tal.univ-paris3.fr/outils-tal-p3.html" TargetMode="External"/><Relationship Id="rId3" Type="http://schemas.openxmlformats.org/officeDocument/2006/relationships/hyperlink" Target="http://tal.univ-paris3.fr/outils-tal-p3.html" TargetMode="External"/><Relationship Id="rId4" Type="http://schemas.openxmlformats.org/officeDocument/2006/relationships/hyperlink" Target="http://tal.univ-paris3.fr/outils-tal-p3.html" TargetMode="External"/><Relationship Id="rId5" Type="http://schemas.openxmlformats.org/officeDocument/2006/relationships/hyperlink" Target="http://tal.univ-paris3.fr/outils-tal-p3.html" TargetMode="External"/><Relationship Id="rId6" Type="http://schemas.openxmlformats.org/officeDocument/2006/relationships/hyperlink" Target="http://tal.univ-paris3.fr/outils-tal-p3.html" TargetMode="External"/><Relationship Id="rId7" Type="http://schemas.openxmlformats.org/officeDocument/2006/relationships/hyperlink" Target="http://tal.univ-paris3.fr/outils-tal-p3.html" TargetMode="External"/><Relationship Id="rId8" Type="http://schemas.openxmlformats.org/officeDocument/2006/relationships/hyperlink" Target="http://tal.univ-paris3.fr/outils-tal-p3.html" TargetMode="External"/><Relationship Id="rId9" Type="http://schemas.openxmlformats.org/officeDocument/2006/relationships/hyperlink" Target="http://tal.univ-paris3.fr/outils-tal-p3.html" TargetMode="External"/><Relationship Id="rId10" Type="http://schemas.openxmlformats.org/officeDocument/2006/relationships/hyperlink" Target="http://tal.univ-paris3.fr/outils-tal-p3.html" TargetMode="External"/><Relationship Id="rId11" Type="http://schemas.openxmlformats.org/officeDocument/2006/relationships/hyperlink" Target="http://tal.univ-paris3.fr/outils-tal-p3.html" TargetMode="External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tal.univ-paris3.fr/outils-tal-p3.html" TargetMode="External"/><Relationship Id="rId2" Type="http://schemas.openxmlformats.org/officeDocument/2006/relationships/hyperlink" Target="http://tal.univ-paris3.fr/outils-tal-p3.html" TargetMode="External"/><Relationship Id="rId3" Type="http://schemas.openxmlformats.org/officeDocument/2006/relationships/hyperlink" Target="http://tal.univ-paris3.fr/outils-tal-p3.html" TargetMode="External"/><Relationship Id="rId4" Type="http://schemas.openxmlformats.org/officeDocument/2006/relationships/hyperlink" Target="http://tal.univ-paris3.fr/outils-tal-p3.html" TargetMode="External"/><Relationship Id="rId5" Type="http://schemas.openxmlformats.org/officeDocument/2006/relationships/hyperlink" Target="http://tal.univ-paris3.fr/outils-tal-p3.html" TargetMode="External"/><Relationship Id="rId6" Type="http://schemas.openxmlformats.org/officeDocument/2006/relationships/hyperlink" Target="http://tal.univ-paris3.fr/outils-tal-p3.html" TargetMode="External"/><Relationship Id="rId7" Type="http://schemas.openxmlformats.org/officeDocument/2006/relationships/hyperlink" Target="http://tal.univ-paris3.fr/outils-tal-p3.html" TargetMode="External"/><Relationship Id="rId8" Type="http://schemas.openxmlformats.org/officeDocument/2006/relationships/hyperlink" Target="http://tal.univ-paris3.fr/outils-tal-p3.html" TargetMode="External"/><Relationship Id="rId9" Type="http://schemas.openxmlformats.org/officeDocument/2006/relationships/hyperlink" Target="http://tal.univ-paris3.fr/outils-tal-p3.html" TargetMode="External"/><Relationship Id="rId10" Type="http://schemas.openxmlformats.org/officeDocument/2006/relationships/hyperlink" Target="http://tal.univ-paris3.fr/outils-tal-p3.html" TargetMode="External"/><Relationship Id="rId11" Type="http://schemas.openxmlformats.org/officeDocument/2006/relationships/hyperlink" Target="http://tal.univ-paris3.fr/outils-tal-p3.html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hyperlink" Target="http://conventions.coe.int/" TargetMode="External"/><Relationship Id="rId4" Type="http://schemas.openxmlformats.org/officeDocument/2006/relationships/hyperlink" Target="http://conventions.coe.int/" TargetMode="External"/><Relationship Id="rId5" Type="http://schemas.openxmlformats.org/officeDocument/2006/relationships/hyperlink" Target="http://conventions.coe.int/" TargetMode="External"/><Relationship Id="rId6" Type="http://schemas.openxmlformats.org/officeDocument/2006/relationships/hyperlink" Target="http://conventions.coe.int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057400" y="4952520"/>
            <a:ext cx="601992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ria Zimina-Poir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imina@msh-paris.f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SYLED - </a:t>
            </a:r>
            <a:r>
              <a:rPr b="1" i="1" lang="fr-FR" sz="1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CLA2T</a:t>
            </a:r>
            <a:r>
              <a:rPr b="0" lang="fr-FR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http://www.cavi.univ-paris3.fr/ilpga/syled/cla2t.ht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UNIVERSITÉ DE LA SORBONNE NOUVELLE - PARIS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95480" y="674640"/>
            <a:ext cx="5943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4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ISTI, Bruxelles, 8 - 10 septemb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33160" y="2361960"/>
            <a:ext cx="7848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Topographie bi-textuelle et</a:t>
            </a:r>
            <a:br>
              <a:rPr sz="2800"/>
            </a:b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approches quantitatives de l’extraction</a:t>
            </a:r>
            <a:br>
              <a:rPr sz="2800"/>
            </a:b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de ressources traductionnelles</a:t>
            </a:r>
            <a:br>
              <a:rPr sz="2800"/>
            </a:br>
            <a:r>
              <a:rPr b="0" lang="fr-FR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à partir de corpus parallèl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87156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atique des segments répétés (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71360" y="2362320"/>
          <a:ext cx="880128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360" y="2362320"/>
                    <a:ext cx="88012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2666880" y="2666880"/>
            <a:ext cx="3622680" cy="3124080"/>
            <a:chOff x="2666880" y="2666880"/>
            <a:chExt cx="3622680" cy="3124080"/>
          </a:xfrm>
        </p:grpSpPr>
        <p:sp>
          <p:nvSpPr>
            <p:cNvPr id="316" name=""/>
            <p:cNvSpPr/>
            <p:nvPr/>
          </p:nvSpPr>
          <p:spPr>
            <a:xfrm>
              <a:off x="2666880" y="2666880"/>
              <a:ext cx="38124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66880" y="2895480"/>
              <a:ext cx="38124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43600" y="2666880"/>
              <a:ext cx="34596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43600" y="2882880"/>
              <a:ext cx="34596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666880" y="4572000"/>
              <a:ext cx="381240" cy="121896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5943240" y="4572000"/>
              <a:ext cx="345960" cy="76176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2028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20289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72200" y="2028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Segments répétés (F &gt;=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821-EA0C-4318-B335-6D6CDC6A81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analyse des distributions lexica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27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etat" descr=""/>
          <p:cNvPicPr/>
          <p:nvPr/>
        </p:nvPicPr>
        <p:blipFill>
          <a:blip r:embed="rId2"/>
          <a:stretch/>
        </p:blipFill>
        <p:spPr>
          <a:xfrm>
            <a:off x="789120" y="817560"/>
            <a:ext cx="7772400" cy="2332080"/>
          </a:xfrm>
          <a:prstGeom prst="rect">
            <a:avLst/>
          </a:prstGeom>
          <a:ln w="0">
            <a:noFill/>
          </a:ln>
        </p:spPr>
      </p:pic>
      <p:pic>
        <p:nvPicPr>
          <p:cNvPr id="330" name="state" descr=""/>
          <p:cNvPicPr/>
          <p:nvPr/>
        </p:nvPicPr>
        <p:blipFill>
          <a:blip r:embed="rId3"/>
          <a:stretch/>
        </p:blipFill>
        <p:spPr>
          <a:xfrm>
            <a:off x="789120" y="2859120"/>
            <a:ext cx="7772400" cy="2104920"/>
          </a:xfrm>
          <a:prstGeom prst="rect">
            <a:avLst/>
          </a:prstGeom>
          <a:ln w="0">
            <a:noFill/>
          </a:ln>
        </p:spPr>
      </p:pic>
      <p:pic>
        <p:nvPicPr>
          <p:cNvPr id="331" name="gosudarstvo2" descr=""/>
          <p:cNvPicPr/>
          <p:nvPr/>
        </p:nvPicPr>
        <p:blipFill>
          <a:blip r:embed="rId4"/>
          <a:stretch/>
        </p:blipFill>
        <p:spPr>
          <a:xfrm>
            <a:off x="789120" y="4705200"/>
            <a:ext cx="7772400" cy="2152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438280" y="1658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3581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5410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5562720"/>
            <a:ext cx="228600" cy="442800"/>
          </a:xfrm>
          <a:prstGeom prst="downArrow">
            <a:avLst>
              <a:gd name="adj1" fmla="val 50000"/>
              <a:gd name="adj2" fmla="val 48425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81680" y="5502240"/>
            <a:ext cx="177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ждое государство</a:t>
            </a:r>
            <a:r>
              <a:rPr b="0" lang="fr-FR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l3_petit" descr=""/>
          <p:cNvPicPr/>
          <p:nvPr/>
        </p:nvPicPr>
        <p:blipFill>
          <a:blip r:embed="rId5"/>
          <a:stretch/>
        </p:blipFill>
        <p:spPr>
          <a:xfrm>
            <a:off x="7243920" y="6572160"/>
            <a:ext cx="1317600" cy="2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F6E-5E8B-4D9A-B9B9-787B5D10C0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171960" y="320364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4360" y="35211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22240" y="4816440"/>
            <a:ext cx="193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hrases en français contenant la forme « démocrati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95640" y="4791240"/>
            <a:ext cx="179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raductions de ces phrases dans le volet angl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1400" y="2771640"/>
            <a:ext cx="38988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fr-FR" sz="1400" spc="-1" strike="noStrike">
                <a:solidFill>
                  <a:srgbClr val="000066"/>
                </a:solidFill>
                <a:latin typeface="Verdana"/>
                <a:ea typeface="Tahoma"/>
              </a:rPr>
              <a:t>le</a:t>
            </a: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Tahoma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Verdana"/>
                <a:ea typeface="Tahoma"/>
              </a:rPr>
              <a:t>calcul des spécificités</a:t>
            </a: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Tahoma"/>
              </a:rPr>
              <a:t> permet de sélectionner parallèlement pour chacun de ces fragments une série d’unités textuelles particulièrement caractérist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35320" y="325440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75280" y="343224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47920" y="3863880"/>
            <a:ext cx="425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79920" y="4105440"/>
            <a:ext cx="74268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4800" y="3863880"/>
            <a:ext cx="209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4160" y="3254400"/>
            <a:ext cx="20988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71680" y="2771640"/>
            <a:ext cx="1397160" cy="520920"/>
          </a:xfrm>
          <a:custGeom>
            <a:avLst/>
            <a:gdLst>
              <a:gd name="textAreaLeft" fmla="*/ 244440 w 1397160"/>
              <a:gd name="textAreaRight" fmla="*/ 1013040 w 1397160"/>
              <a:gd name="textAreaTop" fmla="*/ 69480 h 520920"/>
              <a:gd name="textAreaBottom" fmla="*/ 451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835360"/>
            <a:ext cx="12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66cc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66960" y="2835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3300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84480" y="4168800"/>
            <a:ext cx="54612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19120" y="320364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1260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32080" y="350820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cc"/>
                </a:solidFill>
                <a:latin typeface="Verdana"/>
              </a:rPr>
              <a:t>démocrat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57280" y="3254400"/>
            <a:ext cx="743040" cy="14436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97240" y="3432240"/>
            <a:ext cx="209520" cy="14436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69880" y="3863880"/>
            <a:ext cx="425520" cy="14472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14480" y="4105440"/>
            <a:ext cx="743040" cy="14436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66760" y="3863880"/>
            <a:ext cx="209880" cy="14472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6480" y="3254400"/>
            <a:ext cx="209520" cy="144360"/>
          </a:xfrm>
          <a:prstGeom prst="rect">
            <a:avLst/>
          </a:prstGeom>
          <a:solidFill>
            <a:srgbClr val="3366cc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444680" y="4194000"/>
            <a:ext cx="698400" cy="584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28680" y="226692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opographie bi-text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1360" y="914400"/>
            <a:ext cx="75945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Approche topographique</a:t>
            </a:r>
            <a:br>
              <a:rPr sz="2400"/>
            </a:b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des corpus parallè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64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1136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La méthode des spécific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797040"/>
            <a:ext cx="38098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336699"/>
                </a:solidFill>
                <a:uFillTx/>
                <a:latin typeface="Arial Unicode MS"/>
                <a:ea typeface="Arial Unicode MS"/>
                <a:hlinkClick r:id="rId2" action="ppaction://hlinksldjump"/>
              </a:rPr>
              <a:t>Exemple : volets ANGLAIS et FRANÇAIS_x000b_du corpus parallèle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Arial Unicode MS"/>
                <a:ea typeface="Arial Unicode MS"/>
                <a:hlinkClick r:id="rId3" action="ppaction://hlinksldjump"/>
              </a:rPr>
              <a:t>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00" y="4778280"/>
            <a:ext cx="8541000" cy="2005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F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f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Spec.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F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f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i="1" lang="en-US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Spec</a:t>
            </a:r>
            <a:r>
              <a:rPr b="1" i="1" lang="fr-FR" sz="1400" spc="-1" strike="noStrike">
                <a:solidFill>
                  <a:srgbClr val="003366"/>
                </a:solidFill>
                <a:latin typeface="Verdana"/>
                <a:ea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66cc"/>
                </a:solidFill>
                <a:latin typeface="Verdana"/>
                <a:ea typeface="Arial Unicode MS"/>
              </a:rPr>
              <a:t>démocrati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9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9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27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1" lang="fr-FR" sz="1400" spc="-1" strike="noStrike">
                <a:solidFill>
                  <a:srgbClr val="ff3300"/>
                </a:solidFill>
                <a:latin typeface="Verdana"/>
                <a:ea typeface="Arial Unicode MS"/>
              </a:rPr>
              <a:t>democracy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10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9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démocratie apte à se défendr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democracy capable of defending itself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 4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apt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capable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 7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défendr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5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11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defending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34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4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le cauchemar du nazisme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6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the nightmare of nazism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  2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GB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476440"/>
                <a:tab algn="l" pos="2857680"/>
                <a:tab algn="l" pos="3149640"/>
                <a:tab algn="l" pos="3911760"/>
                <a:tab algn="l" pos="7048440"/>
                <a:tab algn="l" pos="7429680"/>
                <a:tab algn="l" pos="781056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valeurs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15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4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values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15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2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3366"/>
                </a:solidFill>
                <a:latin typeface="Verdana"/>
                <a:ea typeface="Arial Unicode MS"/>
              </a:rPr>
              <a:t>+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8B5-BA01-41CE-9DA6-76CC1B7A6D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370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2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375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376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377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78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79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380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381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90680" y="1044720"/>
            <a:ext cx="35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volet franç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384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385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91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9160" y="2008080"/>
                <a:ext cx="4519440" cy="37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69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4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396" name="a2_b" descr=""/>
          <p:cNvPicPr/>
          <p:nvPr/>
        </p:nvPicPr>
        <p:blipFill>
          <a:blip r:embed="rId21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397" name="a4_b" descr=""/>
          <p:cNvPicPr/>
          <p:nvPr/>
        </p:nvPicPr>
        <p:blipFill>
          <a:blip r:embed="rId22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98" name="a5_b" descr=""/>
          <p:cNvPicPr/>
          <p:nvPr/>
        </p:nvPicPr>
        <p:blipFill>
          <a:blip r:embed="rId23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99" name="a8_b" descr=""/>
          <p:cNvPicPr/>
          <p:nvPr/>
        </p:nvPicPr>
        <p:blipFill>
          <a:blip r:embed="rId24"/>
          <a:stretch/>
        </p:blipFill>
        <p:spPr>
          <a:xfrm>
            <a:off x="444960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400" name="a7_b" descr=""/>
          <p:cNvPicPr/>
          <p:nvPr/>
        </p:nvPicPr>
        <p:blipFill>
          <a:blip r:embed="rId25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01" name="a8_b" descr=""/>
          <p:cNvPicPr/>
          <p:nvPr/>
        </p:nvPicPr>
        <p:blipFill>
          <a:blip r:embed="rId26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8352000" y="3692520"/>
            <a:ext cx="52200" cy="540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a3_b" descr=""/>
          <p:cNvPicPr/>
          <p:nvPr/>
        </p:nvPicPr>
        <p:blipFill>
          <a:blip r:embed="rId27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174680" y="201312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l3_petit" descr=""/>
          <p:cNvPicPr/>
          <p:nvPr/>
        </p:nvPicPr>
        <p:blipFill>
          <a:blip r:embed="rId28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pic>
        <p:nvPicPr>
          <p:cNvPr id="406" name="auf01" descr=""/>
          <p:cNvPicPr/>
          <p:nvPr/>
        </p:nvPicPr>
        <p:blipFill>
          <a:blip r:embed="rId29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468680" y="3666960"/>
            <a:ext cx="4548240" cy="184320"/>
            <a:chOff x="4468680" y="3666960"/>
            <a:chExt cx="4548240" cy="184320"/>
          </a:xfrm>
        </p:grpSpPr>
        <p:pic>
          <p:nvPicPr>
            <p:cNvPr id="409" name="a6cor" descr=""/>
            <p:cNvPicPr/>
            <p:nvPr/>
          </p:nvPicPr>
          <p:blipFill>
            <a:blip r:embed="rId30"/>
            <a:stretch/>
          </p:blipFill>
          <p:spPr>
            <a:xfrm>
              <a:off x="4468680" y="3666960"/>
              <a:ext cx="454824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flipH="1" flipV="1">
              <a:off x="8350200" y="3689280"/>
              <a:ext cx="540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449600" y="1289160"/>
            <a:ext cx="4621320" cy="4981320"/>
            <a:chOff x="4449600" y="1289160"/>
            <a:chExt cx="4621320" cy="4981320"/>
          </a:xfrm>
        </p:grpSpPr>
        <p:grpSp>
          <p:nvGrpSpPr>
            <p:cNvPr id="412" name=""/>
            <p:cNvGrpSpPr/>
            <p:nvPr/>
          </p:nvGrpSpPr>
          <p:grpSpPr>
            <a:xfrm>
              <a:off x="4449600" y="1289160"/>
              <a:ext cx="4621320" cy="4981320"/>
              <a:chOff x="4449600" y="1289160"/>
              <a:chExt cx="4621320" cy="4981320"/>
            </a:xfrm>
          </p:grpSpPr>
          <p:pic>
            <p:nvPicPr>
              <p:cNvPr id="413" name="f8m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49600" y="441972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4" name="f7m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405936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f5m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57880" y="2908440"/>
                <a:ext cx="455580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f3m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49600" y="2008080"/>
                <a:ext cx="45640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f2m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49600" y="128916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f9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49600" y="49593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f1m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49600" y="5248440"/>
                <a:ext cx="46213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f4m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49600" y="2548080"/>
                <a:ext cx="4548240" cy="19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a6cor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65800" y="3666960"/>
                <a:ext cx="454788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2" name=""/>
            <p:cNvSpPr/>
            <p:nvPr/>
          </p:nvSpPr>
          <p:spPr>
            <a:xfrm>
              <a:off x="8348760" y="3688920"/>
              <a:ext cx="52200" cy="5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523880" y="4181400"/>
            <a:ext cx="5840280" cy="2509920"/>
            <a:chOff x="1523880" y="4181400"/>
            <a:chExt cx="5840280" cy="2509920"/>
          </a:xfrm>
        </p:grpSpPr>
        <p:grpSp>
          <p:nvGrpSpPr>
            <p:cNvPr id="424" name=""/>
            <p:cNvGrpSpPr/>
            <p:nvPr/>
          </p:nvGrpSpPr>
          <p:grpSpPr>
            <a:xfrm>
              <a:off x="1523880" y="4181400"/>
              <a:ext cx="5840280" cy="2509920"/>
              <a:chOff x="1523880" y="4181400"/>
              <a:chExt cx="5840280" cy="2509920"/>
            </a:xfrm>
          </p:grpSpPr>
          <p:pic>
            <p:nvPicPr>
              <p:cNvPr id="425" name="ang" descr=""/>
              <p:cNvPicPr/>
              <p:nvPr/>
            </p:nvPicPr>
            <p:blipFill>
              <a:blip r:embed="rId40"/>
              <a:stretch/>
            </p:blipFill>
            <p:spPr>
              <a:xfrm>
                <a:off x="4464000" y="4181400"/>
                <a:ext cx="2900160" cy="25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fra-sp" descr=""/>
              <p:cNvPicPr/>
              <p:nvPr/>
            </p:nvPicPr>
            <p:blipFill>
              <a:blip r:embed="rId41"/>
              <a:stretch/>
            </p:blipFill>
            <p:spPr>
              <a:xfrm>
                <a:off x="1523880" y="4181400"/>
                <a:ext cx="2911320" cy="25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selec" descr=""/>
            <p:cNvPicPr/>
            <p:nvPr/>
          </p:nvPicPr>
          <p:blipFill>
            <a:blip r:embed="rId42"/>
            <a:stretch/>
          </p:blipFill>
          <p:spPr>
            <a:xfrm>
              <a:off x="3962520" y="4336920"/>
              <a:ext cx="377640" cy="365400"/>
            </a:xfrm>
            <a:prstGeom prst="rect">
              <a:avLst/>
            </a:prstGeom>
            <a:ln w="12600">
              <a:solidFill>
                <a:srgbClr val="c0c0c0"/>
              </a:solidFill>
              <a:miter/>
            </a:ln>
          </p:spPr>
        </p:pic>
        <p:pic>
          <p:nvPicPr>
            <p:cNvPr id="428" name="selec" descr=""/>
            <p:cNvPicPr/>
            <p:nvPr/>
          </p:nvPicPr>
          <p:blipFill>
            <a:blip r:embed="rId43"/>
            <a:stretch/>
          </p:blipFill>
          <p:spPr>
            <a:xfrm>
              <a:off x="6877080" y="4336920"/>
              <a:ext cx="377640" cy="365400"/>
            </a:xfrm>
            <a:prstGeom prst="rect">
              <a:avLst/>
            </a:prstGeom>
            <a:ln w="12600">
              <a:solidFill>
                <a:srgbClr val="c0c0c0"/>
              </a:solidFill>
              <a:miter/>
            </a:ln>
          </p:spPr>
        </p:pic>
      </p:grpSp>
      <p:sp>
        <p:nvSpPr>
          <p:cNvPr id="429" name=""/>
          <p:cNvSpPr/>
          <p:nvPr/>
        </p:nvSpPr>
        <p:spPr>
          <a:xfrm>
            <a:off x="1473120" y="4935600"/>
            <a:ext cx="1117800" cy="19044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49600" y="1293840"/>
            <a:ext cx="0" cy="49816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90920" y="5030640"/>
            <a:ext cx="1819080" cy="95400"/>
          </a:xfrm>
          <a:prstGeom prst="line">
            <a:avLst/>
          </a:prstGeom>
          <a:ln w="2556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62480" y="4935600"/>
            <a:ext cx="933480" cy="31752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01520" y="1023840"/>
            <a:ext cx="8659800" cy="1819440"/>
            <a:chOff x="101520" y="1023840"/>
            <a:chExt cx="8659800" cy="1819440"/>
          </a:xfrm>
        </p:grpSpPr>
        <p:grpSp>
          <p:nvGrpSpPr>
            <p:cNvPr id="434" name=""/>
            <p:cNvGrpSpPr/>
            <p:nvPr/>
          </p:nvGrpSpPr>
          <p:grpSpPr>
            <a:xfrm>
              <a:off x="139680" y="1932120"/>
              <a:ext cx="8621640" cy="911160"/>
              <a:chOff x="139680" y="1932120"/>
              <a:chExt cx="8621640" cy="91116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139680" y="1932120"/>
                <a:ext cx="8621640" cy="911160"/>
                <a:chOff x="139680" y="1932120"/>
                <a:chExt cx="8621640" cy="911160"/>
              </a:xfrm>
            </p:grpSpPr>
            <p:pic>
              <p:nvPicPr>
                <p:cNvPr id="436" name="section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13968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section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447516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38" name="tt" descr=""/>
              <p:cNvPicPr/>
              <p:nvPr/>
            </p:nvPicPr>
            <p:blipFill>
              <a:blip r:embed="rId46"/>
              <a:stretch/>
            </p:blipFill>
            <p:spPr>
              <a:xfrm>
                <a:off x="884160" y="2006640"/>
                <a:ext cx="348768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ttt" descr=""/>
              <p:cNvPicPr/>
              <p:nvPr/>
            </p:nvPicPr>
            <p:blipFill>
              <a:blip r:embed="rId47"/>
              <a:stretch/>
            </p:blipFill>
            <p:spPr>
              <a:xfrm>
                <a:off x="5187960" y="2006640"/>
                <a:ext cx="33796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0" name=""/>
            <p:cNvGrpSpPr/>
            <p:nvPr/>
          </p:nvGrpSpPr>
          <p:grpSpPr>
            <a:xfrm>
              <a:off x="101520" y="1023840"/>
              <a:ext cx="4397040" cy="258840"/>
              <a:chOff x="101520" y="1023840"/>
              <a:chExt cx="4397040" cy="258840"/>
            </a:xfrm>
          </p:grpSpPr>
          <p:sp>
            <p:nvSpPr>
              <p:cNvPr id="441" name=""/>
              <p:cNvSpPr/>
              <p:nvPr/>
            </p:nvSpPr>
            <p:spPr>
              <a:xfrm flipH="1">
                <a:off x="101520" y="1030320"/>
                <a:ext cx="439704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120240" y="1023840"/>
                <a:ext cx="4365360" cy="258840"/>
                <a:chOff x="120240" y="1023840"/>
                <a:chExt cx="4365360" cy="258840"/>
              </a:xfrm>
            </p:grpSpPr>
            <p:sp>
              <p:nvSpPr>
                <p:cNvPr id="443" name=""/>
                <p:cNvSpPr/>
                <p:nvPr/>
              </p:nvSpPr>
              <p:spPr>
                <a:xfrm flipH="1">
                  <a:off x="120240" y="1023840"/>
                  <a:ext cx="3240" cy="23184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482360" y="1028160"/>
                  <a:ext cx="3240" cy="25452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150840" y="1311120"/>
              <a:ext cx="4376880" cy="63360"/>
              <a:chOff x="150840" y="1311120"/>
              <a:chExt cx="4376880" cy="63360"/>
            </a:xfrm>
          </p:grpSpPr>
          <p:sp>
            <p:nvSpPr>
              <p:cNvPr id="446" name=""/>
              <p:cNvSpPr/>
              <p:nvPr/>
            </p:nvSpPr>
            <p:spPr>
              <a:xfrm>
                <a:off x="150840" y="1311120"/>
                <a:ext cx="52200" cy="63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475160" y="1311120"/>
                <a:ext cx="52560" cy="63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8" name=""/>
          <p:cNvSpPr/>
          <p:nvPr/>
        </p:nvSpPr>
        <p:spPr>
          <a:xfrm>
            <a:off x="4983120" y="1044720"/>
            <a:ext cx="35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volet angl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7560" y="58500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Navigation textométrique :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étape 1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EAE-6325-4E98-AE3A-905882014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451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456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457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58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59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60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461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462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464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465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6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7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8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1760" y="2913120"/>
                <a:ext cx="4556160" cy="5522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9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70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1760" y="2013120"/>
                <a:ext cx="4519440" cy="374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71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72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73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4080"/>
                <a:ext cx="454824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</p:grpSp>
        <p:sp>
          <p:nvSpPr>
            <p:cNvPr id="474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5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476" name="a3_b" descr=""/>
          <p:cNvPicPr/>
          <p:nvPr/>
        </p:nvPicPr>
        <p:blipFill>
          <a:blip r:embed="rId21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pic>
        <p:nvPicPr>
          <p:cNvPr id="477" name="a2_b" descr=""/>
          <p:cNvPicPr/>
          <p:nvPr/>
        </p:nvPicPr>
        <p:blipFill>
          <a:blip r:embed="rId22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478" name="a4_b" descr=""/>
          <p:cNvPicPr/>
          <p:nvPr/>
        </p:nvPicPr>
        <p:blipFill>
          <a:blip r:embed="rId23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479" name="a5_b" descr=""/>
          <p:cNvPicPr/>
          <p:nvPr/>
        </p:nvPicPr>
        <p:blipFill>
          <a:blip r:embed="rId24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480" name="a8_b" descr=""/>
          <p:cNvPicPr/>
          <p:nvPr/>
        </p:nvPicPr>
        <p:blipFill>
          <a:blip r:embed="rId25"/>
          <a:stretch/>
        </p:blipFill>
        <p:spPr>
          <a:xfrm>
            <a:off x="446868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481" name="a7_b" descr=""/>
          <p:cNvPicPr/>
          <p:nvPr/>
        </p:nvPicPr>
        <p:blipFill>
          <a:blip r:embed="rId26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482" name="a8_b" descr=""/>
          <p:cNvPicPr/>
          <p:nvPr/>
        </p:nvPicPr>
        <p:blipFill>
          <a:blip r:embed="rId27"/>
          <a:stretch/>
        </p:blipFill>
        <p:spPr>
          <a:xfrm>
            <a:off x="4457880" y="4964040"/>
            <a:ext cx="4539960" cy="1843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8331120" y="3692520"/>
            <a:ext cx="52560" cy="54000"/>
          </a:xfrm>
          <a:prstGeom prst="rect">
            <a:avLst/>
          </a:prstGeom>
          <a:solidFill>
            <a:srgbClr val="000000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1924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l3_petit" descr=""/>
          <p:cNvPicPr/>
          <p:nvPr/>
        </p:nvPicPr>
        <p:blipFill>
          <a:blip r:embed="rId28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pic>
        <p:nvPicPr>
          <p:cNvPr id="486" name="auf01" descr=""/>
          <p:cNvPicPr/>
          <p:nvPr/>
        </p:nvPicPr>
        <p:blipFill>
          <a:blip r:embed="rId29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0680" y="1044720"/>
            <a:ext cx="35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volet franç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448160" y="3666960"/>
            <a:ext cx="4548240" cy="184320"/>
            <a:chOff x="4448160" y="3666960"/>
            <a:chExt cx="4548240" cy="184320"/>
          </a:xfrm>
        </p:grpSpPr>
        <p:pic>
          <p:nvPicPr>
            <p:cNvPr id="490" name="a6cor" descr=""/>
            <p:cNvPicPr/>
            <p:nvPr/>
          </p:nvPicPr>
          <p:blipFill>
            <a:blip r:embed="rId30"/>
            <a:stretch/>
          </p:blipFill>
          <p:spPr>
            <a:xfrm>
              <a:off x="4448160" y="3666960"/>
              <a:ext cx="454824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18520" y="3689280"/>
              <a:ext cx="65160" cy="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430880" y="1289160"/>
            <a:ext cx="4645440" cy="4980240"/>
            <a:chOff x="4430880" y="1289160"/>
            <a:chExt cx="4645440" cy="4980240"/>
          </a:xfrm>
        </p:grpSpPr>
        <p:grpSp>
          <p:nvGrpSpPr>
            <p:cNvPr id="493" name=""/>
            <p:cNvGrpSpPr/>
            <p:nvPr/>
          </p:nvGrpSpPr>
          <p:grpSpPr>
            <a:xfrm>
              <a:off x="4430880" y="1289160"/>
              <a:ext cx="4645440" cy="4980240"/>
              <a:chOff x="4430880" y="1289160"/>
              <a:chExt cx="4645440" cy="4980240"/>
            </a:xfrm>
          </p:grpSpPr>
          <p:pic>
            <p:nvPicPr>
              <p:cNvPr id="494" name="_1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30880" y="1289160"/>
                <a:ext cx="4584960" cy="55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_2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30880" y="2006280"/>
                <a:ext cx="4593240" cy="37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f5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30880" y="2909520"/>
                <a:ext cx="4584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_8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30880" y="4421880"/>
                <a:ext cx="4593240" cy="370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8" name=""/>
              <p:cNvGrpSpPr/>
              <p:nvPr/>
            </p:nvGrpSpPr>
            <p:grpSpPr>
              <a:xfrm>
                <a:off x="4445280" y="5250600"/>
                <a:ext cx="4631040" cy="1018800"/>
                <a:chOff x="4445280" y="5250600"/>
                <a:chExt cx="4631040" cy="1018800"/>
              </a:xfrm>
            </p:grpSpPr>
            <p:pic>
              <p:nvPicPr>
                <p:cNvPr id="499" name="a1_b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4445280" y="5250600"/>
                  <a:ext cx="4631040" cy="101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0" name=""/>
                <p:cNvSpPr/>
                <p:nvPr/>
              </p:nvSpPr>
              <p:spPr>
                <a:xfrm>
                  <a:off x="8084520" y="5267880"/>
                  <a:ext cx="52200" cy="54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8511120" y="5355360"/>
                  <a:ext cx="52560" cy="54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4430880" y="3664800"/>
                <a:ext cx="4576680" cy="184320"/>
                <a:chOff x="4430880" y="3664800"/>
                <a:chExt cx="4576680" cy="184320"/>
              </a:xfrm>
            </p:grpSpPr>
            <p:pic>
              <p:nvPicPr>
                <p:cNvPr id="503" name="a6cor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4430880" y="3664800"/>
                  <a:ext cx="457668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4" name=""/>
                <p:cNvSpPr/>
                <p:nvPr/>
              </p:nvSpPr>
              <p:spPr>
                <a:xfrm>
                  <a:off x="8338320" y="3687120"/>
                  <a:ext cx="52560" cy="5400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5" name=""/>
            <p:cNvSpPr/>
            <p:nvPr/>
          </p:nvSpPr>
          <p:spPr>
            <a:xfrm>
              <a:off x="8091360" y="5267880"/>
              <a:ext cx="59040" cy="60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12920" y="5354280"/>
              <a:ext cx="60480" cy="6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449600" y="2552760"/>
            <a:ext cx="4692600" cy="3730320"/>
            <a:chOff x="4449600" y="2552760"/>
            <a:chExt cx="4692600" cy="3730320"/>
          </a:xfrm>
        </p:grpSpPr>
        <p:pic>
          <p:nvPicPr>
            <p:cNvPr id="508" name="f7m" descr=""/>
            <p:cNvPicPr/>
            <p:nvPr/>
          </p:nvPicPr>
          <p:blipFill>
            <a:blip r:embed="rId37"/>
            <a:stretch/>
          </p:blipFill>
          <p:spPr>
            <a:xfrm>
              <a:off x="4449600" y="4060800"/>
              <a:ext cx="4556160" cy="18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9" name=""/>
            <p:cNvGrpSpPr/>
            <p:nvPr/>
          </p:nvGrpSpPr>
          <p:grpSpPr>
            <a:xfrm>
              <a:off x="4456080" y="5243400"/>
              <a:ext cx="4686120" cy="1039680"/>
              <a:chOff x="4456080" y="5243400"/>
              <a:chExt cx="4686120" cy="1039680"/>
            </a:xfrm>
          </p:grpSpPr>
          <p:pic>
            <p:nvPicPr>
              <p:cNvPr id="510" name="f1m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56080" y="5243400"/>
                <a:ext cx="4686120" cy="10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8137800" y="5259240"/>
                <a:ext cx="59400" cy="61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567280" y="5346720"/>
                <a:ext cx="61200" cy="626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3" name="f9m" descr=""/>
            <p:cNvPicPr/>
            <p:nvPr/>
          </p:nvPicPr>
          <p:blipFill>
            <a:blip r:embed="rId39"/>
            <a:stretch/>
          </p:blipFill>
          <p:spPr>
            <a:xfrm>
              <a:off x="4457880" y="4964040"/>
              <a:ext cx="4541760" cy="1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f4m" descr=""/>
            <p:cNvPicPr/>
            <p:nvPr/>
          </p:nvPicPr>
          <p:blipFill>
            <a:blip r:embed="rId40"/>
            <a:stretch/>
          </p:blipFill>
          <p:spPr>
            <a:xfrm>
              <a:off x="4449600" y="2552760"/>
              <a:ext cx="45482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"/>
          <p:cNvSpPr/>
          <p:nvPr/>
        </p:nvSpPr>
        <p:spPr>
          <a:xfrm>
            <a:off x="4430880" y="1289160"/>
            <a:ext cx="0" cy="498132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90920" y="5219640"/>
            <a:ext cx="4238640" cy="108576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903920" y="5202360"/>
            <a:ext cx="2900160" cy="1655640"/>
            <a:chOff x="4903920" y="5202360"/>
            <a:chExt cx="2900160" cy="1655640"/>
          </a:xfrm>
        </p:grpSpPr>
        <p:pic>
          <p:nvPicPr>
            <p:cNvPr id="518" name="bien" descr=""/>
            <p:cNvPicPr/>
            <p:nvPr/>
          </p:nvPicPr>
          <p:blipFill>
            <a:blip r:embed="rId41"/>
            <a:stretch/>
          </p:blipFill>
          <p:spPr>
            <a:xfrm>
              <a:off x="4903920" y="5202360"/>
              <a:ext cx="29001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selec" descr=""/>
            <p:cNvPicPr/>
            <p:nvPr/>
          </p:nvPicPr>
          <p:blipFill>
            <a:blip r:embed="rId42"/>
            <a:stretch/>
          </p:blipFill>
          <p:spPr>
            <a:xfrm>
              <a:off x="7335720" y="5265720"/>
              <a:ext cx="34128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4743360" y="5962680"/>
            <a:ext cx="933480" cy="32400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83120" y="1044720"/>
            <a:ext cx="358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66"/>
                </a:solidFill>
                <a:latin typeface="Verdana"/>
              </a:rPr>
              <a:t>volet angl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312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88480" y="67428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Navigation textométrique :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étape 2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CE4-489E-401A-B54A-C9959A583E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561960" y="2187720"/>
            <a:ext cx="50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66cc"/>
                </a:solidFill>
                <a:latin typeface="Verdana"/>
              </a:rPr>
              <a:t>fonctionnaires</a:t>
            </a:r>
            <a:r>
              <a:rPr b="0" lang="fr-FR" sz="1600" spc="-1" strike="noStrike">
                <a:solidFill>
                  <a:srgbClr val="dddddd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4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14880" y="1806480"/>
            <a:ext cx="3771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officers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=10)</a:t>
            </a: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officials</a:t>
            </a:r>
            <a:r>
              <a:rPr b="1" lang="en-GB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= 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3300"/>
                </a:solidFill>
                <a:latin typeface="Verdana"/>
              </a:rPr>
              <a:t>servant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=3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14880" y="1874880"/>
            <a:ext cx="0" cy="100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38720" y="1854360"/>
            <a:ext cx="84240" cy="1022040"/>
          </a:xfrm>
          <a:custGeom>
            <a:avLst/>
            <a:gdLst>
              <a:gd name="textAreaLeft" fmla="*/ 0 w 84240"/>
              <a:gd name="textAreaRight" fmla="*/ 30240 w 84240"/>
              <a:gd name="textAreaTop" fmla="*/ 26640 h 1022040"/>
              <a:gd name="textAreaBottom" fmla="*/ 995400 h 102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22960" y="218772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a5_b" descr=""/>
          <p:cNvPicPr/>
          <p:nvPr/>
        </p:nvPicPr>
        <p:blipFill>
          <a:blip r:embed="rId1"/>
          <a:stretch/>
        </p:blipFill>
        <p:spPr>
          <a:xfrm>
            <a:off x="263520" y="461952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0" name="a4_b" descr=""/>
          <p:cNvPicPr/>
          <p:nvPr/>
        </p:nvPicPr>
        <p:blipFill>
          <a:blip r:embed="rId2"/>
          <a:stretch/>
        </p:blipFill>
        <p:spPr>
          <a:xfrm>
            <a:off x="263520" y="42591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31" name="a3_b" descr=""/>
          <p:cNvPicPr/>
          <p:nvPr/>
        </p:nvPicPr>
        <p:blipFill>
          <a:blip r:embed="rId3"/>
          <a:stretch/>
        </p:blipFill>
        <p:spPr>
          <a:xfrm>
            <a:off x="250920" y="371952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532" name="a2_b" descr=""/>
          <p:cNvPicPr/>
          <p:nvPr/>
        </p:nvPicPr>
        <p:blipFill>
          <a:blip r:embed="rId4"/>
          <a:stretch/>
        </p:blipFill>
        <p:spPr>
          <a:xfrm>
            <a:off x="263520" y="30002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3" name="a5" descr=""/>
          <p:cNvPicPr/>
          <p:nvPr/>
        </p:nvPicPr>
        <p:blipFill>
          <a:blip r:embed="rId5"/>
          <a:stretch/>
        </p:blipFill>
        <p:spPr>
          <a:xfrm>
            <a:off x="263520" y="461952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4" name="a3" descr=""/>
          <p:cNvPicPr/>
          <p:nvPr/>
        </p:nvPicPr>
        <p:blipFill>
          <a:blip r:embed="rId6"/>
          <a:stretch/>
        </p:blipFill>
        <p:spPr>
          <a:xfrm>
            <a:off x="263520" y="371952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535" name="a2" descr=""/>
          <p:cNvPicPr/>
          <p:nvPr/>
        </p:nvPicPr>
        <p:blipFill>
          <a:blip r:embed="rId7"/>
          <a:stretch/>
        </p:blipFill>
        <p:spPr>
          <a:xfrm>
            <a:off x="263520" y="30002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6" name="a3_b" descr=""/>
          <p:cNvPicPr/>
          <p:nvPr/>
        </p:nvPicPr>
        <p:blipFill>
          <a:blip r:embed="rId8"/>
          <a:stretch/>
        </p:blipFill>
        <p:spPr>
          <a:xfrm>
            <a:off x="4610160" y="37288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537" name="a2_b" descr=""/>
          <p:cNvPicPr/>
          <p:nvPr/>
        </p:nvPicPr>
        <p:blipFill>
          <a:blip r:embed="rId9"/>
          <a:stretch/>
        </p:blipFill>
        <p:spPr>
          <a:xfrm>
            <a:off x="4581360" y="30002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8" name="a5_b" descr=""/>
          <p:cNvPicPr/>
          <p:nvPr/>
        </p:nvPicPr>
        <p:blipFill>
          <a:blip r:embed="rId10"/>
          <a:stretch/>
        </p:blipFill>
        <p:spPr>
          <a:xfrm>
            <a:off x="4581360" y="461952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39" name="_1" descr=""/>
          <p:cNvPicPr/>
          <p:nvPr/>
        </p:nvPicPr>
        <p:blipFill>
          <a:blip r:embed="rId11"/>
          <a:stretch/>
        </p:blipFill>
        <p:spPr>
          <a:xfrm>
            <a:off x="4579920" y="30020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40" name="_2" descr=""/>
          <p:cNvPicPr/>
          <p:nvPr/>
        </p:nvPicPr>
        <p:blipFill>
          <a:blip r:embed="rId12"/>
          <a:stretch/>
        </p:blipFill>
        <p:spPr>
          <a:xfrm>
            <a:off x="4579920" y="3718080"/>
            <a:ext cx="4564080" cy="377640"/>
          </a:xfrm>
          <a:prstGeom prst="rect">
            <a:avLst/>
          </a:prstGeom>
          <a:ln w="0">
            <a:noFill/>
          </a:ln>
        </p:spPr>
      </p:pic>
      <p:pic>
        <p:nvPicPr>
          <p:cNvPr id="541" name="f5" descr=""/>
          <p:cNvPicPr/>
          <p:nvPr/>
        </p:nvPicPr>
        <p:blipFill>
          <a:blip r:embed="rId13"/>
          <a:stretch/>
        </p:blipFill>
        <p:spPr>
          <a:xfrm>
            <a:off x="4579920" y="461952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542" name="section" descr=""/>
          <p:cNvPicPr/>
          <p:nvPr/>
        </p:nvPicPr>
        <p:blipFill>
          <a:blip r:embed="rId14"/>
          <a:stretch/>
        </p:blipFill>
        <p:spPr>
          <a:xfrm>
            <a:off x="276120" y="5262480"/>
            <a:ext cx="4286520" cy="911160"/>
          </a:xfrm>
          <a:prstGeom prst="rect">
            <a:avLst/>
          </a:prstGeom>
          <a:ln w="0">
            <a:noFill/>
          </a:ln>
        </p:spPr>
      </p:pic>
      <p:pic>
        <p:nvPicPr>
          <p:cNvPr id="543" name="section" descr=""/>
          <p:cNvPicPr/>
          <p:nvPr/>
        </p:nvPicPr>
        <p:blipFill>
          <a:blip r:embed="rId15"/>
          <a:stretch/>
        </p:blipFill>
        <p:spPr>
          <a:xfrm>
            <a:off x="4581360" y="5262480"/>
            <a:ext cx="4286520" cy="911160"/>
          </a:xfrm>
          <a:prstGeom prst="rect">
            <a:avLst/>
          </a:prstGeom>
          <a:ln w="0">
            <a:noFill/>
          </a:ln>
        </p:spPr>
      </p:pic>
      <p:pic>
        <p:nvPicPr>
          <p:cNvPr id="544" name="a4" descr=""/>
          <p:cNvPicPr/>
          <p:nvPr/>
        </p:nvPicPr>
        <p:blipFill>
          <a:blip r:embed="rId16"/>
          <a:stretch/>
        </p:blipFill>
        <p:spPr>
          <a:xfrm>
            <a:off x="263520" y="42591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45" name="a4_b" descr=""/>
          <p:cNvPicPr/>
          <p:nvPr/>
        </p:nvPicPr>
        <p:blipFill>
          <a:blip r:embed="rId17"/>
          <a:stretch/>
        </p:blipFill>
        <p:spPr>
          <a:xfrm>
            <a:off x="4581360" y="4259160"/>
            <a:ext cx="4548240" cy="19044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546120" y="4259160"/>
            <a:ext cx="8583480" cy="1752480"/>
            <a:chOff x="546120" y="4259160"/>
            <a:chExt cx="8583480" cy="1752480"/>
          </a:xfrm>
        </p:grpSpPr>
        <p:grpSp>
          <p:nvGrpSpPr>
            <p:cNvPr id="547" name=""/>
            <p:cNvGrpSpPr/>
            <p:nvPr/>
          </p:nvGrpSpPr>
          <p:grpSpPr>
            <a:xfrm>
              <a:off x="546120" y="4259160"/>
              <a:ext cx="8583480" cy="1752480"/>
              <a:chOff x="546120" y="4259160"/>
              <a:chExt cx="8583480" cy="1752480"/>
            </a:xfrm>
          </p:grpSpPr>
          <p:pic>
            <p:nvPicPr>
              <p:cNvPr id="548" name="textFF" descr=""/>
              <p:cNvPicPr/>
              <p:nvPr/>
            </p:nvPicPr>
            <p:blipFill>
              <a:blip r:embed="rId18"/>
              <a:stretch/>
            </p:blipFill>
            <p:spPr>
              <a:xfrm>
                <a:off x="996840" y="5331960"/>
                <a:ext cx="3473640" cy="5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textA" descr=""/>
              <p:cNvPicPr/>
              <p:nvPr/>
            </p:nvPicPr>
            <p:blipFill>
              <a:blip r:embed="rId19"/>
              <a:stretch/>
            </p:blipFill>
            <p:spPr>
              <a:xfrm>
                <a:off x="5322960" y="5338440"/>
                <a:ext cx="3502080" cy="6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f4m" descr=""/>
              <p:cNvPicPr/>
              <p:nvPr/>
            </p:nvPicPr>
            <p:blipFill>
              <a:blip r:embed="rId20"/>
              <a:stretch/>
            </p:blipFill>
            <p:spPr>
              <a:xfrm>
                <a:off x="4581720" y="4259160"/>
                <a:ext cx="454788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546120" y="4368600"/>
                <a:ext cx="42840" cy="428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52" name="main" descr=""/>
            <p:cNvPicPr/>
            <p:nvPr/>
          </p:nvPicPr>
          <p:blipFill>
            <a:blip r:embed="rId21"/>
            <a:stretch/>
          </p:blipFill>
          <p:spPr>
            <a:xfrm>
              <a:off x="4665600" y="4357440"/>
              <a:ext cx="17640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"/>
          <p:cNvSpPr/>
          <p:nvPr/>
        </p:nvSpPr>
        <p:spPr>
          <a:xfrm>
            <a:off x="4857840" y="403056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62640" y="2995560"/>
            <a:ext cx="0" cy="2176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39280" y="3976560"/>
            <a:ext cx="4349880" cy="365040"/>
            <a:chOff x="539280" y="3976560"/>
            <a:chExt cx="4349880" cy="365040"/>
          </a:xfrm>
        </p:grpSpPr>
        <p:sp>
          <p:nvSpPr>
            <p:cNvPr id="556" name=""/>
            <p:cNvSpPr/>
            <p:nvPr/>
          </p:nvSpPr>
          <p:spPr>
            <a:xfrm flipH="1">
              <a:off x="539280" y="3985920"/>
              <a:ext cx="434988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558360" y="3976560"/>
              <a:ext cx="4318560" cy="365040"/>
              <a:chOff x="558360" y="3976560"/>
              <a:chExt cx="4318560" cy="365040"/>
            </a:xfrm>
          </p:grpSpPr>
          <p:sp>
            <p:nvSpPr>
              <p:cNvPr id="558" name=""/>
              <p:cNvSpPr/>
              <p:nvPr/>
            </p:nvSpPr>
            <p:spPr>
              <a:xfrm flipH="1">
                <a:off x="558360" y="3976560"/>
                <a:ext cx="3240" cy="32688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873680" y="3982680"/>
                <a:ext cx="3240" cy="35892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60" name="l3_petit" descr=""/>
          <p:cNvPicPr/>
          <p:nvPr/>
        </p:nvPicPr>
        <p:blipFill>
          <a:blip r:embed="rId22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pic>
        <p:nvPicPr>
          <p:cNvPr id="561" name="auf01" descr=""/>
          <p:cNvPicPr/>
          <p:nvPr/>
        </p:nvPicPr>
        <p:blipFill>
          <a:blip r:embed="rId23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280" y="1166400"/>
            <a:ext cx="816300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Navigation textométrique : 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analyse des résultat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B89-C893-4AE7-A50C-638A169AE9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80880" y="1866960"/>
            <a:ext cx="2819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gments répé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02120" y="2031840"/>
            <a:ext cx="2882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oupes de mots  (proximité séman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54680" y="2151000"/>
            <a:ext cx="3289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trons morpho-syntax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058868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41800" y="3238560"/>
            <a:ext cx="23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administr+ (administration, administrer, etc.)</a:t>
            </a:r>
            <a:r>
              <a:rPr b="0" lang="fr-F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8280" y="3301920"/>
            <a:ext cx="2577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requérant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fonction pu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5680" y="4838760"/>
            <a:ext cx="257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vil service</a:t>
            </a:r>
            <a:r>
              <a:rPr b="0" lang="fr-F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79600" y="480060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+</a:t>
            </a:r>
            <a:br>
              <a:rPr sz="2400"/>
            </a:b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administration, </a:t>
            </a:r>
            <a:r>
              <a:rPr b="0" i="1" lang="fr-C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ering,</a:t>
            </a:r>
            <a:r>
              <a:rPr b="0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etc.)</a:t>
            </a:r>
            <a:r>
              <a:rPr b="0" lang="fr-F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1549440" y="1562040"/>
            <a:ext cx="1612800" cy="58896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08480" y="1549440"/>
            <a:ext cx="0" cy="66528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72200" y="1523880"/>
            <a:ext cx="1371600" cy="652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14200" y="3579840"/>
            <a:ext cx="190440" cy="1507680"/>
            <a:chOff x="214200" y="3579840"/>
            <a:chExt cx="190440" cy="1507680"/>
          </a:xfrm>
        </p:grpSpPr>
        <p:sp>
          <p:nvSpPr>
            <p:cNvPr id="576" name=""/>
            <p:cNvSpPr/>
            <p:nvPr/>
          </p:nvSpPr>
          <p:spPr>
            <a:xfrm flipH="1">
              <a:off x="214200" y="357984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6800" y="359748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26800" y="50698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02960" y="4084560"/>
            <a:ext cx="300960" cy="1537560"/>
            <a:chOff x="102960" y="4084560"/>
            <a:chExt cx="300960" cy="1537560"/>
          </a:xfrm>
        </p:grpSpPr>
        <p:sp>
          <p:nvSpPr>
            <p:cNvPr id="580" name=""/>
            <p:cNvSpPr/>
            <p:nvPr/>
          </p:nvSpPr>
          <p:spPr>
            <a:xfrm flipH="1">
              <a:off x="102960" y="408456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3120" y="4102200"/>
              <a:ext cx="0" cy="15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22760" y="5604480"/>
              <a:ext cx="2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038400" y="3579840"/>
            <a:ext cx="259560" cy="1507680"/>
            <a:chOff x="3038400" y="3579840"/>
            <a:chExt cx="259560" cy="1507680"/>
          </a:xfrm>
        </p:grpSpPr>
        <p:sp>
          <p:nvSpPr>
            <p:cNvPr id="584" name=""/>
            <p:cNvSpPr/>
            <p:nvPr/>
          </p:nvSpPr>
          <p:spPr>
            <a:xfrm flipH="1">
              <a:off x="3038400" y="357984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55320" y="359748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055320" y="506988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854680" y="326232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Verbe au participe passé +Prép.+ Dét.+ Nom</a:t>
            </a:r>
            <a:r>
              <a:rPr b="0" i="1" lang="fr-FR" sz="16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81760" y="4800600"/>
            <a:ext cx="29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erb Past Participle</a:t>
            </a:r>
            <a:br>
              <a:rPr sz="2400"/>
            </a:b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Prep.+ Det.+ 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5724360" y="3527280"/>
            <a:ext cx="259560" cy="1508040"/>
            <a:chOff x="5724360" y="3527280"/>
            <a:chExt cx="259560" cy="1508040"/>
          </a:xfrm>
        </p:grpSpPr>
        <p:sp>
          <p:nvSpPr>
            <p:cNvPr id="590" name=""/>
            <p:cNvSpPr/>
            <p:nvPr/>
          </p:nvSpPr>
          <p:spPr>
            <a:xfrm flipH="1">
              <a:off x="5724360" y="352728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41280" y="354492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740920" y="501768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3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7160" y="673200"/>
            <a:ext cx="8572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Exemples d’unités textuelles :</a:t>
            </a:r>
            <a:br>
              <a:rPr sz="2400"/>
            </a:b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 Type généralisé (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Tgen</a:t>
            </a:r>
            <a:r>
              <a:rPr b="0" lang="fr-FR" sz="2400" spc="-1" strike="noStrike">
                <a:solidFill>
                  <a:srgbClr val="0033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CD6-6773-4332-A604-232E02F429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219320" y="2171880"/>
            <a:ext cx="6019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Lexico</a:t>
            </a:r>
            <a:r>
              <a:rPr b="1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66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i="1" lang="fr-FR" sz="2400" spc="-1" strike="noStrike">
                <a:solidFill>
                  <a:srgbClr val="ff3300"/>
                </a:solidFill>
                <a:latin typeface="Verdana"/>
              </a:rPr>
              <a:t>mkAl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52040" y="896760"/>
            <a:ext cx="81630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Outils disponibles : 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http://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tal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univ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5"/>
              </a:rPr>
              <a:t>-paris3.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6"/>
              </a:rPr>
              <a:t>fr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7"/>
              </a:rPr>
              <a:t>/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8"/>
              </a:rPr>
              <a:t>outils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9"/>
              </a:rPr>
              <a:t>-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0"/>
              </a:rPr>
              <a:t>tal</a:t>
            </a:r>
            <a:r>
              <a:rPr b="0" lang="en-GB" sz="1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1"/>
              </a:rPr>
              <a:t>-p3.html</a:t>
            </a:r>
            <a:r>
              <a:rPr b="1" lang="en-GB" sz="1600" spc="-1" strike="noStrike">
                <a:solidFill>
                  <a:srgbClr val="003366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98" name="L3XX" descr=""/>
          <p:cNvPicPr/>
          <p:nvPr/>
        </p:nvPicPr>
        <p:blipFill>
          <a:blip r:embed="rId12"/>
          <a:stretch/>
        </p:blipFill>
        <p:spPr>
          <a:xfrm>
            <a:off x="333360" y="674640"/>
            <a:ext cx="8810640" cy="6416640"/>
          </a:xfrm>
          <a:prstGeom prst="rect">
            <a:avLst/>
          </a:prstGeom>
          <a:ln w="0">
            <a:noFill/>
          </a:ln>
        </p:spPr>
      </p:pic>
      <p:grpSp>
        <p:nvGrpSpPr>
          <p:cNvPr id="599" name=""/>
          <p:cNvGrpSpPr/>
          <p:nvPr/>
        </p:nvGrpSpPr>
        <p:grpSpPr>
          <a:xfrm>
            <a:off x="263520" y="2963880"/>
            <a:ext cx="8651880" cy="2466000"/>
            <a:chOff x="263520" y="2963880"/>
            <a:chExt cx="8651880" cy="2466000"/>
          </a:xfrm>
        </p:grpSpPr>
        <p:sp>
          <p:nvSpPr>
            <p:cNvPr id="600" name=""/>
            <p:cNvSpPr/>
            <p:nvPr/>
          </p:nvSpPr>
          <p:spPr>
            <a:xfrm>
              <a:off x="263520" y="2963880"/>
              <a:ext cx="8651880" cy="246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4"/>
                </a:spcBef>
                <a:spcAft>
                  <a:spcPts val="1225"/>
                </a:spcAft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Exemple de contextes où les mots français commençant par la chaîne </a:t>
              </a:r>
              <a:r>
                <a:rPr b="1" i="1" lang="fr-FR" sz="1400" spc="-1" strike="noStrike">
                  <a:solidFill>
                    <a:srgbClr val="3366cc"/>
                  </a:solidFill>
                  <a:latin typeface="Verdana"/>
                  <a:ea typeface="Times New Roman"/>
                </a:rPr>
                <a:t>administr+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(administration, administrer, etc.)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ne sont pas traduits par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des mots anglais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	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mmençant par la chaîne </a:t>
              </a:r>
              <a:r>
                <a:rPr b="1" i="1" lang="fr-FR" sz="1400" spc="-1" strike="noStrike">
                  <a:solidFill>
                    <a:srgbClr val="ff3300"/>
                  </a:solidFill>
                  <a:latin typeface="Verdana"/>
                  <a:ea typeface="Times New Roman"/>
                </a:rPr>
                <a:t>administ</a:t>
              </a:r>
              <a:r>
                <a:rPr b="1" lang="fr-FR" sz="1400" spc="-1" strike="noStrike">
                  <a:solidFill>
                    <a:srgbClr val="ff3300"/>
                  </a:solidFill>
                  <a:latin typeface="Verdana"/>
                  <a:ea typeface="Times New Roman"/>
                </a:rPr>
                <a:t>+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(administration, </a:t>
              </a:r>
              <a:r>
                <a:rPr b="0" i="1" lang="fr-CA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dministering,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etc.)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l’</a:t>
              </a:r>
              <a:r>
                <a:rPr b="1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dministr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tion des douanes</a:t>
              </a: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en-GB" sz="1600" spc="-1" strike="noStrike">
                  <a:solidFill>
                    <a:srgbClr val="ff3300"/>
                  </a:solidFill>
                  <a:latin typeface="Verdana"/>
                  <a:ea typeface="Courier New"/>
                </a:rPr>
                <a:t>the custo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bonne </a:t>
              </a:r>
              <a:r>
                <a:rPr b="1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dministr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tion</a:t>
              </a: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en-GB" sz="1600" spc="-1" strike="noStrike">
                  <a:solidFill>
                    <a:srgbClr val="ff3300"/>
                  </a:solidFill>
                  <a:latin typeface="Verdana"/>
                  <a:ea typeface="Courier New"/>
                </a:rPr>
                <a:t>good gover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dépositions </a:t>
              </a:r>
              <a:r>
                <a:rPr b="1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dministr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tives</a:t>
              </a: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en-GB" sz="1600" spc="-1" strike="noStrike">
                  <a:solidFill>
                    <a:srgbClr val="ff3300"/>
                  </a:solidFill>
                  <a:latin typeface="Verdana"/>
                  <a:ea typeface="Courier New"/>
                </a:rPr>
                <a:t>procedural provi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recours </a:t>
              </a:r>
              <a:r>
                <a:rPr b="1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dministr</a:t>
              </a:r>
              <a:r>
                <a:rPr b="0" lang="fr-BE" sz="1600" spc="-1" strike="noStrike">
                  <a:solidFill>
                    <a:srgbClr val="3366cc"/>
                  </a:solidFill>
                  <a:latin typeface="Verdana"/>
                  <a:ea typeface="Courier New"/>
                </a:rPr>
                <a:t>atif</a:t>
              </a: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Courier New"/>
                </a:rPr>
                <a:t>	</a:t>
              </a:r>
              <a:r>
                <a:rPr b="0" lang="en-GB" sz="1600" spc="-1" strike="noStrike">
                  <a:solidFill>
                    <a:srgbClr val="ff3300"/>
                  </a:solidFill>
                  <a:latin typeface="Verdana"/>
                  <a:ea typeface="Courier New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380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13"/>
            <a:stretch/>
          </p:blipFill>
          <p:spPr>
            <a:xfrm>
              <a:off x="422280" y="3031920"/>
              <a:ext cx="235080" cy="24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"/>
          <p:cNvSpPr/>
          <p:nvPr/>
        </p:nvSpPr>
        <p:spPr>
          <a:xfrm>
            <a:off x="2971800" y="2508120"/>
            <a:ext cx="457200" cy="14616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38480" y="1790640"/>
            <a:ext cx="457200" cy="381240"/>
          </a:xfrm>
          <a:prstGeom prst="ellipse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auf01" descr=""/>
          <p:cNvPicPr/>
          <p:nvPr/>
        </p:nvPicPr>
        <p:blipFill>
          <a:blip r:embed="rId14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EBC-E0F8-4592-BEFA-B8FC8ABF03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71200" y="11642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kAlign (1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07" name="fra_rus" descr=""/>
          <p:cNvPicPr/>
          <p:nvPr/>
        </p:nvPicPr>
        <p:blipFill>
          <a:blip r:embed="rId1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grpSp>
        <p:nvGrpSpPr>
          <p:cNvPr id="608" name=""/>
          <p:cNvGrpSpPr/>
          <p:nvPr/>
        </p:nvGrpSpPr>
        <p:grpSpPr>
          <a:xfrm>
            <a:off x="220680" y="247680"/>
            <a:ext cx="8813880" cy="6610320"/>
            <a:chOff x="220680" y="247680"/>
            <a:chExt cx="8813880" cy="6610320"/>
          </a:xfrm>
        </p:grpSpPr>
        <p:pic>
          <p:nvPicPr>
            <p:cNvPr id="609" name="fra_rus2" descr=""/>
            <p:cNvPicPr/>
            <p:nvPr/>
          </p:nvPicPr>
          <p:blipFill>
            <a:blip r:embed="rId2"/>
            <a:stretch/>
          </p:blipFill>
          <p:spPr>
            <a:xfrm>
              <a:off x="220680" y="247680"/>
              <a:ext cx="8813880" cy="66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048120" y="18432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89560" y="18432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808080"/>
                  </a:solidFill>
                  <a:latin typeface="Arial Unicode MS"/>
                  <a:ea typeface="Arial Unicode MS"/>
                </a:rPr>
                <a:t>R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4F2-6A4C-4E51-9F49-3D36C40A2B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71200" y="11642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kAlign (2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13" name="fra_rus3" descr=""/>
          <p:cNvPicPr/>
          <p:nvPr/>
        </p:nvPicPr>
        <p:blipFill>
          <a:blip r:embed="rId1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pic>
        <p:nvPicPr>
          <p:cNvPr id="614" name="fra_rus4" descr=""/>
          <p:cNvPicPr/>
          <p:nvPr/>
        </p:nvPicPr>
        <p:blipFill>
          <a:blip r:embed="rId2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pic>
        <p:nvPicPr>
          <p:cNvPr id="615" name="fra_rusEND" descr=""/>
          <p:cNvPicPr/>
          <p:nvPr/>
        </p:nvPicPr>
        <p:blipFill>
          <a:blip r:embed="rId3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grpSp>
        <p:nvGrpSpPr>
          <p:cNvPr id="616" name=""/>
          <p:cNvGrpSpPr/>
          <p:nvPr/>
        </p:nvGrpSpPr>
        <p:grpSpPr>
          <a:xfrm>
            <a:off x="3124080" y="1471680"/>
            <a:ext cx="4228920" cy="152280"/>
            <a:chOff x="3124080" y="1471680"/>
            <a:chExt cx="4228920" cy="152280"/>
          </a:xfrm>
        </p:grpSpPr>
        <p:sp>
          <p:nvSpPr>
            <p:cNvPr id="617" name=""/>
            <p:cNvSpPr/>
            <p:nvPr/>
          </p:nvSpPr>
          <p:spPr>
            <a:xfrm>
              <a:off x="3124080" y="1471680"/>
              <a:ext cx="21672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36280" y="1471680"/>
              <a:ext cx="21672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971800" y="685800"/>
            <a:ext cx="2362320" cy="480960"/>
          </a:xfrm>
          <a:prstGeom prst="ellipse">
            <a:avLst/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323-CAA2-471F-B333-D1E5616583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1164240"/>
            <a:ext cx="7586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Pla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43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Verdana"/>
              </a:rPr>
              <a:t>I. Textométrie multiling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Un nouveau courant de recherches interdisciplinaire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elques utilisations pour l’analyse des corpus parallèles français/anglais/russe de la 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Convention de sauvegarde des Droits de l’Homm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99"/>
                </a:solidFill>
                <a:latin typeface="Verdana"/>
              </a:rPr>
              <a:t>II.</a:t>
            </a:r>
            <a:r>
              <a:rPr b="0" lang="fr-FR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336699"/>
                </a:solidFill>
                <a:latin typeface="Verdana"/>
              </a:rPr>
              <a:t>Approche topographique du bi-texte : </a:t>
            </a:r>
            <a:br>
              <a:rPr sz="2400"/>
            </a:br>
            <a:r>
              <a:rPr b="0" lang="fr-FR" sz="2400" spc="-1" strike="noStrike">
                <a:solidFill>
                  <a:srgbClr val="336699"/>
                </a:solidFill>
                <a:latin typeface="Verdana"/>
              </a:rPr>
              <a:t>  </a:t>
            </a:r>
            <a:r>
              <a:rPr b="0" lang="fr-FR" sz="2200" spc="-1" strike="noStrike">
                <a:solidFill>
                  <a:srgbClr val="336699"/>
                </a:solidFill>
                <a:latin typeface="Verdana"/>
              </a:rPr>
              <a:t>corpus </a:t>
            </a:r>
            <a:r>
              <a:rPr b="0" i="1" lang="fr-FR" sz="2200" spc="-1" strike="noStrike">
                <a:solidFill>
                  <a:srgbClr val="336699"/>
                </a:solidFill>
                <a:latin typeface="Verdana"/>
              </a:rPr>
              <a:t>Convention</a:t>
            </a:r>
            <a:r>
              <a:rPr b="0" lang="fr-FR" sz="2200" spc="-1" strike="noStrike">
                <a:solidFill>
                  <a:srgbClr val="336699"/>
                </a:solidFill>
                <a:latin typeface="Verdana"/>
              </a:rPr>
              <a:t> (français/anglai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avigation textométrique à l’aide de la carte des sections parallè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es outils en cours de développement :</a:t>
            </a:r>
            <a:br>
              <a:rPr sz="1800"/>
            </a:br>
            <a:r>
              <a:rPr b="1" i="1" lang="fr-FR" sz="18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Lexico</a:t>
            </a:r>
            <a:r>
              <a:rPr b="1" i="1" lang="fr-FR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ff3300"/>
                </a:solidFill>
                <a:latin typeface="Verdana"/>
              </a:rPr>
              <a:t>mkAlig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FD1-D547-4FEF-A36E-878DA605B0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71200" y="11642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kAlign (3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21" name="export" descr=""/>
          <p:cNvPicPr/>
          <p:nvPr/>
        </p:nvPicPr>
        <p:blipFill>
          <a:blip r:embed="rId1"/>
          <a:stretch/>
        </p:blipFill>
        <p:spPr>
          <a:xfrm>
            <a:off x="220680" y="247680"/>
            <a:ext cx="8813880" cy="661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75B-954E-4827-A552-1BCF5E9442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1017720" y="1828800"/>
            <a:ext cx="7135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L’approche quantitative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 permet d’extraire semi automatiquement et sans faire appel à des savoirs</a:t>
            </a:r>
            <a:br>
              <a:rPr sz="1800"/>
            </a:br>
            <a:r>
              <a:rPr b="0" i="1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a priori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, des correspondances traductionnelles à partir de corpus parallè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SzPct val="14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Appuyée sur la </a:t>
            </a: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représentation topographique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  <a:ea typeface="Times New Roman"/>
              </a:rPr>
              <a:t> de corpus pluritextuels, cette approche permet d’explorer les </a:t>
            </a: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variations contextuelles des tradu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Verdana"/>
                <a:ea typeface="Times New Roman"/>
              </a:rPr>
              <a:t>Certaines fonctionnalités de l’analyse textométrique multilingue sont déjà intégrées aux logiciels</a:t>
            </a: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 </a:t>
            </a:r>
            <a:r>
              <a:rPr b="1" i="1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Lexico</a:t>
            </a:r>
            <a:r>
              <a:rPr b="1" i="1" lang="fr-FR" sz="1800" spc="-1" strike="noStrike">
                <a:solidFill>
                  <a:srgbClr val="ff3300"/>
                </a:solidFill>
                <a:latin typeface="Verdana"/>
                <a:ea typeface="Times New Roman"/>
              </a:rPr>
              <a:t>3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fr-FR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i="1" lang="fr-FR" sz="1800" spc="-1" strike="noStrike">
                <a:solidFill>
                  <a:srgbClr val="ff3300"/>
                </a:solidFill>
                <a:latin typeface="Verdana"/>
              </a:rPr>
              <a:t>mkAlign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3366cc"/>
                </a:solidFill>
                <a:latin typeface="Verdana"/>
                <a:ea typeface="Times New Roman"/>
              </a:rPr>
              <a:t>	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http://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tal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univ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5"/>
              </a:rPr>
              <a:t>-paris3.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6"/>
              </a:rPr>
              <a:t>fr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7"/>
              </a:rPr>
              <a:t>/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8"/>
              </a:rPr>
              <a:t>outils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9"/>
              </a:rPr>
              <a:t>-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0"/>
              </a:rPr>
              <a:t>tal</a:t>
            </a:r>
            <a:r>
              <a:rPr b="0" lang="en-GB" sz="16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1"/>
              </a:rPr>
              <a:t>-p3.html</a:t>
            </a:r>
            <a:r>
              <a:rPr b="1" lang="en-GB" sz="1600" spc="-1" strike="noStrike">
                <a:solidFill>
                  <a:srgbClr val="3366cc"/>
                </a:solidFill>
                <a:latin typeface="Verdana"/>
              </a:rPr>
              <a:t> </a:t>
            </a:r>
            <a:br>
              <a:rPr sz="1600"/>
            </a:br>
            <a:r>
              <a:rPr b="0" lang="fr-FR" sz="1800" spc="-1" strike="noStrike">
                <a:solidFill>
                  <a:srgbClr val="3366cc"/>
                </a:solidFill>
                <a:latin typeface="Verdan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3366"/>
                </a:solidFill>
                <a:latin typeface="Verdana"/>
                <a:ea typeface="Times New Roman"/>
              </a:rPr>
              <a:t>(les nouvelles versions sont en cours de prépa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71200" y="11642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624" name="auf01" descr=""/>
          <p:cNvPicPr/>
          <p:nvPr/>
        </p:nvPicPr>
        <p:blipFill>
          <a:blip r:embed="rId12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1B8-B9A9-487E-B556-DBC9C21C79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238560" y="2116080"/>
            <a:ext cx="5410080" cy="3905280"/>
            <a:chOff x="3238560" y="2116080"/>
            <a:chExt cx="5410080" cy="3905280"/>
          </a:xfrm>
        </p:grpSpPr>
        <p:sp>
          <p:nvSpPr>
            <p:cNvPr id="220" name=""/>
            <p:cNvSpPr/>
            <p:nvPr/>
          </p:nvSpPr>
          <p:spPr>
            <a:xfrm>
              <a:off x="3238560" y="2116080"/>
              <a:ext cx="5410080" cy="3905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3600" y="4853160"/>
              <a:ext cx="41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3366"/>
                  </a:solidFill>
                  <a:latin typeface="Arial Unicode MS"/>
                  <a:ea typeface="Arial Unicode MS"/>
                </a:rPr>
                <a:t>TRAITEMENT AUTOMATIQUE</a:t>
              </a:r>
              <a:br>
                <a:rPr sz="1800"/>
              </a:br>
              <a:r>
                <a:rPr b="0" i="1" lang="fr-FR" sz="1800" spc="-1" strike="noStrike">
                  <a:solidFill>
                    <a:srgbClr val="003366"/>
                  </a:solidFill>
                  <a:latin typeface="Arial Unicode MS"/>
                  <a:ea typeface="Arial Unicode MS"/>
                </a:rPr>
                <a:t>DE CORPUS MULTILING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092240" y="2503440"/>
            <a:ext cx="3911400" cy="2616120"/>
            <a:chOff x="1092240" y="2503440"/>
            <a:chExt cx="3911400" cy="2616120"/>
          </a:xfrm>
        </p:grpSpPr>
        <p:sp>
          <p:nvSpPr>
            <p:cNvPr id="223" name=""/>
            <p:cNvSpPr/>
            <p:nvPr/>
          </p:nvSpPr>
          <p:spPr>
            <a:xfrm>
              <a:off x="1092240" y="2503440"/>
              <a:ext cx="3911400" cy="261612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55600" y="3621240"/>
              <a:ext cx="2273040" cy="3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3366"/>
                  </a:solidFill>
                  <a:latin typeface="Arial Unicode MS"/>
                  <a:ea typeface="Arial Unicode MS"/>
                </a:rPr>
                <a:t>TEXTOMÉTR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200400" y="1233360"/>
            <a:ext cx="5155920" cy="2742840"/>
            <a:chOff x="3200400" y="1233360"/>
            <a:chExt cx="5155920" cy="2742840"/>
          </a:xfrm>
        </p:grpSpPr>
        <p:sp>
          <p:nvSpPr>
            <p:cNvPr id="226" name=""/>
            <p:cNvSpPr/>
            <p:nvPr/>
          </p:nvSpPr>
          <p:spPr>
            <a:xfrm>
              <a:off x="3200400" y="1233360"/>
              <a:ext cx="5155920" cy="274284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0800" y="1719720"/>
              <a:ext cx="3600000" cy="368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3366"/>
                  </a:solidFill>
                  <a:latin typeface="Arial Unicode MS"/>
                  <a:ea typeface="Arial Unicode MS"/>
                </a:rPr>
                <a:t>TRADUCTOLOG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301920" y="2732040"/>
            <a:ext cx="4381560" cy="2120760"/>
            <a:chOff x="3301920" y="2732040"/>
            <a:chExt cx="4381560" cy="2120760"/>
          </a:xfrm>
        </p:grpSpPr>
        <p:sp>
          <p:nvSpPr>
            <p:cNvPr id="229" name=""/>
            <p:cNvSpPr/>
            <p:nvPr/>
          </p:nvSpPr>
          <p:spPr>
            <a:xfrm>
              <a:off x="3301920" y="2732040"/>
              <a:ext cx="4381560" cy="212076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17920" y="4039920"/>
              <a:ext cx="38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Ingénierie multilin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492360" y="3075120"/>
            <a:ext cx="2502000" cy="901440"/>
            <a:chOff x="3492360" y="3075120"/>
            <a:chExt cx="2502000" cy="901440"/>
          </a:xfrm>
        </p:grpSpPr>
        <p:sp>
          <p:nvSpPr>
            <p:cNvPr id="232" name=""/>
            <p:cNvSpPr/>
            <p:nvPr/>
          </p:nvSpPr>
          <p:spPr>
            <a:xfrm>
              <a:off x="3504960" y="3075120"/>
              <a:ext cx="2463840" cy="901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2360" y="3315960"/>
              <a:ext cx="25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Alignement automati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06560" y="2287440"/>
            <a:ext cx="2895480" cy="1346040"/>
            <a:chOff x="2806560" y="2287440"/>
            <a:chExt cx="2895480" cy="1346040"/>
          </a:xfrm>
        </p:grpSpPr>
        <p:sp>
          <p:nvSpPr>
            <p:cNvPr id="235" name=""/>
            <p:cNvSpPr/>
            <p:nvPr/>
          </p:nvSpPr>
          <p:spPr>
            <a:xfrm>
              <a:off x="2806560" y="2287440"/>
              <a:ext cx="2895480" cy="1346040"/>
            </a:xfrm>
            <a:prstGeom prst="ellipse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7760" y="2477880"/>
              <a:ext cx="25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Extraction de ressources traductionnel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rot="12511800">
            <a:off x="2658960" y="2660760"/>
            <a:ext cx="2324160" cy="2008080"/>
          </a:xfrm>
          <a:prstGeom prst="ellipse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1719360"/>
            <a:ext cx="1900440" cy="1914480"/>
          </a:xfrm>
          <a:prstGeom prst="line">
            <a:avLst/>
          </a:prstGeom>
          <a:ln w="38160">
            <a:solidFill>
              <a:srgbClr val="00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819000"/>
            <a:ext cx="44197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Textométrie</a:t>
            </a:r>
            <a:br>
              <a:rPr sz="2400"/>
            </a:b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multilingue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822240"/>
            <a:ext cx="69343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Verdana"/>
                <a:ea typeface="Times New Roman"/>
              </a:rPr>
              <a:t>	</a:t>
            </a:r>
            <a:r>
              <a:rPr b="0" lang="fr-FR" sz="12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http://www.cavi.univ-paris3.fr/lexicometrica/jadt/textometrie-multilingu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463-BB8D-4DFB-A3DC-A9065811E6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100404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Exemple : 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2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912960" y="1905120"/>
          <a:ext cx="8110440" cy="4230720"/>
        </p:xfrm>
        <a:graphic>
          <a:graphicData uri="http://schemas.openxmlformats.org/drawingml/2006/table">
            <a:tbl>
              <a:tblPr/>
              <a:tblGrid>
                <a:gridCol w="2027160"/>
                <a:gridCol w="2028600"/>
                <a:gridCol w="2027520"/>
                <a:gridCol w="20271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3366cc"/>
                          </a:solidFill>
                          <a:latin typeface="Verdana"/>
                        </a:rPr>
                        <a:t>Franç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Angl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u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traduction non  officiel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ntion de sauvegarde des Droits de l’Ho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5 688</a:t>
                      </a:r>
                      <a:r>
                        <a:rPr b="1" lang="fr-FR" sz="1600" spc="-1" strike="noStrike">
                          <a:solidFill>
                            <a:srgbClr val="3366cc"/>
                          </a:solidFill>
                          <a:latin typeface="Verdana"/>
                        </a:rPr>
                        <a:t>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5 375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 422</a:t>
                      </a: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c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itionn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5 411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5 185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 066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rêts de la Cour des Droits de l’Ho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281 459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274 475 o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en cours de co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 et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12960" y="1905120"/>
            <a:ext cx="8110440" cy="4787640"/>
            <a:chOff x="912960" y="1905120"/>
            <a:chExt cx="8110440" cy="4787640"/>
          </a:xfrm>
        </p:grpSpPr>
        <p:sp>
          <p:nvSpPr>
            <p:cNvPr id="246" name=""/>
            <p:cNvSpPr/>
            <p:nvPr/>
          </p:nvSpPr>
          <p:spPr>
            <a:xfrm>
              <a:off x="912960" y="1905120"/>
              <a:ext cx="8110440" cy="3182760"/>
            </a:xfrm>
            <a:prstGeom prst="rect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2960" y="6324480"/>
              <a:ext cx="175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99ff33"/>
                  </a:solidFill>
                  <a:latin typeface="Arial Unicode MS"/>
                  <a:ea typeface="Arial Unicode MS"/>
                </a:rPr>
                <a:t>Partie 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912960" y="1905120"/>
            <a:ext cx="6083280" cy="5061960"/>
            <a:chOff x="912960" y="1905120"/>
            <a:chExt cx="6083280" cy="5061960"/>
          </a:xfrm>
        </p:grpSpPr>
        <p:sp>
          <p:nvSpPr>
            <p:cNvPr id="249" name=""/>
            <p:cNvSpPr/>
            <p:nvPr/>
          </p:nvSpPr>
          <p:spPr>
            <a:xfrm>
              <a:off x="912960" y="1905120"/>
              <a:ext cx="6083280" cy="423072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6880" y="632448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66cc"/>
                  </a:solidFill>
                  <a:latin typeface="Arial Unicode MS"/>
                  <a:ea typeface="Arial Unicode MS"/>
                </a:rPr>
                <a:t>Partie 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248520" y="63244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8256600" y="6324480"/>
            <a:ext cx="277920" cy="268560"/>
          </a:xfrm>
          <a:custGeom>
            <a:avLst/>
            <a:gdLst>
              <a:gd name="textAreaLeft" fmla="*/ 17280 w 277920"/>
              <a:gd name="textAreaRight" fmla="*/ 260640 w 277920"/>
              <a:gd name="textAreaTop" fmla="*/ 17280 h 268560"/>
              <a:gd name="textAreaBottom" fmla="*/ 251280 h 268560"/>
            </a:gdLst>
            <a:ahLst/>
            <a:rect l="textAreaLeft" t="textAreaTop" r="textAreaRight" b="textAreaBottom"/>
            <a:pathLst>
              <a:path w="22352" h="21600">
                <a:moveTo>
                  <a:pt x="0" y="0"/>
                </a:moveTo>
                <a:lnTo>
                  <a:pt x="22352" y="0"/>
                </a:lnTo>
                <a:lnTo>
                  <a:pt x="22352" y="21600"/>
                </a:lnTo>
                <a:lnTo>
                  <a:pt x="0" y="21600"/>
                </a:lnTo>
                <a:close/>
              </a:path>
              <a:path fill="lightenLess" w="22352" h="21600">
                <a:moveTo>
                  <a:pt x="0" y="0"/>
                </a:moveTo>
                <a:lnTo>
                  <a:pt x="22352" y="0"/>
                </a:lnTo>
                <a:lnTo>
                  <a:pt x="20952" y="1400"/>
                </a:lnTo>
                <a:lnTo>
                  <a:pt x="1400" y="1400"/>
                </a:lnTo>
                <a:close/>
              </a:path>
              <a:path fill="darken" w="22352" h="21600">
                <a:moveTo>
                  <a:pt x="22352" y="0"/>
                </a:moveTo>
                <a:lnTo>
                  <a:pt x="22352" y="21600"/>
                </a:lnTo>
                <a:lnTo>
                  <a:pt x="20952" y="20200"/>
                </a:lnTo>
                <a:lnTo>
                  <a:pt x="20952" y="1400"/>
                </a:lnTo>
                <a:close/>
              </a:path>
              <a:path fill="darkenLess" w="22352" h="21600">
                <a:moveTo>
                  <a:pt x="2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52" y="20200"/>
                </a:lnTo>
                <a:close/>
              </a:path>
              <a:path fill="lighten" w="2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52" h="21600">
                <a:moveTo>
                  <a:pt x="14675" y="10800"/>
                </a:moveTo>
                <a:lnTo>
                  <a:pt x="4169" y="17806"/>
                </a:lnTo>
                <a:lnTo>
                  <a:pt x="4169" y="3794"/>
                </a:lnTo>
                <a:close/>
              </a:path>
              <a:path fill="darken" w="22352" h="21600">
                <a:moveTo>
                  <a:pt x="16520" y="3794"/>
                </a:moveTo>
                <a:lnTo>
                  <a:pt x="16520" y="17806"/>
                </a:lnTo>
                <a:lnTo>
                  <a:pt x="18182" y="17806"/>
                </a:lnTo>
                <a:lnTo>
                  <a:pt x="18182" y="379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66960" y="1447920"/>
            <a:ext cx="609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ource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ureau des Traités sur 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conventions.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coe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.</a:t>
            </a:r>
            <a:r>
              <a:rPr b="0" lang="fr-FR" sz="1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AEB7-6087-4BC7-8F2F-A18DF037DD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38080" y="181296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Principales caractéristique lexicométr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039680"/>
            <a:ext cx="816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emière approche quantitative (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23922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Liste de caractères-délimiteurs :</a:t>
            </a:r>
            <a:r>
              <a:rPr b="0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.,:;!?/_\"'( )[ ]{}§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838080" y="3048120"/>
          <a:ext cx="7696440" cy="2724120"/>
        </p:xfrm>
        <a:graphic>
          <a:graphicData uri="http://schemas.openxmlformats.org/drawingml/2006/table">
            <a:tbl>
              <a:tblPr/>
              <a:tblGrid>
                <a:gridCol w="1121040"/>
                <a:gridCol w="1563480"/>
                <a:gridCol w="1201680"/>
                <a:gridCol w="1143000"/>
                <a:gridCol w="1447920"/>
                <a:gridCol w="121932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ccur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p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eq 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franç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11 0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1 4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i="1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fr-FR" sz="1800" spc="-1" strike="noStrike">
                          <a:solidFill>
                            <a:srgbClr val="3366cc"/>
                          </a:solidFill>
                          <a:latin typeface="Verdana"/>
                          <a:ea typeface="Times New Roman"/>
                        </a:rPr>
                        <a:t>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angl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10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1 2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5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1 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ru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 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 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 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9DE-C2D1-40FD-889A-AB2A75CC87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3808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Dictionnaires des formes graphiques (extra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1039680"/>
            <a:ext cx="816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"/>
          <p:cNvGraphicFramePr/>
          <p:nvPr/>
        </p:nvGraphicFramePr>
        <p:xfrm>
          <a:off x="966960" y="2286000"/>
          <a:ext cx="7034040" cy="3760560"/>
        </p:xfrm>
        <a:graphic>
          <a:graphicData uri="http://schemas.openxmlformats.org/drawingml/2006/table">
            <a:tbl>
              <a:tblPr/>
              <a:tblGrid>
                <a:gridCol w="1319040"/>
                <a:gridCol w="839880"/>
                <a:gridCol w="1369800"/>
                <a:gridCol w="789120"/>
                <a:gridCol w="1473120"/>
                <a:gridCol w="1243080"/>
              </a:tblGrid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3366cc"/>
                          </a:solidFill>
                          <a:latin typeface="Times New Roman"/>
                          <a:ea typeface="Times New Roman"/>
                        </a:rPr>
                        <a:t>franç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ngl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ru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е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ë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n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венц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венции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вен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венцией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      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х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    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253280" y="2854440"/>
            <a:ext cx="76320" cy="822240"/>
          </a:xfrm>
          <a:custGeom>
            <a:avLst/>
            <a:gdLst>
              <a:gd name="textAreaLeft" fmla="*/ 0 w 76320"/>
              <a:gd name="textAreaRight" fmla="*/ 27360 w 76320"/>
              <a:gd name="textAreaTop" fmla="*/ 21240 h 822240"/>
              <a:gd name="textAreaBottom" fmla="*/ 8010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53280" y="3832200"/>
            <a:ext cx="114480" cy="885960"/>
          </a:xfrm>
          <a:custGeom>
            <a:avLst/>
            <a:gdLst>
              <a:gd name="textAreaLeft" fmla="*/ 0 w 114480"/>
              <a:gd name="textAreaRight" fmla="*/ 41400 w 114480"/>
              <a:gd name="textAreaTop" fmla="*/ 23040 h 885960"/>
              <a:gd name="textAreaBottom" fmla="*/ 862920 h 8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53280" y="4789440"/>
            <a:ext cx="152280" cy="1150920"/>
          </a:xfrm>
          <a:custGeom>
            <a:avLst/>
            <a:gdLst>
              <a:gd name="textAreaLeft" fmla="*/ 0 w 152280"/>
              <a:gd name="textAreaRight" fmla="*/ 55080 w 152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emière approche quantitative (i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FA0-F6E5-4E13-AFED-56687F41A6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90720" y="3832200"/>
            <a:ext cx="7772400" cy="1879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 juge élu au titre d'un état partie au litige </a:t>
            </a:r>
            <a:r>
              <a:rPr b="1" i="1" lang="fr-FR" sz="1600" spc="-1" strike="noStrike">
                <a:solidFill>
                  <a:srgbClr val="3366cc"/>
                </a:solidFill>
                <a:latin typeface="Courier New"/>
                <a:ea typeface="Courier New"/>
              </a:rPr>
              <a:t>est membre de </a:t>
            </a:r>
            <a:r>
              <a:rPr b="1" i="1" lang="fr-FR" sz="1600" spc="-1" strike="noStrike" u="sng">
                <a:solidFill>
                  <a:srgbClr val="3366cc"/>
                </a:solidFill>
                <a:uFillTx/>
                <a:latin typeface="Courier New"/>
                <a:ea typeface="Courier New"/>
              </a:rPr>
              <a:t>droit</a:t>
            </a:r>
            <a:r>
              <a:rPr b="1" i="1" lang="fr-FR" sz="1600" spc="-1" strike="noStrike">
                <a:solidFill>
                  <a:srgbClr val="3366cc"/>
                </a:solidFill>
                <a:latin typeface="Courier New"/>
                <a:ea typeface="Courier New"/>
              </a:rPr>
              <a:t> de la chambre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…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re shall </a:t>
            </a:r>
            <a:r>
              <a:rPr b="1" i="1" lang="en-GB" sz="1600" spc="-1" strike="noStrike">
                <a:solidFill>
                  <a:srgbClr val="ff3300"/>
                </a:solidFill>
                <a:latin typeface="Courier New"/>
                <a:ea typeface="Courier New"/>
              </a:rPr>
              <a:t>sit as an ex officio member of the chamber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/…/ the judge elected in respect of the state party concerned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…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Судья, избранный от государства, являющегося стороной в деле, </a:t>
            </a:r>
            <a:r>
              <a:rPr b="1" i="1" lang="fr-FR" sz="1600" spc="-1" strike="noStrike">
                <a:solidFill>
                  <a:srgbClr val="808080"/>
                </a:solidFill>
                <a:latin typeface="Courier New"/>
                <a:ea typeface="Courier New"/>
              </a:rPr>
              <a:t>является ex - officio членом палаты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…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85800" y="1752480"/>
            <a:ext cx="7924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 </a:t>
            </a: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Limites des comparaisons des fréquences totales des m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28600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droit (</a:t>
            </a:r>
            <a:r>
              <a:rPr b="1" i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F </a:t>
            </a:r>
            <a:r>
              <a:rPr b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= 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right (</a:t>
            </a:r>
            <a:r>
              <a:rPr b="1" i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F </a:t>
            </a:r>
            <a:r>
              <a:rPr b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=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право [права, праву, правом, </a:t>
            </a:r>
            <a:r>
              <a:rPr b="1" lang="ru-RU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праве</a:t>
            </a:r>
            <a:r>
              <a:rPr b="1" lang="fr-FR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] (</a:t>
            </a:r>
            <a:r>
              <a:rPr b="1" i="1" lang="fr-FR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F </a:t>
            </a:r>
            <a:r>
              <a:rPr b="1" lang="fr-FR" sz="1800" spc="-1" strike="noStrike">
                <a:solidFill>
                  <a:srgbClr val="808080"/>
                </a:solidFill>
                <a:latin typeface="Verdana"/>
                <a:ea typeface="Times New Roman"/>
              </a:rPr>
              <a:t>= 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80880" y="3890880"/>
            <a:ext cx="609840" cy="1647720"/>
            <a:chOff x="380880" y="3890880"/>
            <a:chExt cx="609840" cy="1647720"/>
          </a:xfrm>
        </p:grpSpPr>
        <p:sp>
          <p:nvSpPr>
            <p:cNvPr id="275" name=""/>
            <p:cNvSpPr/>
            <p:nvPr/>
          </p:nvSpPr>
          <p:spPr>
            <a:xfrm>
              <a:off x="380880" y="3890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3366cc"/>
                  </a:solidFill>
                  <a:latin typeface="Arial Unicode MS"/>
                  <a:ea typeface="Arial Unicode MS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453384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0880" y="5170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808080"/>
                  </a:solidFill>
                  <a:latin typeface="Arial Unicode MS"/>
                  <a:ea typeface="Arial Unicode MS"/>
                </a:rPr>
                <a:t>R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emière approche quantitative (ii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3832200"/>
            <a:ext cx="7772400" cy="1929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rrêtée ou détenue /…/ </a:t>
            </a:r>
            <a:r>
              <a:rPr b="1" i="1" lang="fr-FR" sz="1600" spc="-1" strike="noStrike">
                <a:solidFill>
                  <a:srgbClr val="3366cc"/>
                </a:solidFill>
                <a:latin typeface="Courier New"/>
                <a:ea typeface="Courier New"/>
              </a:rPr>
              <a:t>a le </a:t>
            </a:r>
            <a:r>
              <a:rPr b="1" i="1" lang="fr-FR" sz="1600" spc="-1" strike="noStrike" u="sng">
                <a:solidFill>
                  <a:srgbClr val="3366cc"/>
                </a:solidFill>
                <a:uFillTx/>
                <a:latin typeface="Courier New"/>
                <a:ea typeface="Courier New"/>
              </a:rPr>
              <a:t>droit</a:t>
            </a:r>
            <a:r>
              <a:rPr b="1" i="1" lang="fr-FR" sz="1600" spc="-1" strike="noStrike">
                <a:solidFill>
                  <a:srgbClr val="3366cc"/>
                </a:solidFill>
                <a:latin typeface="Courier New"/>
                <a:ea typeface="Courier New"/>
              </a:rPr>
              <a:t> d'être jugé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dans un délai raisonnable, ou libérée pendant la procéd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arrested or detained /…/ </a:t>
            </a:r>
            <a:r>
              <a:rPr b="1" i="1" lang="en-GB" sz="1600" spc="-1" strike="noStrike">
                <a:solidFill>
                  <a:srgbClr val="ff3300"/>
                </a:solidFill>
                <a:latin typeface="Courier New"/>
                <a:ea typeface="Courier New"/>
              </a:rPr>
              <a:t>shall be entitled to tria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ithin a reasonable time or to release pending tr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задержанный или заключенный под стражу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…/ </a:t>
            </a:r>
            <a:r>
              <a:rPr b="1" i="1" lang="ru-RU" sz="1600" spc="-1" strike="noStrike">
                <a:solidFill>
                  <a:srgbClr val="808080"/>
                </a:solidFill>
                <a:latin typeface="Courier New"/>
                <a:ea typeface="Courier New"/>
              </a:rPr>
              <a:t>имеет </a:t>
            </a:r>
            <a:r>
              <a:rPr b="1" i="1" lang="ru-RU" sz="1600" spc="-1" strike="noStrike" u="sng">
                <a:solidFill>
                  <a:srgbClr val="808080"/>
                </a:solidFill>
                <a:uFillTx/>
                <a:latin typeface="Courier New"/>
                <a:ea typeface="Courier New"/>
              </a:rPr>
              <a:t>право</a:t>
            </a:r>
            <a:r>
              <a:rPr b="1" i="1" lang="ru-RU" sz="1600" spc="-1" strike="noStrike">
                <a:solidFill>
                  <a:srgbClr val="808080"/>
                </a:solidFill>
                <a:latin typeface="Courier New"/>
                <a:ea typeface="Courier New"/>
              </a:rPr>
              <a:t> на судебное разбирательство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в течение разумного срока или на освобождение до суда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465-0A56-459D-B727-1A65A5CBFD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838080" y="2743200"/>
          <a:ext cx="7772400" cy="34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77240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auf01" descr=""/>
          <p:cNvPicPr/>
          <p:nvPr/>
        </p:nvPicPr>
        <p:blipFill>
          <a:blip r:embed="rId3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3808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Segments répétés (F &gt;=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atique des segments répétés (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600120" y="2376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66cc"/>
                </a:solidFill>
                <a:latin typeface="Arial Unicode MS"/>
                <a:ea typeface="Arial Unicode MS"/>
              </a:rPr>
              <a:t>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2376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18280" y="23763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126960" y="3048120"/>
            <a:ext cx="3198960" cy="2133360"/>
            <a:chOff x="3126960" y="3048120"/>
            <a:chExt cx="3198960" cy="2133360"/>
          </a:xfrm>
        </p:grpSpPr>
        <p:grpSp>
          <p:nvGrpSpPr>
            <p:cNvPr id="291" name=""/>
            <p:cNvGrpSpPr/>
            <p:nvPr/>
          </p:nvGrpSpPr>
          <p:grpSpPr>
            <a:xfrm>
              <a:off x="5945040" y="3048120"/>
              <a:ext cx="380880" cy="990360"/>
              <a:chOff x="5945040" y="3048120"/>
              <a:chExt cx="380880" cy="990360"/>
            </a:xfrm>
          </p:grpSpPr>
          <p:sp>
            <p:nvSpPr>
              <p:cNvPr id="292" name=""/>
              <p:cNvSpPr/>
              <p:nvPr/>
            </p:nvSpPr>
            <p:spPr>
              <a:xfrm>
                <a:off x="5945040" y="3048120"/>
                <a:ext cx="380880" cy="0"/>
              </a:xfrm>
              <a:prstGeom prst="line">
                <a:avLst/>
              </a:prstGeom>
              <a:ln w="28440">
                <a:solidFill>
                  <a:srgbClr val="99ff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945040" y="3886200"/>
                <a:ext cx="380880" cy="152280"/>
              </a:xfrm>
              <a:prstGeom prst="line">
                <a:avLst/>
              </a:prstGeom>
              <a:ln w="28440">
                <a:solidFill>
                  <a:srgbClr val="99ff33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3127320" y="3048120"/>
              <a:ext cx="38088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7320" y="3238560"/>
              <a:ext cx="380880" cy="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127320" y="4038480"/>
              <a:ext cx="398520" cy="990720"/>
            </a:xfrm>
            <a:prstGeom prst="line">
              <a:avLst/>
            </a:prstGeom>
            <a:ln w="28440">
              <a:solidFill>
                <a:srgbClr val="99ff33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126960" y="4038480"/>
              <a:ext cx="398520" cy="1143000"/>
            </a:xfrm>
            <a:prstGeom prst="line">
              <a:avLst/>
            </a:prstGeom>
            <a:ln w="25560">
              <a:solidFill>
                <a:srgbClr val="99ff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068-4135-4DA8-9E51-C3A99CA419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38080" y="2120760"/>
            <a:ext cx="8305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à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 liberté d'expressi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à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 liberté de pensée, de conscience et de religion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à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 liberté de réunion pacif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à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 liberté et à la sûre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ute personne a droit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u respect de sa vie privée et famili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dom of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dom of thought, conscience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religion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dom of peaceful assembl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berty and security of pers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ryone has the right to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ect for his private and family life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вободно выражать свое мн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свободу мысли, совести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и религ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свободу мирных собр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свободу и личную неприкосновенность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аждый имеет право 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на уважение его личной и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мейной жизн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auf01" descr=""/>
          <p:cNvPicPr/>
          <p:nvPr/>
        </p:nvPicPr>
        <p:blipFill>
          <a:blip r:embed="rId1"/>
          <a:stretch/>
        </p:blipFill>
        <p:spPr>
          <a:xfrm>
            <a:off x="838080" y="0"/>
            <a:ext cx="685800" cy="674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838080" y="173988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ff33"/>
                </a:solidFill>
                <a:latin typeface="Verdana"/>
                <a:ea typeface="Times New Roman"/>
              </a:rPr>
              <a:t>Segments répétés : retour au contex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28600" y="2119320"/>
            <a:ext cx="609480" cy="2897280"/>
            <a:chOff x="228600" y="2119320"/>
            <a:chExt cx="609480" cy="2897280"/>
          </a:xfrm>
        </p:grpSpPr>
        <p:sp>
          <p:nvSpPr>
            <p:cNvPr id="302" name=""/>
            <p:cNvSpPr/>
            <p:nvPr/>
          </p:nvSpPr>
          <p:spPr>
            <a:xfrm>
              <a:off x="228600" y="2119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3366cc"/>
                  </a:solidFill>
                  <a:latin typeface="Arial Unicode MS"/>
                  <a:ea typeface="Arial Unicode MS"/>
                </a:rPr>
                <a:t>F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8600" y="3429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3300"/>
                  </a:solidFill>
                  <a:latin typeface="Arial Unicode MS"/>
                  <a:ea typeface="Arial Unicode MS"/>
                </a:rPr>
                <a:t>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" y="4648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808080"/>
                  </a:solidFill>
                  <a:latin typeface="Arial Unicode MS"/>
                  <a:ea typeface="Arial Unicode MS"/>
                </a:rPr>
                <a:t>R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523880" y="0"/>
            <a:ext cx="5943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7</a:t>
            </a:r>
            <a:r>
              <a:rPr b="0" lang="fr-FR" sz="1200" spc="-1" strike="noStrike" baseline="30000">
                <a:solidFill>
                  <a:srgbClr val="336699"/>
                </a:solidFill>
                <a:latin typeface="Arial Unicode MS"/>
                <a:ea typeface="Arial Unicode MS"/>
              </a:rPr>
              <a:t>es</a:t>
            </a: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 Journées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6699"/>
                </a:solidFill>
                <a:latin typeface="Arial Unicode MS"/>
                <a:ea typeface="Arial Unicode MS"/>
              </a:rPr>
              <a:t>Réseau de chercheurs Lexicologie, Terminologie, Tra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79848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66"/>
                </a:solidFill>
                <a:latin typeface="Verdana"/>
              </a:rPr>
              <a:t>Corpus parallèle </a:t>
            </a:r>
            <a:r>
              <a:rPr b="0" i="1" lang="fr-FR" sz="2400" spc="-1" strike="noStrike">
                <a:solidFill>
                  <a:srgbClr val="003366"/>
                </a:solidFill>
                <a:latin typeface="Verdana"/>
              </a:rPr>
              <a:t>Convention :</a:t>
            </a:r>
            <a:br>
              <a:rPr sz="2400"/>
            </a:br>
            <a:r>
              <a:rPr b="1" i="1" lang="fr-FR" sz="2400" spc="-1" strike="noStrike">
                <a:solidFill>
                  <a:srgbClr val="003366"/>
                </a:solidFill>
                <a:latin typeface="Verdana"/>
              </a:rPr>
              <a:t>pratique des segments répétés (ii)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80880" y="2486160"/>
            <a:ext cx="76320" cy="2162160"/>
            <a:chOff x="380880" y="2486160"/>
            <a:chExt cx="76320" cy="2162160"/>
          </a:xfrm>
        </p:grpSpPr>
        <p:sp>
          <p:nvSpPr>
            <p:cNvPr id="308" name=""/>
            <p:cNvSpPr/>
            <p:nvPr/>
          </p:nvSpPr>
          <p:spPr>
            <a:xfrm>
              <a:off x="380880" y="2486160"/>
              <a:ext cx="76320" cy="9428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9240 h 942840"/>
                <a:gd name="textAreaBottom" fmla="*/ 903600 h 9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880" y="3795840"/>
              <a:ext cx="76320" cy="8524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5280 h 852480"/>
                <a:gd name="textAreaBottom" fmla="*/ 817200 h 8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STI, Bruxelles, 8 - 10 septembre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028-2C54-46CA-9484-1AB220C170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40:13Z</dcterms:created>
  <dc:creator>Poirot Maria</dc:creator>
  <dc:description/>
  <dc:language>en-US</dc:language>
  <cp:lastModifiedBy>Masha</cp:lastModifiedBy>
  <dcterms:modified xsi:type="dcterms:W3CDTF">2005-09-07T21:52:41Z</dcterms:modified>
  <cp:revision>921</cp:revision>
  <dc:subject/>
  <dc:title>Meta 50</dc:title>
</cp:coreProperties>
</file>