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98B-C58F-4A6A-B6E1-2FE30F2C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7AA-96D6-48B1-B9DA-59E30A2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639-6F5D-4DD7-BC06-1A97DA65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D16-C755-43F6-8BEB-A3715195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225-D567-4D2F-AC47-E080B559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4C3-7443-4D0A-A5EA-9FAD940B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A2C-5BC8-4455-A1EC-A519D11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736-68B6-4F79-B9A4-4FB5F6B9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C65-6DFD-4A70-A2C6-9DDD0A4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2E8-39A1-4C2B-B3AC-8FCA2E2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DD-D45F-40F6-8F05-9900C5F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D7E-A1F7-49C2-835D-66170B16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EA2-3B23-4475-9797-B41225085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ookshelf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1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8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jpeg"/><Relationship Id="rId4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8.png"/><Relationship Id="rId29" Type="http://schemas.openxmlformats.org/officeDocument/2006/relationships/image" Target="../media/image40.png"/><Relationship Id="rId30" Type="http://schemas.openxmlformats.org/officeDocument/2006/relationships/image" Target="../media/image41.png"/><Relationship Id="rId31" Type="http://schemas.openxmlformats.org/officeDocument/2006/relationships/image" Target="../media/image42.png"/><Relationship Id="rId32" Type="http://schemas.openxmlformats.org/officeDocument/2006/relationships/image" Target="../media/image43.png"/><Relationship Id="rId33" Type="http://schemas.openxmlformats.org/officeDocument/2006/relationships/image" Target="../media/image15.png"/><Relationship Id="rId34" Type="http://schemas.openxmlformats.org/officeDocument/2006/relationships/image" Target="../media/image8.png"/><Relationship Id="rId35" Type="http://schemas.openxmlformats.org/officeDocument/2006/relationships/image" Target="../media/image26.png"/><Relationship Id="rId36" Type="http://schemas.openxmlformats.org/officeDocument/2006/relationships/image" Target="../media/image31.png"/><Relationship Id="rId37" Type="http://schemas.openxmlformats.org/officeDocument/2006/relationships/image" Target="../media/image30.png"/><Relationship Id="rId38" Type="http://schemas.openxmlformats.org/officeDocument/2006/relationships/image" Target="../media/image32.png"/><Relationship Id="rId39" Type="http://schemas.openxmlformats.org/officeDocument/2006/relationships/image" Target="../media/image44.png"/><Relationship Id="rId40" Type="http://schemas.openxmlformats.org/officeDocument/2006/relationships/image" Target="../media/image35.png"/><Relationship Id="rId41" Type="http://schemas.openxmlformats.org/officeDocument/2006/relationships/image" Target="../media/image39.jpeg"/><Relationship Id="rId4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21.png"/><Relationship Id="rId17" Type="http://schemas.openxmlformats.org/officeDocument/2006/relationships/image" Target="../media/image13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32.png"/><Relationship Id="rId21" Type="http://schemas.openxmlformats.org/officeDocument/2006/relationships/image" Target="../media/image47.pn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hyperlink" Target="http://tal.univ-paris3.fr/outils-tal-p3.html" TargetMode="External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hyperlink" Target="http://tal.univ-paris3.fr/outils-tal-p3.html" TargetMode="External"/><Relationship Id="rId13" Type="http://schemas.openxmlformats.org/officeDocument/2006/relationships/hyperlink" Target="http://tal.univ-paris3.fr/outils-tal-p3.html" TargetMode="External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070000"/>
            <a:ext cx="824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-text Topography and Quantitative Approaches of</a:t>
            </a:r>
            <a:br>
              <a:rPr sz="2800"/>
            </a:b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arallel Tex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886200"/>
            <a:ext cx="645156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a Zi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zimina@msh-paris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 of Textometrics 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LED-CLA</a:t>
            </a:r>
            <a:r>
              <a:rPr b="1" lang="en-GB" sz="1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 Sorbonne University – Par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http://www.cavi.univ-paris3.fr/ilpga/syled/cla2t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112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RPUS LINGUISTICS 2005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July 14-17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wt-university-crest" descr=""/>
          <p:cNvPicPr/>
          <p:nvPr/>
        </p:nvPicPr>
        <p:blipFill>
          <a:blip r:embed="rId1"/>
          <a:stretch/>
        </p:blipFill>
        <p:spPr>
          <a:xfrm>
            <a:off x="171360" y="165240"/>
            <a:ext cx="2125800" cy="74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650-8E44-44E8-A72C-186E9FA0D5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76240" y="2311560"/>
            <a:ext cx="8191440" cy="3632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 :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A98-C9F9-4D50-B601-4FB47BD973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76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racteristic elements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67160" y="4241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9560" y="4559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17440" y="5829480"/>
            <a:ext cx="193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ections in French containing the 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« démocrati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90840" y="5829480"/>
            <a:ext cx="179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orresponding sections in Eng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292640"/>
            <a:ext cx="381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haracteristic elements computation </a:t>
            </a:r>
            <a:r>
              <a:rPr b="0" lang="en-GB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 used to discover the list of translation equivalents of the textual unit(s) used for initial topographic sel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30520" y="429264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70480" y="4470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43480" y="4902120"/>
            <a:ext cx="42516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75120" y="5143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40360" y="490212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292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09880"/>
            <a:ext cx="1397160" cy="52092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920"/>
              <a:gd name="textAreaBottom" fmla="*/ 451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873600"/>
            <a:ext cx="116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Tahoma"/>
              </a:rPr>
              <a:t>French cor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873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ahoma"/>
              </a:rPr>
              <a:t>English cor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0040" y="5207040"/>
            <a:ext cx="546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4680" y="4241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27280" y="4546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292640"/>
            <a:ext cx="74304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92440" y="4470480"/>
            <a:ext cx="20952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65440" y="4902120"/>
            <a:ext cx="42516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5143680"/>
            <a:ext cx="74304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4902120"/>
            <a:ext cx="20952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41680" y="4292640"/>
            <a:ext cx="20952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739880" y="5232240"/>
            <a:ext cx="69840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7560" y="3168720"/>
            <a:ext cx="52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-text Topography and Text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8840" y="3726000"/>
            <a:ext cx="8732880" cy="2743200"/>
            <a:chOff x="258840" y="3726000"/>
            <a:chExt cx="8732880" cy="2743200"/>
          </a:xfrm>
        </p:grpSpPr>
        <p:grpSp>
          <p:nvGrpSpPr>
            <p:cNvPr id="206" name=""/>
            <p:cNvGrpSpPr/>
            <p:nvPr/>
          </p:nvGrpSpPr>
          <p:grpSpPr>
            <a:xfrm>
              <a:off x="258840" y="3726000"/>
              <a:ext cx="8732880" cy="2743200"/>
              <a:chOff x="258840" y="3726000"/>
              <a:chExt cx="8732880" cy="2743200"/>
            </a:xfrm>
          </p:grpSpPr>
          <p:pic>
            <p:nvPicPr>
              <p:cNvPr id="207" name="ppt12" descr=""/>
              <p:cNvPicPr/>
              <p:nvPr/>
            </p:nvPicPr>
            <p:blipFill>
              <a:blip r:embed="rId1"/>
              <a:stretch/>
            </p:blipFill>
            <p:spPr>
              <a:xfrm>
                <a:off x="258840" y="3726000"/>
                <a:ext cx="873288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5480" y="4930920"/>
                <a:ext cx="150840" cy="141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33880" y="4930920"/>
                <a:ext cx="13968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79680" y="4148280"/>
              <a:ext cx="4076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3520" y="909720"/>
            <a:ext cx="8127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element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s for an evaluation of the frequency of each of the textual units in each of the parts of the corpus. It contains two ind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dicating 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se representation in the selected section(s) as compared to the entire corp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ponent that indicates the degree of significance of the dif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282-D32A-4AE7-94DE-4C36948A78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6D7F-2474-4C39-BA5E-C52EA999EA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000" y="-2034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 with the map of parallel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217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222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24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25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26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227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228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Tahoma"/>
              </a:rPr>
              <a:t>Frenc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Tahoma"/>
              </a:rPr>
              <a:t>Englis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232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233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3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245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46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47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248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49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250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254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255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4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267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268" name="ang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fra-sp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0" name="selec" descr=""/>
            <p:cNvPicPr/>
            <p:nvPr/>
          </p:nvPicPr>
          <p:blipFill>
            <a:blip r:embed="rId40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selec" descr=""/>
            <p:cNvPicPr/>
            <p:nvPr/>
          </p:nvPicPr>
          <p:blipFill>
            <a:blip r:embed="rId41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273" name=""/>
            <p:cNvGrpSpPr/>
            <p:nvPr/>
          </p:nvGrpSpPr>
          <p:grpSpPr>
            <a:xfrm>
              <a:off x="139680" y="1932120"/>
              <a:ext cx="8621640" cy="911160"/>
              <a:chOff x="139680" y="1932120"/>
              <a:chExt cx="8621640" cy="91116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275" name="section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77" name="tt" descr=""/>
              <p:cNvPicPr/>
              <p:nvPr/>
            </p:nvPicPr>
            <p:blipFill>
              <a:blip r:embed="rId44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t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" name=""/>
            <p:cNvSpPr/>
            <p:nvPr/>
          </p:nvSpPr>
          <p:spPr>
            <a:xfrm>
              <a:off x="150840" y="1314360"/>
              <a:ext cx="5220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75160" y="1314360"/>
              <a:ext cx="5256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284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l3_petit" descr=""/>
          <p:cNvPicPr/>
          <p:nvPr/>
        </p:nvPicPr>
        <p:blipFill>
          <a:blip r:embed="rId46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4E0-EB29-4B0F-A00B-E7C389AD331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298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303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304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05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06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07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08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309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6980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Frenc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104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Englis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313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314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5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6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7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8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9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0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1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2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</p:grpSp>
        <p:sp>
          <p:nvSpPr>
            <p:cNvPr id="323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4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325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326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27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28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29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330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31" name="a8_b" descr=""/>
          <p:cNvPicPr/>
          <p:nvPr/>
        </p:nvPicPr>
        <p:blipFill>
          <a:blip r:embed="rId27"/>
          <a:stretch/>
        </p:blipFill>
        <p:spPr>
          <a:xfrm>
            <a:off x="4457880" y="4964040"/>
            <a:ext cx="4539960" cy="184320"/>
          </a:xfrm>
          <a:prstGeom prst="rect">
            <a:avLst/>
          </a:prstGeom>
          <a:ln w="0">
            <a:noFill/>
          </a:ln>
        </p:spPr>
      </p:pic>
      <p:pic>
        <p:nvPicPr>
          <p:cNvPr id="332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30880" y="1289160"/>
            <a:ext cx="4645440" cy="4980240"/>
            <a:chOff x="4430880" y="1289160"/>
            <a:chExt cx="4645440" cy="4980240"/>
          </a:xfrm>
        </p:grpSpPr>
        <p:grpSp>
          <p:nvGrpSpPr>
            <p:cNvPr id="336" name=""/>
            <p:cNvGrpSpPr/>
            <p:nvPr/>
          </p:nvGrpSpPr>
          <p:grpSpPr>
            <a:xfrm>
              <a:off x="4430880" y="1289160"/>
              <a:ext cx="4645440" cy="4980240"/>
              <a:chOff x="4430880" y="1289160"/>
              <a:chExt cx="4645440" cy="4980240"/>
            </a:xfrm>
          </p:grpSpPr>
          <p:pic>
            <p:nvPicPr>
              <p:cNvPr id="337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30880" y="1289160"/>
                <a:ext cx="4584960" cy="55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30880" y="2006280"/>
                <a:ext cx="4593240" cy="37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30880" y="2909520"/>
                <a:ext cx="4584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30880" y="4421880"/>
                <a:ext cx="4593240" cy="37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1" name=""/>
              <p:cNvGrpSpPr/>
              <p:nvPr/>
            </p:nvGrpSpPr>
            <p:grpSpPr>
              <a:xfrm>
                <a:off x="4445280" y="5250600"/>
                <a:ext cx="4631040" cy="1018800"/>
                <a:chOff x="4445280" y="5250600"/>
                <a:chExt cx="4631040" cy="1018800"/>
              </a:xfrm>
            </p:grpSpPr>
            <p:pic>
              <p:nvPicPr>
                <p:cNvPr id="342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45280" y="5250600"/>
                  <a:ext cx="4631040" cy="10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8084520" y="5267880"/>
                  <a:ext cx="5220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511120" y="5355360"/>
                  <a:ext cx="5256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430880" y="3664800"/>
                <a:ext cx="4576680" cy="184320"/>
                <a:chOff x="4430880" y="3664800"/>
                <a:chExt cx="4576680" cy="184320"/>
              </a:xfrm>
            </p:grpSpPr>
            <p:pic>
              <p:nvPicPr>
                <p:cNvPr id="346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30880" y="3664800"/>
                  <a:ext cx="45766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>
                  <a:off x="8338320" y="3687120"/>
                  <a:ext cx="52560" cy="540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8091360" y="5267880"/>
              <a:ext cx="59040" cy="60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512920" y="5354280"/>
              <a:ext cx="60480" cy="6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449600" y="2552760"/>
            <a:ext cx="4692600" cy="3730320"/>
            <a:chOff x="4449600" y="2552760"/>
            <a:chExt cx="4692600" cy="3730320"/>
          </a:xfrm>
        </p:grpSpPr>
        <p:pic>
          <p:nvPicPr>
            <p:cNvPr id="353" name="f7m" descr=""/>
            <p:cNvPicPr/>
            <p:nvPr/>
          </p:nvPicPr>
          <p:blipFill>
            <a:blip r:embed="rId35"/>
            <a:stretch/>
          </p:blipFill>
          <p:spPr>
            <a:xfrm>
              <a:off x="4449600" y="4060800"/>
              <a:ext cx="4556160" cy="18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"/>
            <p:cNvGrpSpPr/>
            <p:nvPr/>
          </p:nvGrpSpPr>
          <p:grpSpPr>
            <a:xfrm>
              <a:off x="4456080" y="5243400"/>
              <a:ext cx="4686120" cy="1039680"/>
              <a:chOff x="4456080" y="5243400"/>
              <a:chExt cx="4686120" cy="1039680"/>
            </a:xfrm>
          </p:grpSpPr>
          <p:pic>
            <p:nvPicPr>
              <p:cNvPr id="355" name="f1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56080" y="5243400"/>
                <a:ext cx="468612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8137800" y="5259240"/>
                <a:ext cx="59400" cy="61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67280" y="5346720"/>
                <a:ext cx="61200" cy="62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8" name="f9m" descr=""/>
            <p:cNvPicPr/>
            <p:nvPr/>
          </p:nvPicPr>
          <p:blipFill>
            <a:blip r:embed="rId37"/>
            <a:stretch/>
          </p:blipFill>
          <p:spPr>
            <a:xfrm>
              <a:off x="4457880" y="4964040"/>
              <a:ext cx="454176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f4m" descr=""/>
            <p:cNvPicPr/>
            <p:nvPr/>
          </p:nvPicPr>
          <p:blipFill>
            <a:blip r:embed="rId38"/>
            <a:stretch/>
          </p:blipFill>
          <p:spPr>
            <a:xfrm>
              <a:off x="4449600" y="2552760"/>
              <a:ext cx="45482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362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l3_petit" descr=""/>
          <p:cNvPicPr/>
          <p:nvPr/>
        </p:nvPicPr>
        <p:blipFill>
          <a:blip r:embed="rId41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1360" y="0"/>
            <a:ext cx="8737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 with the map of parallel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5760" y="-360"/>
            <a:ext cx="8131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Localisation of non-corresponding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3480" y="1434960"/>
            <a:ext cx="50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Tot.=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063800"/>
            <a:ext cx="377208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24280" y="1143000"/>
            <a:ext cx="0" cy="138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9320" y="114300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3280" y="1612800"/>
            <a:ext cx="7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a5_b" descr=""/>
          <p:cNvPicPr/>
          <p:nvPr/>
        </p:nvPicPr>
        <p:blipFill>
          <a:blip r:embed="rId1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76" name="a4_b" descr=""/>
          <p:cNvPicPr/>
          <p:nvPr/>
        </p:nvPicPr>
        <p:blipFill>
          <a:blip r:embed="rId2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77" name="a3_b" descr=""/>
          <p:cNvPicPr/>
          <p:nvPr/>
        </p:nvPicPr>
        <p:blipFill>
          <a:blip r:embed="rId3"/>
          <a:stretch/>
        </p:blipFill>
        <p:spPr>
          <a:xfrm>
            <a:off x="2509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378" name="a2_b" descr=""/>
          <p:cNvPicPr/>
          <p:nvPr/>
        </p:nvPicPr>
        <p:blipFill>
          <a:blip r:embed="rId4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91908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6096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a5" descr=""/>
          <p:cNvPicPr/>
          <p:nvPr/>
        </p:nvPicPr>
        <p:blipFill>
          <a:blip r:embed="rId5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2" name="a3" descr=""/>
          <p:cNvPicPr/>
          <p:nvPr/>
        </p:nvPicPr>
        <p:blipFill>
          <a:blip r:embed="rId6"/>
          <a:stretch/>
        </p:blipFill>
        <p:spPr>
          <a:xfrm>
            <a:off x="2635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383" name="a2" descr=""/>
          <p:cNvPicPr/>
          <p:nvPr/>
        </p:nvPicPr>
        <p:blipFill>
          <a:blip r:embed="rId7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4" name="a3_b" descr=""/>
          <p:cNvPicPr/>
          <p:nvPr/>
        </p:nvPicPr>
        <p:blipFill>
          <a:blip r:embed="rId8"/>
          <a:stretch/>
        </p:blipFill>
        <p:spPr>
          <a:xfrm>
            <a:off x="4610160" y="39276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85" name="a2_b" descr=""/>
          <p:cNvPicPr/>
          <p:nvPr/>
        </p:nvPicPr>
        <p:blipFill>
          <a:blip r:embed="rId9"/>
          <a:stretch/>
        </p:blipFill>
        <p:spPr>
          <a:xfrm>
            <a:off x="458136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6" name="a5_b" descr=""/>
          <p:cNvPicPr/>
          <p:nvPr/>
        </p:nvPicPr>
        <p:blipFill>
          <a:blip r:embed="rId10"/>
          <a:stretch/>
        </p:blipFill>
        <p:spPr>
          <a:xfrm>
            <a:off x="458136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7" name="_1" descr=""/>
          <p:cNvPicPr/>
          <p:nvPr/>
        </p:nvPicPr>
        <p:blipFill>
          <a:blip r:embed="rId11"/>
          <a:stretch/>
        </p:blipFill>
        <p:spPr>
          <a:xfrm>
            <a:off x="4579920" y="32004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88" name="_2" descr=""/>
          <p:cNvPicPr/>
          <p:nvPr/>
        </p:nvPicPr>
        <p:blipFill>
          <a:blip r:embed="rId12"/>
          <a:stretch/>
        </p:blipFill>
        <p:spPr>
          <a:xfrm>
            <a:off x="4579920" y="39164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f5" descr=""/>
          <p:cNvPicPr/>
          <p:nvPr/>
        </p:nvPicPr>
        <p:blipFill>
          <a:blip r:embed="rId13"/>
          <a:stretch/>
        </p:blipFill>
        <p:spPr>
          <a:xfrm>
            <a:off x="45799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90" name="section" descr=""/>
          <p:cNvPicPr/>
          <p:nvPr/>
        </p:nvPicPr>
        <p:blipFill>
          <a:blip r:embed="rId14"/>
          <a:stretch/>
        </p:blipFill>
        <p:spPr>
          <a:xfrm>
            <a:off x="27612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391" name="section" descr=""/>
          <p:cNvPicPr/>
          <p:nvPr/>
        </p:nvPicPr>
        <p:blipFill>
          <a:blip r:embed="rId15"/>
          <a:stretch/>
        </p:blipFill>
        <p:spPr>
          <a:xfrm>
            <a:off x="458136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392" name="a4" descr=""/>
          <p:cNvPicPr/>
          <p:nvPr/>
        </p:nvPicPr>
        <p:blipFill>
          <a:blip r:embed="rId16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93" name="a4_b" descr=""/>
          <p:cNvPicPr/>
          <p:nvPr/>
        </p:nvPicPr>
        <p:blipFill>
          <a:blip r:embed="rId17"/>
          <a:stretch/>
        </p:blipFill>
        <p:spPr>
          <a:xfrm>
            <a:off x="4581360" y="4457880"/>
            <a:ext cx="4548240" cy="1904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546120" y="4457880"/>
            <a:ext cx="8583480" cy="1752480"/>
            <a:chOff x="546120" y="4457880"/>
            <a:chExt cx="8583480" cy="1752480"/>
          </a:xfrm>
        </p:grpSpPr>
        <p:grpSp>
          <p:nvGrpSpPr>
            <p:cNvPr id="395" name=""/>
            <p:cNvGrpSpPr/>
            <p:nvPr/>
          </p:nvGrpSpPr>
          <p:grpSpPr>
            <a:xfrm>
              <a:off x="546120" y="4457880"/>
              <a:ext cx="8583480" cy="1752480"/>
              <a:chOff x="546120" y="4457880"/>
              <a:chExt cx="8583480" cy="1752480"/>
            </a:xfrm>
          </p:grpSpPr>
          <p:pic>
            <p:nvPicPr>
              <p:cNvPr id="396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996840" y="55306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22960" y="55371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81720" y="44578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46120" y="45673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0" name="main" descr=""/>
            <p:cNvPicPr/>
            <p:nvPr/>
          </p:nvPicPr>
          <p:blipFill>
            <a:blip r:embed="rId21"/>
            <a:stretch/>
          </p:blipFill>
          <p:spPr>
            <a:xfrm>
              <a:off x="4665600" y="45561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4857840" y="42292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62640" y="31939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39280" y="4175280"/>
            <a:ext cx="4349880" cy="365040"/>
            <a:chOff x="539280" y="4175280"/>
            <a:chExt cx="4349880" cy="365040"/>
          </a:xfrm>
        </p:grpSpPr>
        <p:sp>
          <p:nvSpPr>
            <p:cNvPr id="404" name=""/>
            <p:cNvSpPr/>
            <p:nvPr/>
          </p:nvSpPr>
          <p:spPr>
            <a:xfrm flipH="1">
              <a:off x="539280" y="41846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58360" y="4175280"/>
              <a:ext cx="4318560" cy="365040"/>
              <a:chOff x="558360" y="4175280"/>
              <a:chExt cx="4318560" cy="36504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558360" y="41752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73680" y="41814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l3_petit" descr=""/>
          <p:cNvPicPr/>
          <p:nvPr/>
        </p:nvPicPr>
        <p:blipFill>
          <a:blip r:embed="rId22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E83-4E91-4A28-9E2E-E4BC88084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9760" y="164880"/>
            <a:ext cx="857268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oosing textual units for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</a:t>
            </a:r>
            <a:r>
              <a:rPr b="0" lang="en-GB" sz="3600" spc="-1" strike="noStrike">
                <a:solidFill>
                  <a:srgbClr val="003399"/>
                </a:solidFill>
                <a:latin typeface="Times New Roman"/>
              </a:rPr>
              <a:t>:</a:t>
            </a:r>
            <a:br>
              <a:rPr sz="3600"/>
            </a:b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Generalised Types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ge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680" y="2031840"/>
            <a:ext cx="2819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65600" y="2197080"/>
            <a:ext cx="2882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of words sharing common seman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54680" y="1866960"/>
            <a:ext cx="31370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part-of-speech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58868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75120" y="3238560"/>
            <a:ext cx="23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ministr+ (administration, administrer, etc.)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8280" y="3301920"/>
            <a:ext cx="2577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quéra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c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5680" y="4838760"/>
            <a:ext cx="257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vil servic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12920" y="480060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+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administration, </a:t>
            </a:r>
            <a:r>
              <a:rPr b="0" i="1" lang="fr-C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ering,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etc.)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294920" y="1278000"/>
            <a:ext cx="1460520" cy="58896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67080" y="1366920"/>
            <a:ext cx="0" cy="66492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1278000"/>
            <a:ext cx="1371600" cy="65232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4200" y="3579840"/>
            <a:ext cx="190440" cy="1507680"/>
            <a:chOff x="214200" y="3579840"/>
            <a:chExt cx="190440" cy="1507680"/>
          </a:xfrm>
        </p:grpSpPr>
        <p:sp>
          <p:nvSpPr>
            <p:cNvPr id="426" name=""/>
            <p:cNvSpPr/>
            <p:nvPr/>
          </p:nvSpPr>
          <p:spPr>
            <a:xfrm flipH="1">
              <a:off x="214200" y="35798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680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26800" y="50698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02960" y="4084560"/>
            <a:ext cx="300960" cy="1537560"/>
            <a:chOff x="102960" y="4084560"/>
            <a:chExt cx="300960" cy="1537560"/>
          </a:xfrm>
        </p:grpSpPr>
        <p:sp>
          <p:nvSpPr>
            <p:cNvPr id="430" name=""/>
            <p:cNvSpPr/>
            <p:nvPr/>
          </p:nvSpPr>
          <p:spPr>
            <a:xfrm flipH="1">
              <a:off x="102960" y="40845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120" y="4102200"/>
              <a:ext cx="0" cy="15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22760" y="5604480"/>
              <a:ext cx="2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871720" y="3579840"/>
            <a:ext cx="259560" cy="1507680"/>
            <a:chOff x="2871720" y="3579840"/>
            <a:chExt cx="259560" cy="1507680"/>
          </a:xfrm>
        </p:grpSpPr>
        <p:sp>
          <p:nvSpPr>
            <p:cNvPr id="434" name=""/>
            <p:cNvSpPr/>
            <p:nvPr/>
          </p:nvSpPr>
          <p:spPr>
            <a:xfrm flipH="1">
              <a:off x="2871720" y="357984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864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888640" y="506988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854680" y="32623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be au participe passé +Prép.+ Dét.+ Nom</a:t>
            </a:r>
            <a:r>
              <a:rPr b="0" i="1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81760" y="4800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b past participle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Prep.+ Det.+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724360" y="3527280"/>
            <a:ext cx="259560" cy="1508040"/>
            <a:chOff x="5724360" y="3527280"/>
            <a:chExt cx="259560" cy="1508040"/>
          </a:xfrm>
        </p:grpSpPr>
        <p:sp>
          <p:nvSpPr>
            <p:cNvPr id="440" name=""/>
            <p:cNvSpPr/>
            <p:nvPr/>
          </p:nvSpPr>
          <p:spPr>
            <a:xfrm flipH="1">
              <a:off x="5724360" y="3527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41280" y="354492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740920" y="5017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B01-4F66-4DCC-A578-20DF71FB3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2520" y="736560"/>
            <a:ext cx="7828200" cy="1820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08080" y="2627280"/>
            <a:ext cx="7808760" cy="15415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095480" y="4224240"/>
            <a:ext cx="7788240" cy="2633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705040" y="6013440"/>
            <a:ext cx="63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On-going research in collaboration with William Martinez (SYLED, Paris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4930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Multiple lexical attractions in the neighbourhoods</a:t>
            </a:r>
            <a:br>
              <a:rPr sz="2400"/>
            </a:b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of mutual translation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800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187956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7432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505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4394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516888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040" y="1028880"/>
            <a:ext cx="203040" cy="1117440"/>
            <a:chOff x="914040" y="1028880"/>
            <a:chExt cx="203040" cy="1117440"/>
          </a:xfrm>
        </p:grpSpPr>
        <p:sp>
          <p:nvSpPr>
            <p:cNvPr id="456" name=""/>
            <p:cNvSpPr/>
            <p:nvPr/>
          </p:nvSpPr>
          <p:spPr>
            <a:xfrm flipH="1">
              <a:off x="914040" y="102888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27000" y="104148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926640" y="21337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939960" y="2921040"/>
            <a:ext cx="190440" cy="799920"/>
            <a:chOff x="939960" y="2921040"/>
            <a:chExt cx="190440" cy="799920"/>
          </a:xfrm>
        </p:grpSpPr>
        <p:sp>
          <p:nvSpPr>
            <p:cNvPr id="460" name=""/>
            <p:cNvSpPr/>
            <p:nvPr/>
          </p:nvSpPr>
          <p:spPr>
            <a:xfrm flipH="1">
              <a:off x="939960" y="29210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52560" y="293040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952560" y="37116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965160" y="4584600"/>
            <a:ext cx="190440" cy="800280"/>
            <a:chOff x="965160" y="4584600"/>
            <a:chExt cx="190440" cy="800280"/>
          </a:xfrm>
        </p:grpSpPr>
        <p:sp>
          <p:nvSpPr>
            <p:cNvPr id="464" name=""/>
            <p:cNvSpPr/>
            <p:nvPr/>
          </p:nvSpPr>
          <p:spPr>
            <a:xfrm flipH="1">
              <a:off x="965160" y="45846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77760" y="45943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77760" y="53751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95480" y="5791320"/>
            <a:ext cx="16095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gend: f 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 = co-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 = number of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C48-12F9-422B-BA9D-1661D1F92D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L3XX" descr=""/>
          <p:cNvPicPr/>
          <p:nvPr/>
        </p:nvPicPr>
        <p:blipFill>
          <a:blip r:embed="rId1"/>
          <a:stretch/>
        </p:blipFill>
        <p:spPr>
          <a:xfrm>
            <a:off x="263520" y="441360"/>
            <a:ext cx="8810640" cy="6416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8731080" y="1260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3977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ools :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3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5"/>
              </a:rPr>
              <a:t>univ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6"/>
              </a:rPr>
              <a:t>-paris3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7"/>
              </a:rPr>
              <a:t>fr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9"/>
              </a:rPr>
              <a:t>outils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0"/>
              </a:rPr>
              <a:t>-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1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2"/>
              </a:rPr>
              <a:t>-p3.htm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925-B9B8-44F3-951B-788727629D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IMG" descr=""/>
          <p:cNvPicPr/>
          <p:nvPr/>
        </p:nvPicPr>
        <p:blipFill>
          <a:blip r:embed="rId1"/>
          <a:stretch/>
        </p:blipFill>
        <p:spPr>
          <a:xfrm>
            <a:off x="135000" y="1587600"/>
            <a:ext cx="8939160" cy="4995720"/>
          </a:xfrm>
          <a:prstGeom prst="rect">
            <a:avLst/>
          </a:prstGeom>
          <a:ln w="0">
            <a:noFill/>
          </a:ln>
        </p:spPr>
      </p:pic>
      <p:pic>
        <p:nvPicPr>
          <p:cNvPr id="477" name="MKA-entete-0" descr=""/>
          <p:cNvPicPr/>
          <p:nvPr/>
        </p:nvPicPr>
        <p:blipFill>
          <a:blip r:embed="rId2"/>
          <a:stretch/>
        </p:blipFill>
        <p:spPr>
          <a:xfrm>
            <a:off x="135000" y="609480"/>
            <a:ext cx="7154640" cy="9716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5000" y="0"/>
            <a:ext cx="8246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ools : 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mkAlign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4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6"/>
              </a:rPr>
              <a:t>univ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7"/>
              </a:rPr>
              <a:t>-paris3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8"/>
              </a:rPr>
              <a:t>fr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0"/>
              </a:rPr>
              <a:t>outils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1"/>
              </a:rPr>
              <a:t>-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2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3"/>
              </a:rPr>
              <a:t>-p3.html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E73-91F7-4799-9923-C0BA59EDD5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62120" y="1181160"/>
            <a:ext cx="78991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The concept of textometric browsing offers new means for automatic description of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multiple lexical correspondences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in translation corp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The suggested approach allows the user to maintain control over the entire corpus exploration, from initial segmentation to the extraction and editing of text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Some of the presented procedures for textometric analysis of multilingual corpora have not yet been implemented in the present versions of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mkAlign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. New functions are currently being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2" descr=""/>
          <p:cNvPicPr/>
          <p:nvPr/>
        </p:nvPicPr>
        <p:blipFill>
          <a:blip r:embed="rId1"/>
          <a:stretch/>
        </p:blipFill>
        <p:spPr>
          <a:xfrm>
            <a:off x="878040" y="129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2" descr=""/>
          <p:cNvPicPr/>
          <p:nvPr/>
        </p:nvPicPr>
        <p:blipFill>
          <a:blip r:embed="rId2"/>
          <a:stretch/>
        </p:blipFill>
        <p:spPr>
          <a:xfrm>
            <a:off x="878040" y="27432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8131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nclusions and upcoming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2" descr=""/>
          <p:cNvPicPr/>
          <p:nvPr/>
        </p:nvPicPr>
        <p:blipFill>
          <a:blip r:embed="rId3"/>
          <a:stretch/>
        </p:blipFill>
        <p:spPr>
          <a:xfrm>
            <a:off x="878040" y="4305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779-9BD6-4E0B-9C07-6AF0F0376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4446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15976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lingual textometr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Example: parallel French/English corpus </a:t>
            </a:r>
            <a:r>
              <a:rPr b="1" i="1" lang="en-GB" sz="2400" spc="-1" strike="noStrike">
                <a:solidFill>
                  <a:srgbClr val="3366cc"/>
                </a:solidFill>
                <a:latin typeface="Times New Roman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Bilingual lexicon extraction : limits of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</a:rPr>
              <a:t>one-to-one translation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ometric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Bi-text Topography and Text Re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Extracting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</a:rPr>
              <a:t>multiple translation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sting textometric tools and upcoming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mkAlign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206-4B44-45BD-850A-AF55765B4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571680" y="2197080"/>
            <a:ext cx="3911400" cy="2616120"/>
            <a:chOff x="571680" y="2197080"/>
            <a:chExt cx="3911400" cy="2616120"/>
          </a:xfrm>
        </p:grpSpPr>
        <p:sp>
          <p:nvSpPr>
            <p:cNvPr id="52" name=""/>
            <p:cNvSpPr/>
            <p:nvPr/>
          </p:nvSpPr>
          <p:spPr>
            <a:xfrm>
              <a:off x="571680" y="2197080"/>
              <a:ext cx="3911400" cy="2616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3314880"/>
              <a:ext cx="22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extometr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0" y="165240"/>
            <a:ext cx="83692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Multilingual Textometr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59200" y="2201760"/>
            <a:ext cx="5410080" cy="3699000"/>
            <a:chOff x="2959200" y="2201760"/>
            <a:chExt cx="5410080" cy="3699000"/>
          </a:xfrm>
        </p:grpSpPr>
        <p:sp>
          <p:nvSpPr>
            <p:cNvPr id="57" name=""/>
            <p:cNvSpPr/>
            <p:nvPr/>
          </p:nvSpPr>
          <p:spPr>
            <a:xfrm>
              <a:off x="2959200" y="2201760"/>
              <a:ext cx="5410080" cy="369900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06840" y="4778640"/>
              <a:ext cx="4190400" cy="398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atural Language 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959200" y="1100160"/>
            <a:ext cx="4228560" cy="2472840"/>
            <a:chOff x="2959200" y="1100160"/>
            <a:chExt cx="4228560" cy="2472840"/>
          </a:xfrm>
        </p:grpSpPr>
        <p:sp>
          <p:nvSpPr>
            <p:cNvPr id="60" name=""/>
            <p:cNvSpPr/>
            <p:nvPr/>
          </p:nvSpPr>
          <p:spPr>
            <a:xfrm>
              <a:off x="2959200" y="1100160"/>
              <a:ext cx="4228560" cy="2472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17200" y="1538640"/>
              <a:ext cx="295236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ranslation The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2514600"/>
            <a:ext cx="4381560" cy="2120760"/>
            <a:chOff x="3416400" y="2514600"/>
            <a:chExt cx="4381560" cy="2120760"/>
          </a:xfrm>
        </p:grpSpPr>
        <p:sp>
          <p:nvSpPr>
            <p:cNvPr id="63" name=""/>
            <p:cNvSpPr/>
            <p:nvPr/>
          </p:nvSpPr>
          <p:spPr>
            <a:xfrm>
              <a:off x="3416400" y="2514600"/>
              <a:ext cx="4381560" cy="212076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2400" y="3822480"/>
              <a:ext cx="38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ultilingual Language 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81280" y="2838600"/>
            <a:ext cx="2502000" cy="901440"/>
            <a:chOff x="3581280" y="2838600"/>
            <a:chExt cx="2502000" cy="901440"/>
          </a:xfrm>
        </p:grpSpPr>
        <p:sp>
          <p:nvSpPr>
            <p:cNvPr id="66" name=""/>
            <p:cNvSpPr/>
            <p:nvPr/>
          </p:nvSpPr>
          <p:spPr>
            <a:xfrm>
              <a:off x="3593880" y="2838600"/>
              <a:ext cx="2463840" cy="901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3079440"/>
              <a:ext cx="25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ext Al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27200" y="2006640"/>
            <a:ext cx="2895480" cy="1346040"/>
            <a:chOff x="2527200" y="2006640"/>
            <a:chExt cx="2895480" cy="1346040"/>
          </a:xfrm>
        </p:grpSpPr>
        <p:sp>
          <p:nvSpPr>
            <p:cNvPr id="69" name=""/>
            <p:cNvSpPr/>
            <p:nvPr/>
          </p:nvSpPr>
          <p:spPr>
            <a:xfrm>
              <a:off x="2527200" y="2006640"/>
              <a:ext cx="2895480" cy="134604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8400" y="2197080"/>
              <a:ext cx="25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utomatic extraction of Translation 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12511800">
            <a:off x="2253960" y="2526840"/>
            <a:ext cx="2324160" cy="175104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26840" y="800280"/>
            <a:ext cx="241560" cy="2279520"/>
          </a:xfrm>
          <a:prstGeom prst="line">
            <a:avLst/>
          </a:prstGeom>
          <a:ln w="38160">
            <a:solidFill>
              <a:srgbClr val="00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85144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0E4-7401-47FE-8CC7-FBAC72B4A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Example: 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43000" y="1752480"/>
          <a:ext cx="7315200" cy="38862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us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rench part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6 396 occ.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glish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84 958 occ.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ean Convention on Human Righ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 953 occ.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710 occ.</a:t>
                      </a:r>
                      <a:r>
                        <a:rPr b="0" lang="en-GB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tional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 984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 773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dgement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European Court of Human R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1 459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74 475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044-40C3-41A2-ACA6-EB6A16DD4A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80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 Freq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Fren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Engl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43120" y="1676520"/>
            <a:ext cx="5219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Main lexicometric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59092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delimiting characters 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E88-316D-4F2F-91D4-AAAD82C99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92280" y="154944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ictionaries of graphic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228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nc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nk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nk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onven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32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1 223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ommiss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39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889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aragraphe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44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740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gouvernement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45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721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décis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59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508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article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2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62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ita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52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déten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98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14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280" y="228600"/>
            <a:ext cx="81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230-328C-41DC-ABE5-7A2240A6C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895480"/>
            <a:ext cx="1371600" cy="20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238284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lling (F=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ea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F=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4639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circonstances de la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circumstances of the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 danger de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 risk of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38284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mor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F=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89548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rivation of life (F=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51404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gée – intentional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gée  –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4698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multiple lexical correspond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9BA-83BE-4CCF-94DF-FEE038DB3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03240" y="2371680"/>
          <a:ext cx="623916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2371680"/>
                    <a:ext cx="62391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227-F768-4934-8193-E7615B8F9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3880" y="2405160"/>
          <a:ext cx="66722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05160"/>
                    <a:ext cx="6672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 :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FE9-839B-43E9-9074-B5F0B3549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5-07-11T18:53:55Z</dcterms:modified>
  <cp:revision>852</cp:revision>
  <dc:subject/>
  <dc:title>L’alignement textométrique des unités lexicales à correspondances multiples dans les corpus parallèles</dc:title>
</cp:coreProperties>
</file>