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.wmf" ContentType="image/x-wmf"/>
  <Override PartName="/ppt/media/image10.png" ContentType="image/png"/>
  <Override PartName="/ppt/media/image47.png" ContentType="image/png"/>
  <Override PartName="/ppt/media/image36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.wmf" ContentType="image/x-wmf"/>
  <Override PartName="/ppt/media/image46.png" ContentType="image/png"/>
  <Override PartName="/ppt/media/image6.wmf" ContentType="image/x-wmf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5.png" ContentType="image/png"/>
  <Override PartName="/ppt/media/image34.png" ContentType="image/png"/>
  <Override PartName="/ppt/media/image9.png" ContentType="image/png"/>
  <Override PartName="/ppt/media/image3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889-B4E1-4969-AFFE-9230DF9D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3004-12AB-489B-86F3-287AB9E6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A77-7698-4DA3-A39B-E154063C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740-354C-4606-B893-D00B3F3F5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B26-C41C-40BF-9ADA-3BECFBF2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EF2-B986-4E29-8F18-B6B7C669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FFF-3E51-4019-94E2-9387ADE2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8A1-19F9-4657-B492-197C126E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076-C36C-4D18-84EC-E6721523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E94-C7FB-4AD0-8F29-467EA343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04E-FD45-42F2-B993-43386875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A7F-381C-42E9-8724-2391B478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F11C-8370-45A7-9B19-24B36E376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ookshelf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8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3.png"/><Relationship Id="rId23" Type="http://schemas.openxmlformats.org/officeDocument/2006/relationships/image" Target="../media/image12.png"/><Relationship Id="rId24" Type="http://schemas.openxmlformats.org/officeDocument/2006/relationships/image" Target="../media/image10.png"/><Relationship Id="rId25" Type="http://schemas.openxmlformats.org/officeDocument/2006/relationships/image" Target="../media/image11.png"/><Relationship Id="rId26" Type="http://schemas.openxmlformats.org/officeDocument/2006/relationships/image" Target="../media/image9.png"/><Relationship Id="rId27" Type="http://schemas.openxmlformats.org/officeDocument/2006/relationships/image" Target="../media/image8.png"/><Relationship Id="rId28" Type="http://schemas.openxmlformats.org/officeDocument/2006/relationships/image" Target="../media/image14.png"/><Relationship Id="rId29" Type="http://schemas.openxmlformats.org/officeDocument/2006/relationships/image" Target="../media/image25.png"/><Relationship Id="rId30" Type="http://schemas.openxmlformats.org/officeDocument/2006/relationships/image" Target="../media/image26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31.png"/><Relationship Id="rId36" Type="http://schemas.openxmlformats.org/officeDocument/2006/relationships/image" Target="../media/image32.png"/><Relationship Id="rId37" Type="http://schemas.openxmlformats.org/officeDocument/2006/relationships/image" Target="../media/image8.png"/><Relationship Id="rId38" Type="http://schemas.openxmlformats.org/officeDocument/2006/relationships/image" Target="../media/image33.png"/><Relationship Id="rId39" Type="http://schemas.openxmlformats.org/officeDocument/2006/relationships/image" Target="../media/image34.png"/><Relationship Id="rId40" Type="http://schemas.openxmlformats.org/officeDocument/2006/relationships/image" Target="../media/image35.png"/><Relationship Id="rId41" Type="http://schemas.openxmlformats.org/officeDocument/2006/relationships/image" Target="../media/image35.png"/><Relationship Id="rId42" Type="http://schemas.openxmlformats.org/officeDocument/2006/relationships/image" Target="../media/image36.png"/><Relationship Id="rId43" Type="http://schemas.openxmlformats.org/officeDocument/2006/relationships/image" Target="../media/image36.png"/><Relationship Id="rId44" Type="http://schemas.openxmlformats.org/officeDocument/2006/relationships/image" Target="../media/image37.png"/><Relationship Id="rId45" Type="http://schemas.openxmlformats.org/officeDocument/2006/relationships/image" Target="../media/image38.png"/><Relationship Id="rId46" Type="http://schemas.openxmlformats.org/officeDocument/2006/relationships/image" Target="../media/image39.jpeg"/><Relationship Id="rId4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8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6.png"/><Relationship Id="rId23" Type="http://schemas.openxmlformats.org/officeDocument/2006/relationships/image" Target="../media/image13.png"/><Relationship Id="rId24" Type="http://schemas.openxmlformats.org/officeDocument/2006/relationships/image" Target="../media/image12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9.png"/><Relationship Id="rId28" Type="http://schemas.openxmlformats.org/officeDocument/2006/relationships/image" Target="../media/image8.png"/><Relationship Id="rId29" Type="http://schemas.openxmlformats.org/officeDocument/2006/relationships/image" Target="../media/image40.png"/><Relationship Id="rId30" Type="http://schemas.openxmlformats.org/officeDocument/2006/relationships/image" Target="../media/image41.png"/><Relationship Id="rId31" Type="http://schemas.openxmlformats.org/officeDocument/2006/relationships/image" Target="../media/image42.png"/><Relationship Id="rId32" Type="http://schemas.openxmlformats.org/officeDocument/2006/relationships/image" Target="../media/image43.png"/><Relationship Id="rId33" Type="http://schemas.openxmlformats.org/officeDocument/2006/relationships/image" Target="../media/image15.png"/><Relationship Id="rId34" Type="http://schemas.openxmlformats.org/officeDocument/2006/relationships/image" Target="../media/image8.png"/><Relationship Id="rId35" Type="http://schemas.openxmlformats.org/officeDocument/2006/relationships/image" Target="../media/image26.png"/><Relationship Id="rId36" Type="http://schemas.openxmlformats.org/officeDocument/2006/relationships/image" Target="../media/image31.png"/><Relationship Id="rId37" Type="http://schemas.openxmlformats.org/officeDocument/2006/relationships/image" Target="../media/image30.png"/><Relationship Id="rId38" Type="http://schemas.openxmlformats.org/officeDocument/2006/relationships/image" Target="../media/image32.png"/><Relationship Id="rId39" Type="http://schemas.openxmlformats.org/officeDocument/2006/relationships/image" Target="../media/image44.png"/><Relationship Id="rId40" Type="http://schemas.openxmlformats.org/officeDocument/2006/relationships/image" Target="../media/image35.png"/><Relationship Id="rId41" Type="http://schemas.openxmlformats.org/officeDocument/2006/relationships/image" Target="../media/image39.jpeg"/><Relationship Id="rId4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4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image" Target="../media/image12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36.png"/><Relationship Id="rId15" Type="http://schemas.openxmlformats.org/officeDocument/2006/relationships/image" Target="../media/image36.png"/><Relationship Id="rId16" Type="http://schemas.openxmlformats.org/officeDocument/2006/relationships/image" Target="../media/image21.png"/><Relationship Id="rId17" Type="http://schemas.openxmlformats.org/officeDocument/2006/relationships/image" Target="../media/image13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32.png"/><Relationship Id="rId21" Type="http://schemas.openxmlformats.org/officeDocument/2006/relationships/image" Target="../media/image47.png"/><Relationship Id="rId22" Type="http://schemas.openxmlformats.org/officeDocument/2006/relationships/image" Target="../media/image39.jpeg"/><Relationship Id="rId2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hyperlink" Target="http://tal.univ-paris3.fr/outils-tal-p3.html" TargetMode="External"/><Relationship Id="rId3" Type="http://schemas.openxmlformats.org/officeDocument/2006/relationships/hyperlink" Target="http://tal.univ-paris3.fr/outils-tal-p3.html" TargetMode="External"/><Relationship Id="rId4" Type="http://schemas.openxmlformats.org/officeDocument/2006/relationships/hyperlink" Target="http://tal.univ-paris3.fr/outils-tal-p3.html" TargetMode="External"/><Relationship Id="rId5" Type="http://schemas.openxmlformats.org/officeDocument/2006/relationships/hyperlink" Target="http://tal.univ-paris3.fr/outils-tal-p3.html" TargetMode="External"/><Relationship Id="rId6" Type="http://schemas.openxmlformats.org/officeDocument/2006/relationships/hyperlink" Target="http://tal.univ-paris3.fr/outils-tal-p3.html" TargetMode="External"/><Relationship Id="rId7" Type="http://schemas.openxmlformats.org/officeDocument/2006/relationships/hyperlink" Target="http://tal.univ-paris3.fr/outils-tal-p3.html" TargetMode="External"/><Relationship Id="rId8" Type="http://schemas.openxmlformats.org/officeDocument/2006/relationships/hyperlink" Target="http://tal.univ-paris3.fr/outils-tal-p3.html" TargetMode="External"/><Relationship Id="rId9" Type="http://schemas.openxmlformats.org/officeDocument/2006/relationships/hyperlink" Target="http://tal.univ-paris3.fr/outils-tal-p3.html" TargetMode="External"/><Relationship Id="rId10" Type="http://schemas.openxmlformats.org/officeDocument/2006/relationships/hyperlink" Target="http://tal.univ-paris3.fr/outils-tal-p3.html" TargetMode="External"/><Relationship Id="rId11" Type="http://schemas.openxmlformats.org/officeDocument/2006/relationships/hyperlink" Target="http://tal.univ-paris3.fr/outils-tal-p3.html" TargetMode="External"/><Relationship Id="rId12" Type="http://schemas.openxmlformats.org/officeDocument/2006/relationships/hyperlink" Target="http://tal.univ-paris3.fr/outils-tal-p3.html" TargetMode="External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hyperlink" Target="http://tal.univ-paris3.fr/outils-tal-p3.html" TargetMode="External"/><Relationship Id="rId4" Type="http://schemas.openxmlformats.org/officeDocument/2006/relationships/hyperlink" Target="http://tal.univ-paris3.fr/outils-tal-p3.html" TargetMode="External"/><Relationship Id="rId5" Type="http://schemas.openxmlformats.org/officeDocument/2006/relationships/hyperlink" Target="http://tal.univ-paris3.fr/outils-tal-p3.html" TargetMode="External"/><Relationship Id="rId6" Type="http://schemas.openxmlformats.org/officeDocument/2006/relationships/hyperlink" Target="http://tal.univ-paris3.fr/outils-tal-p3.html" TargetMode="External"/><Relationship Id="rId7" Type="http://schemas.openxmlformats.org/officeDocument/2006/relationships/hyperlink" Target="http://tal.univ-paris3.fr/outils-tal-p3.html" TargetMode="External"/><Relationship Id="rId8" Type="http://schemas.openxmlformats.org/officeDocument/2006/relationships/hyperlink" Target="http://tal.univ-paris3.fr/outils-tal-p3.html" TargetMode="External"/><Relationship Id="rId9" Type="http://schemas.openxmlformats.org/officeDocument/2006/relationships/hyperlink" Target="http://tal.univ-paris3.fr/outils-tal-p3.html" TargetMode="External"/><Relationship Id="rId10" Type="http://schemas.openxmlformats.org/officeDocument/2006/relationships/hyperlink" Target="http://tal.univ-paris3.fr/outils-tal-p3.html" TargetMode="External"/><Relationship Id="rId11" Type="http://schemas.openxmlformats.org/officeDocument/2006/relationships/hyperlink" Target="http://tal.univ-paris3.fr/outils-tal-p3.html" TargetMode="External"/><Relationship Id="rId12" Type="http://schemas.openxmlformats.org/officeDocument/2006/relationships/hyperlink" Target="http://tal.univ-paris3.fr/outils-tal-p3.html" TargetMode="External"/><Relationship Id="rId13" Type="http://schemas.openxmlformats.org/officeDocument/2006/relationships/hyperlink" Target="http://tal.univ-paris3.fr/outils-tal-p3.html" TargetMode="External"/><Relationship Id="rId1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5040" y="2070000"/>
            <a:ext cx="8242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-text Topography and Quantitative Approaches of</a:t>
            </a:r>
            <a:br>
              <a:rPr sz="2800"/>
            </a:b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arallel Tex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886200"/>
            <a:ext cx="645156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a Zi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zimina@msh-paris.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 of Textometrics </a:t>
            </a: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YLED-CLA</a:t>
            </a:r>
            <a:r>
              <a:rPr b="1" lang="en-GB" sz="1800" spc="-1" strike="noStrike" baseline="30000">
                <a:solidFill>
                  <a:srgbClr val="003399"/>
                </a:solidFill>
                <a:latin typeface="Times New Roman"/>
                <a:ea typeface="Times New Roman"/>
              </a:rPr>
              <a:t>2</a:t>
            </a: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 Sorbonne University – Pari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http://www.cavi.univ-paris3.fr/ilpga/syled/cla2t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112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RPUS LINGUISTICS 2005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July 14-17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wt-university-crest" descr=""/>
          <p:cNvPicPr/>
          <p:nvPr/>
        </p:nvPicPr>
        <p:blipFill>
          <a:blip r:embed="rId1"/>
          <a:stretch/>
        </p:blipFill>
        <p:spPr>
          <a:xfrm>
            <a:off x="171360" y="165240"/>
            <a:ext cx="2125800" cy="74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F75-E9A6-4BFB-BC62-20A086F57A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76240" y="2311560"/>
            <a:ext cx="8191440" cy="3632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0800" y="40608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lingual lexicon extraction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y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tatistical study of distribution similarities :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1160" y="1549440"/>
            <a:ext cx="325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pu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nvention:</a:t>
            </a:r>
            <a:r>
              <a:rPr b="0" i="1" lang="en-GB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Example 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23F-B154-4DDE-88F5-6551F362FB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76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aracteristic elements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67160" y="4241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49560" y="455940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17440" y="5829480"/>
            <a:ext cx="193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Sections in French containing the </a:t>
            </a: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« démocrati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90840" y="5829480"/>
            <a:ext cx="179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orresponding sections in Engl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292640"/>
            <a:ext cx="3810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haracteristic elements computation </a:t>
            </a:r>
            <a:r>
              <a:rPr b="0" lang="en-GB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s used to discover the list of translation equivalents of the textual unit(s) used for initial topographic sel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30520" y="429264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70480" y="447048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43480" y="4902120"/>
            <a:ext cx="42516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75120" y="5143680"/>
            <a:ext cx="74304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40360" y="4902120"/>
            <a:ext cx="209520" cy="14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292640"/>
            <a:ext cx="209520" cy="144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3809880"/>
            <a:ext cx="1397160" cy="520920"/>
          </a:xfrm>
          <a:custGeom>
            <a:avLst/>
            <a:gdLst>
              <a:gd name="textAreaLeft" fmla="*/ 244440 w 1397160"/>
              <a:gd name="textAreaRight" fmla="*/ 1013040 w 1397160"/>
              <a:gd name="textAreaTop" fmla="*/ 69480 h 520920"/>
              <a:gd name="textAreaBottom" fmla="*/ 451440 h 520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873600"/>
            <a:ext cx="116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Tahoma"/>
              </a:rPr>
              <a:t>French cor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8736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3300"/>
                </a:solidFill>
                <a:latin typeface="Tahoma"/>
              </a:rPr>
              <a:t>English cor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80040" y="5207040"/>
            <a:ext cx="546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14680" y="4241880"/>
            <a:ext cx="1282680" cy="132084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27280" y="45464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ahoma"/>
              </a:rPr>
              <a:t>démocr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292640"/>
            <a:ext cx="743040" cy="1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92440" y="4470480"/>
            <a:ext cx="209520" cy="1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65440" y="4902120"/>
            <a:ext cx="425160" cy="1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5143680"/>
            <a:ext cx="743040" cy="1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4902120"/>
            <a:ext cx="209520" cy="1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41680" y="4292640"/>
            <a:ext cx="209520" cy="144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739880" y="5232240"/>
            <a:ext cx="69840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7560" y="3168720"/>
            <a:ext cx="52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-text Topography and Text Reso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58840" y="3726000"/>
            <a:ext cx="8732880" cy="2743200"/>
            <a:chOff x="258840" y="3726000"/>
            <a:chExt cx="8732880" cy="2743200"/>
          </a:xfrm>
        </p:grpSpPr>
        <p:grpSp>
          <p:nvGrpSpPr>
            <p:cNvPr id="206" name=""/>
            <p:cNvGrpSpPr/>
            <p:nvPr/>
          </p:nvGrpSpPr>
          <p:grpSpPr>
            <a:xfrm>
              <a:off x="258840" y="3726000"/>
              <a:ext cx="8732880" cy="2743200"/>
              <a:chOff x="258840" y="3726000"/>
              <a:chExt cx="8732880" cy="2743200"/>
            </a:xfrm>
          </p:grpSpPr>
          <p:pic>
            <p:nvPicPr>
              <p:cNvPr id="207" name="ppt12" descr=""/>
              <p:cNvPicPr/>
              <p:nvPr/>
            </p:nvPicPr>
            <p:blipFill>
              <a:blip r:embed="rId1"/>
              <a:stretch/>
            </p:blipFill>
            <p:spPr>
              <a:xfrm>
                <a:off x="258840" y="3726000"/>
                <a:ext cx="8732880" cy="27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5480" y="4930920"/>
                <a:ext cx="150840" cy="141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33880" y="4930920"/>
                <a:ext cx="139680" cy="14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79680" y="4148280"/>
              <a:ext cx="407664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33520" y="909720"/>
            <a:ext cx="8127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element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nostic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lows for an evaluation of the frequency of each of the textual units in each of the parts of the corpus. It contains two ind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 (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dicating an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se representation in the selected section(s) as compared to the entire corp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ponent that indicates the degree of significance of the dif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B71-0548-4857-AFA4-5373200924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77D5-01A5-4DAE-BFC3-6CC86F74845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000" y="-20340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extometric browsing with the map of parallel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217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222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224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25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226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227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228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8732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Tahoma"/>
              </a:rPr>
              <a:t>French corpus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8920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77777"/>
                </a:solidFill>
                <a:latin typeface="Tahoma"/>
              </a:rPr>
              <a:t>English corpus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232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233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4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19160" y="291312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19160" y="2008080"/>
                <a:ext cx="4519440" cy="37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69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3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244" name="a2_b" descr=""/>
          <p:cNvPicPr/>
          <p:nvPr/>
        </p:nvPicPr>
        <p:blipFill>
          <a:blip r:embed="rId21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245" name="a4_b" descr=""/>
          <p:cNvPicPr/>
          <p:nvPr/>
        </p:nvPicPr>
        <p:blipFill>
          <a:blip r:embed="rId22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246" name="a5_b" descr=""/>
          <p:cNvPicPr/>
          <p:nvPr/>
        </p:nvPicPr>
        <p:blipFill>
          <a:blip r:embed="rId23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247" name="a8_b" descr=""/>
          <p:cNvPicPr/>
          <p:nvPr/>
        </p:nvPicPr>
        <p:blipFill>
          <a:blip r:embed="rId24"/>
          <a:stretch/>
        </p:blipFill>
        <p:spPr>
          <a:xfrm>
            <a:off x="444960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248" name="a7_b" descr=""/>
          <p:cNvPicPr/>
          <p:nvPr/>
        </p:nvPicPr>
        <p:blipFill>
          <a:blip r:embed="rId25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249" name="a8_b" descr=""/>
          <p:cNvPicPr/>
          <p:nvPr/>
        </p:nvPicPr>
        <p:blipFill>
          <a:blip r:embed="rId26"/>
          <a:stretch/>
        </p:blipFill>
        <p:spPr>
          <a:xfrm>
            <a:off x="444960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250" name="a6cor" descr=""/>
          <p:cNvPicPr/>
          <p:nvPr/>
        </p:nvPicPr>
        <p:blipFill>
          <a:blip r:embed="rId27"/>
          <a:stretch/>
        </p:blipFill>
        <p:spPr>
          <a:xfrm>
            <a:off x="446868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8352000" y="3692520"/>
            <a:ext cx="522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a3_b" descr=""/>
          <p:cNvPicPr/>
          <p:nvPr/>
        </p:nvPicPr>
        <p:blipFill>
          <a:blip r:embed="rId28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grpSp>
        <p:nvGrpSpPr>
          <p:cNvPr id="253" name=""/>
          <p:cNvGrpSpPr/>
          <p:nvPr/>
        </p:nvGrpSpPr>
        <p:grpSpPr>
          <a:xfrm>
            <a:off x="4449600" y="1289160"/>
            <a:ext cx="4621320" cy="4981320"/>
            <a:chOff x="4449600" y="1289160"/>
            <a:chExt cx="4621320" cy="4981320"/>
          </a:xfrm>
        </p:grpSpPr>
        <p:grpSp>
          <p:nvGrpSpPr>
            <p:cNvPr id="254" name=""/>
            <p:cNvGrpSpPr/>
            <p:nvPr/>
          </p:nvGrpSpPr>
          <p:grpSpPr>
            <a:xfrm>
              <a:off x="4449600" y="1289160"/>
              <a:ext cx="4621320" cy="4981320"/>
              <a:chOff x="4449600" y="1289160"/>
              <a:chExt cx="4621320" cy="4981320"/>
            </a:xfrm>
          </p:grpSpPr>
          <p:pic>
            <p:nvPicPr>
              <p:cNvPr id="255" name="f8m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49600" y="4419720"/>
                <a:ext cx="4564080" cy="36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f7m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49600" y="4059360"/>
                <a:ext cx="4556160" cy="183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f5m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57880" y="2908440"/>
                <a:ext cx="455580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f3m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49600" y="2008080"/>
                <a:ext cx="456408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9" name="f2m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9600" y="1289160"/>
                <a:ext cx="4556160" cy="552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f9m" descr=""/>
              <p:cNvPicPr/>
              <p:nvPr/>
            </p:nvPicPr>
            <p:blipFill>
              <a:blip r:embed="rId34"/>
              <a:stretch/>
            </p:blipFill>
            <p:spPr>
              <a:xfrm>
                <a:off x="4449600" y="4959360"/>
                <a:ext cx="4548240" cy="18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f1m" descr=""/>
              <p:cNvPicPr/>
              <p:nvPr/>
            </p:nvPicPr>
            <p:blipFill>
              <a:blip r:embed="rId35"/>
              <a:stretch/>
            </p:blipFill>
            <p:spPr>
              <a:xfrm>
                <a:off x="4449600" y="5248440"/>
                <a:ext cx="4621320" cy="10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f4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49600" y="2548080"/>
                <a:ext cx="4548240" cy="19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a6cor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65800" y="3666960"/>
                <a:ext cx="4547880" cy="184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4" name=""/>
            <p:cNvSpPr/>
            <p:nvPr/>
          </p:nvSpPr>
          <p:spPr>
            <a:xfrm>
              <a:off x="8348760" y="3689280"/>
              <a:ext cx="52200" cy="5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174680" y="201312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525680" y="4071960"/>
            <a:ext cx="5840280" cy="2509920"/>
            <a:chOff x="1525680" y="4071960"/>
            <a:chExt cx="5840280" cy="2509920"/>
          </a:xfrm>
        </p:grpSpPr>
        <p:grpSp>
          <p:nvGrpSpPr>
            <p:cNvPr id="267" name=""/>
            <p:cNvGrpSpPr/>
            <p:nvPr/>
          </p:nvGrpSpPr>
          <p:grpSpPr>
            <a:xfrm>
              <a:off x="1525680" y="4071960"/>
              <a:ext cx="5840280" cy="2509920"/>
              <a:chOff x="1525680" y="4071960"/>
              <a:chExt cx="5840280" cy="2509920"/>
            </a:xfrm>
          </p:grpSpPr>
          <p:pic>
            <p:nvPicPr>
              <p:cNvPr id="268" name="ang" descr=""/>
              <p:cNvPicPr/>
              <p:nvPr/>
            </p:nvPicPr>
            <p:blipFill>
              <a:blip r:embed="rId38"/>
              <a:stretch/>
            </p:blipFill>
            <p:spPr>
              <a:xfrm>
                <a:off x="4465800" y="4071960"/>
                <a:ext cx="2900160" cy="250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9" name="fra-sp" descr=""/>
              <p:cNvPicPr/>
              <p:nvPr/>
            </p:nvPicPr>
            <p:blipFill>
              <a:blip r:embed="rId39"/>
              <a:stretch/>
            </p:blipFill>
            <p:spPr>
              <a:xfrm>
                <a:off x="1525680" y="4071960"/>
                <a:ext cx="2911320" cy="2500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0" name="selec" descr=""/>
            <p:cNvPicPr/>
            <p:nvPr/>
          </p:nvPicPr>
          <p:blipFill>
            <a:blip r:embed="rId40"/>
            <a:stretch/>
          </p:blipFill>
          <p:spPr>
            <a:xfrm>
              <a:off x="396396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selec" descr=""/>
            <p:cNvPicPr/>
            <p:nvPr/>
          </p:nvPicPr>
          <p:blipFill>
            <a:blip r:embed="rId41"/>
            <a:stretch/>
          </p:blipFill>
          <p:spPr>
            <a:xfrm>
              <a:off x="6878520" y="4227480"/>
              <a:ext cx="378000" cy="3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139680" y="898560"/>
            <a:ext cx="8621640" cy="1944720"/>
            <a:chOff x="139680" y="898560"/>
            <a:chExt cx="8621640" cy="1944720"/>
          </a:xfrm>
        </p:grpSpPr>
        <p:grpSp>
          <p:nvGrpSpPr>
            <p:cNvPr id="273" name=""/>
            <p:cNvGrpSpPr/>
            <p:nvPr/>
          </p:nvGrpSpPr>
          <p:grpSpPr>
            <a:xfrm>
              <a:off x="139680" y="1932120"/>
              <a:ext cx="8621640" cy="911160"/>
              <a:chOff x="139680" y="1932120"/>
              <a:chExt cx="8621640" cy="91116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139680" y="1932120"/>
                <a:ext cx="8621640" cy="911160"/>
                <a:chOff x="139680" y="1932120"/>
                <a:chExt cx="8621640" cy="911160"/>
              </a:xfrm>
            </p:grpSpPr>
            <p:pic>
              <p:nvPicPr>
                <p:cNvPr id="275" name="section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13968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section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4475160" y="1932120"/>
                  <a:ext cx="42861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77" name="tt" descr=""/>
              <p:cNvPicPr/>
              <p:nvPr/>
            </p:nvPicPr>
            <p:blipFill>
              <a:blip r:embed="rId44"/>
              <a:stretch/>
            </p:blipFill>
            <p:spPr>
              <a:xfrm>
                <a:off x="884160" y="2006640"/>
                <a:ext cx="3487680" cy="49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ttt" descr=""/>
              <p:cNvPicPr/>
              <p:nvPr/>
            </p:nvPicPr>
            <p:blipFill>
              <a:blip r:embed="rId45"/>
              <a:stretch/>
            </p:blipFill>
            <p:spPr>
              <a:xfrm>
                <a:off x="5187960" y="2006640"/>
                <a:ext cx="3379680" cy="58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9" name=""/>
            <p:cNvSpPr/>
            <p:nvPr/>
          </p:nvSpPr>
          <p:spPr>
            <a:xfrm>
              <a:off x="150840" y="1314360"/>
              <a:ext cx="52200" cy="54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75160" y="1314360"/>
              <a:ext cx="52560" cy="54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149400" y="898560"/>
              <a:ext cx="4349520" cy="365040"/>
              <a:chOff x="149400" y="898560"/>
              <a:chExt cx="4349520" cy="365040"/>
            </a:xfrm>
          </p:grpSpPr>
          <p:sp>
            <p:nvSpPr>
              <p:cNvPr id="282" name=""/>
              <p:cNvSpPr/>
              <p:nvPr/>
            </p:nvSpPr>
            <p:spPr>
              <a:xfrm flipH="1">
                <a:off x="149400" y="907920"/>
                <a:ext cx="4349520" cy="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168120" y="898560"/>
                <a:ext cx="4317480" cy="365040"/>
                <a:chOff x="168120" y="898560"/>
                <a:chExt cx="4317480" cy="365040"/>
              </a:xfrm>
            </p:grpSpPr>
            <p:sp>
              <p:nvSpPr>
                <p:cNvPr id="284" name=""/>
                <p:cNvSpPr/>
                <p:nvPr/>
              </p:nvSpPr>
              <p:spPr>
                <a:xfrm flipH="1">
                  <a:off x="168120" y="898560"/>
                  <a:ext cx="2880" cy="32688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482720" y="904680"/>
                  <a:ext cx="2880" cy="358920"/>
                </a:xfrm>
                <a:prstGeom prst="line">
                  <a:avLst/>
                </a:prstGeom>
                <a:ln w="28440">
                  <a:solidFill>
                    <a:srgbClr val="66ff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6" name=""/>
          <p:cNvSpPr/>
          <p:nvPr/>
        </p:nvSpPr>
        <p:spPr>
          <a:xfrm>
            <a:off x="4449600" y="1293840"/>
            <a:ext cx="0" cy="498168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42960" y="4829040"/>
            <a:ext cx="1047960" cy="18108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62480" y="4857840"/>
            <a:ext cx="933480" cy="295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920" y="4924440"/>
            <a:ext cx="1819080" cy="95400"/>
          </a:xfrm>
          <a:prstGeom prst="line">
            <a:avLst/>
          </a:prstGeom>
          <a:ln w="28440">
            <a:solidFill>
              <a:srgbClr val="66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l3_petit" descr=""/>
          <p:cNvPicPr/>
          <p:nvPr/>
        </p:nvPicPr>
        <p:blipFill>
          <a:blip r:embed="rId46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298000" y="888840"/>
            <a:ext cx="7254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22B5-1B75-4558-A13D-94DA7A5C047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31760" y="3664080"/>
            <a:ext cx="4548240" cy="183960"/>
            <a:chOff x="131760" y="3664080"/>
            <a:chExt cx="4548240" cy="183960"/>
          </a:xfrm>
        </p:grpSpPr>
        <p:pic>
          <p:nvPicPr>
            <p:cNvPr id="298" name="a6cor" descr=""/>
            <p:cNvPicPr/>
            <p:nvPr/>
          </p:nvPicPr>
          <p:blipFill>
            <a:blip r:embed="rId1"/>
            <a:stretch/>
          </p:blipFill>
          <p:spPr>
            <a:xfrm>
              <a:off x="131760" y="3664080"/>
              <a:ext cx="454824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014720" y="3689280"/>
              <a:ext cx="5256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a6cor" descr=""/>
          <p:cNvPicPr/>
          <p:nvPr/>
        </p:nvPicPr>
        <p:blipFill>
          <a:blip r:embed="rId2"/>
          <a:stretch/>
        </p:blipFill>
        <p:spPr>
          <a:xfrm>
            <a:off x="119160" y="5253120"/>
            <a:ext cx="4548240" cy="183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014720" y="3689280"/>
            <a:ext cx="5256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a8_b" descr=""/>
          <p:cNvPicPr/>
          <p:nvPr/>
        </p:nvPicPr>
        <p:blipFill>
          <a:blip r:embed="rId3"/>
          <a:stretch/>
        </p:blipFill>
        <p:spPr>
          <a:xfrm>
            <a:off x="131760" y="4964040"/>
            <a:ext cx="4548240" cy="184320"/>
          </a:xfrm>
          <a:prstGeom prst="rect">
            <a:avLst/>
          </a:prstGeom>
          <a:ln w="0">
            <a:noFill/>
          </a:ln>
        </p:spPr>
      </p:pic>
      <p:pic>
        <p:nvPicPr>
          <p:cNvPr id="303" name="a8_b" descr=""/>
          <p:cNvPicPr/>
          <p:nvPr/>
        </p:nvPicPr>
        <p:blipFill>
          <a:blip r:embed="rId4"/>
          <a:stretch/>
        </p:blipFill>
        <p:spPr>
          <a:xfrm>
            <a:off x="131760" y="4424400"/>
            <a:ext cx="4519440" cy="366840"/>
          </a:xfrm>
          <a:prstGeom prst="rect">
            <a:avLst/>
          </a:prstGeom>
          <a:ln w="0">
            <a:noFill/>
          </a:ln>
        </p:spPr>
      </p:pic>
      <p:pic>
        <p:nvPicPr>
          <p:cNvPr id="304" name="a7_b" descr=""/>
          <p:cNvPicPr/>
          <p:nvPr/>
        </p:nvPicPr>
        <p:blipFill>
          <a:blip r:embed="rId5"/>
          <a:stretch/>
        </p:blipFill>
        <p:spPr>
          <a:xfrm>
            <a:off x="13176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305" name="a5_b" descr=""/>
          <p:cNvPicPr/>
          <p:nvPr/>
        </p:nvPicPr>
        <p:blipFill>
          <a:blip r:embed="rId6"/>
          <a:stretch/>
        </p:blipFill>
        <p:spPr>
          <a:xfrm>
            <a:off x="13176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06" name="a4_b" descr=""/>
          <p:cNvPicPr/>
          <p:nvPr/>
        </p:nvPicPr>
        <p:blipFill>
          <a:blip r:embed="rId7"/>
          <a:stretch/>
        </p:blipFill>
        <p:spPr>
          <a:xfrm>
            <a:off x="13176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07" name="a3_b" descr=""/>
          <p:cNvPicPr/>
          <p:nvPr/>
        </p:nvPicPr>
        <p:blipFill>
          <a:blip r:embed="rId8"/>
          <a:stretch/>
        </p:blipFill>
        <p:spPr>
          <a:xfrm>
            <a:off x="119160" y="201312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308" name="a1_b" descr=""/>
          <p:cNvPicPr/>
          <p:nvPr/>
        </p:nvPicPr>
        <p:blipFill>
          <a:blip r:embed="rId9"/>
          <a:stretch/>
        </p:blipFill>
        <p:spPr>
          <a:xfrm>
            <a:off x="117360" y="5253120"/>
            <a:ext cx="4621320" cy="1022400"/>
          </a:xfrm>
          <a:prstGeom prst="rect">
            <a:avLst/>
          </a:prstGeom>
          <a:ln w="0">
            <a:noFill/>
          </a:ln>
        </p:spPr>
      </p:pic>
      <p:pic>
        <p:nvPicPr>
          <p:cNvPr id="309" name="a2_b" descr=""/>
          <p:cNvPicPr/>
          <p:nvPr/>
        </p:nvPicPr>
        <p:blipFill>
          <a:blip r:embed="rId10"/>
          <a:stretch/>
        </p:blipFill>
        <p:spPr>
          <a:xfrm>
            <a:off x="131760" y="1293840"/>
            <a:ext cx="4556160" cy="552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69800" y="8794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ahoma"/>
              </a:rPr>
              <a:t>French corpus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1040" y="87948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ahoma"/>
              </a:rPr>
              <a:t>English corpus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9160" y="1293840"/>
            <a:ext cx="4620960" cy="4981680"/>
            <a:chOff x="119160" y="1293840"/>
            <a:chExt cx="4620960" cy="4981680"/>
          </a:xfrm>
        </p:grpSpPr>
        <p:grpSp>
          <p:nvGrpSpPr>
            <p:cNvPr id="313" name=""/>
            <p:cNvGrpSpPr/>
            <p:nvPr/>
          </p:nvGrpSpPr>
          <p:grpSpPr>
            <a:xfrm>
              <a:off x="119160" y="1293840"/>
              <a:ext cx="4620960" cy="4981680"/>
              <a:chOff x="119160" y="1293840"/>
              <a:chExt cx="4620960" cy="4981680"/>
            </a:xfrm>
          </p:grpSpPr>
          <p:pic>
            <p:nvPicPr>
              <p:cNvPr id="314" name="a9" descr=""/>
              <p:cNvPicPr/>
              <p:nvPr/>
            </p:nvPicPr>
            <p:blipFill>
              <a:blip r:embed="rId11"/>
              <a:stretch/>
            </p:blipFill>
            <p:spPr>
              <a:xfrm>
                <a:off x="131760" y="4964040"/>
                <a:ext cx="4548240" cy="1843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5" name="a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31760" y="4424400"/>
                <a:ext cx="4519440" cy="3668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6" name="a7" descr=""/>
              <p:cNvPicPr/>
              <p:nvPr/>
            </p:nvPicPr>
            <p:blipFill>
              <a:blip r:embed="rId13"/>
              <a:stretch/>
            </p:blipFill>
            <p:spPr>
              <a:xfrm>
                <a:off x="131760" y="4064040"/>
                <a:ext cx="455616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7" name="a5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1760" y="2913120"/>
                <a:ext cx="4556160" cy="5522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8" name="a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31760" y="2552760"/>
                <a:ext cx="4548240" cy="19044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19" name="a3" descr=""/>
              <p:cNvPicPr/>
              <p:nvPr/>
            </p:nvPicPr>
            <p:blipFill>
              <a:blip r:embed="rId16"/>
              <a:stretch/>
            </p:blipFill>
            <p:spPr>
              <a:xfrm>
                <a:off x="131760" y="2013120"/>
                <a:ext cx="4519440" cy="374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20" name="a1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9160" y="5253120"/>
                <a:ext cx="4620960" cy="10224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21" name="a2" descr=""/>
              <p:cNvPicPr/>
              <p:nvPr/>
            </p:nvPicPr>
            <p:blipFill>
              <a:blip r:embed="rId18"/>
              <a:stretch/>
            </p:blipFill>
            <p:spPr>
              <a:xfrm>
                <a:off x="131760" y="1293840"/>
                <a:ext cx="4556160" cy="55260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322" name="a6cor" descr=""/>
              <p:cNvPicPr/>
              <p:nvPr/>
            </p:nvPicPr>
            <p:blipFill>
              <a:blip r:embed="rId19"/>
              <a:stretch/>
            </p:blipFill>
            <p:spPr>
              <a:xfrm>
                <a:off x="139680" y="3664080"/>
                <a:ext cx="4548240" cy="18396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</p:grpSp>
        <p:sp>
          <p:nvSpPr>
            <p:cNvPr id="323" name=""/>
            <p:cNvSpPr/>
            <p:nvPr/>
          </p:nvSpPr>
          <p:spPr>
            <a:xfrm>
              <a:off x="4022640" y="3689280"/>
              <a:ext cx="52560" cy="54000"/>
            </a:xfrm>
            <a:prstGeom prst="rect">
              <a:avLst/>
            </a:prstGeom>
            <a:solidFill>
              <a:srgbClr val="0000ff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4" name="a1_b" descr=""/>
          <p:cNvPicPr/>
          <p:nvPr/>
        </p:nvPicPr>
        <p:blipFill>
          <a:blip r:embed="rId20"/>
          <a:stretch/>
        </p:blipFill>
        <p:spPr>
          <a:xfrm>
            <a:off x="4449600" y="5253120"/>
            <a:ext cx="4602240" cy="1017360"/>
          </a:xfrm>
          <a:prstGeom prst="rect">
            <a:avLst/>
          </a:prstGeom>
          <a:ln w="0">
            <a:noFill/>
          </a:ln>
        </p:spPr>
      </p:pic>
      <p:pic>
        <p:nvPicPr>
          <p:cNvPr id="325" name="a3_b" descr=""/>
          <p:cNvPicPr/>
          <p:nvPr/>
        </p:nvPicPr>
        <p:blipFill>
          <a:blip r:embed="rId21"/>
          <a:stretch/>
        </p:blipFill>
        <p:spPr>
          <a:xfrm>
            <a:off x="4449600" y="2013120"/>
            <a:ext cx="4519800" cy="374400"/>
          </a:xfrm>
          <a:prstGeom prst="rect">
            <a:avLst/>
          </a:prstGeom>
          <a:ln w="0">
            <a:noFill/>
          </a:ln>
        </p:spPr>
      </p:pic>
      <p:pic>
        <p:nvPicPr>
          <p:cNvPr id="326" name="a2_b" descr=""/>
          <p:cNvPicPr/>
          <p:nvPr/>
        </p:nvPicPr>
        <p:blipFill>
          <a:blip r:embed="rId22"/>
          <a:stretch/>
        </p:blipFill>
        <p:spPr>
          <a:xfrm>
            <a:off x="4449600" y="129384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327" name="a4_b" descr=""/>
          <p:cNvPicPr/>
          <p:nvPr/>
        </p:nvPicPr>
        <p:blipFill>
          <a:blip r:embed="rId23"/>
          <a:stretch/>
        </p:blipFill>
        <p:spPr>
          <a:xfrm>
            <a:off x="4449600" y="255276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28" name="a5_b" descr=""/>
          <p:cNvPicPr/>
          <p:nvPr/>
        </p:nvPicPr>
        <p:blipFill>
          <a:blip r:embed="rId24"/>
          <a:stretch/>
        </p:blipFill>
        <p:spPr>
          <a:xfrm>
            <a:off x="4449600" y="291312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29" name="a8_b" descr=""/>
          <p:cNvPicPr/>
          <p:nvPr/>
        </p:nvPicPr>
        <p:blipFill>
          <a:blip r:embed="rId25"/>
          <a:stretch/>
        </p:blipFill>
        <p:spPr>
          <a:xfrm>
            <a:off x="4468680" y="4424400"/>
            <a:ext cx="4519800" cy="366840"/>
          </a:xfrm>
          <a:prstGeom prst="rect">
            <a:avLst/>
          </a:prstGeom>
          <a:ln w="0">
            <a:noFill/>
          </a:ln>
        </p:spPr>
      </p:pic>
      <p:pic>
        <p:nvPicPr>
          <p:cNvPr id="330" name="a7_b" descr=""/>
          <p:cNvPicPr/>
          <p:nvPr/>
        </p:nvPicPr>
        <p:blipFill>
          <a:blip r:embed="rId26"/>
          <a:stretch/>
        </p:blipFill>
        <p:spPr>
          <a:xfrm>
            <a:off x="4449600" y="4064040"/>
            <a:ext cx="4556160" cy="183960"/>
          </a:xfrm>
          <a:prstGeom prst="rect">
            <a:avLst/>
          </a:prstGeom>
          <a:ln w="0">
            <a:noFill/>
          </a:ln>
        </p:spPr>
      </p:pic>
      <p:pic>
        <p:nvPicPr>
          <p:cNvPr id="331" name="a8_b" descr=""/>
          <p:cNvPicPr/>
          <p:nvPr/>
        </p:nvPicPr>
        <p:blipFill>
          <a:blip r:embed="rId27"/>
          <a:stretch/>
        </p:blipFill>
        <p:spPr>
          <a:xfrm>
            <a:off x="4457880" y="4964040"/>
            <a:ext cx="4539960" cy="184320"/>
          </a:xfrm>
          <a:prstGeom prst="rect">
            <a:avLst/>
          </a:prstGeom>
          <a:ln w="0">
            <a:noFill/>
          </a:ln>
        </p:spPr>
      </p:pic>
      <p:pic>
        <p:nvPicPr>
          <p:cNvPr id="332" name="a6cor" descr=""/>
          <p:cNvPicPr/>
          <p:nvPr/>
        </p:nvPicPr>
        <p:blipFill>
          <a:blip r:embed="rId28"/>
          <a:stretch/>
        </p:blipFill>
        <p:spPr>
          <a:xfrm>
            <a:off x="4448160" y="3666960"/>
            <a:ext cx="4548240" cy="1843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8331120" y="3692520"/>
            <a:ext cx="52560" cy="540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1924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urier New"/>
              </a:rPr>
              <a:t>fonctionn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430880" y="1289160"/>
            <a:ext cx="4645440" cy="4980240"/>
            <a:chOff x="4430880" y="1289160"/>
            <a:chExt cx="4645440" cy="4980240"/>
          </a:xfrm>
        </p:grpSpPr>
        <p:grpSp>
          <p:nvGrpSpPr>
            <p:cNvPr id="336" name=""/>
            <p:cNvGrpSpPr/>
            <p:nvPr/>
          </p:nvGrpSpPr>
          <p:grpSpPr>
            <a:xfrm>
              <a:off x="4430880" y="1289160"/>
              <a:ext cx="4645440" cy="4980240"/>
              <a:chOff x="4430880" y="1289160"/>
              <a:chExt cx="4645440" cy="4980240"/>
            </a:xfrm>
          </p:grpSpPr>
          <p:pic>
            <p:nvPicPr>
              <p:cNvPr id="337" name="_1" descr=""/>
              <p:cNvPicPr/>
              <p:nvPr/>
            </p:nvPicPr>
            <p:blipFill>
              <a:blip r:embed="rId29"/>
              <a:stretch/>
            </p:blipFill>
            <p:spPr>
              <a:xfrm>
                <a:off x="4430880" y="1289160"/>
                <a:ext cx="4584960" cy="55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_2" descr=""/>
              <p:cNvPicPr/>
              <p:nvPr/>
            </p:nvPicPr>
            <p:blipFill>
              <a:blip r:embed="rId30"/>
              <a:stretch/>
            </p:blipFill>
            <p:spPr>
              <a:xfrm>
                <a:off x="4430880" y="2006280"/>
                <a:ext cx="4593240" cy="37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f5" descr=""/>
              <p:cNvPicPr/>
              <p:nvPr/>
            </p:nvPicPr>
            <p:blipFill>
              <a:blip r:embed="rId31"/>
              <a:stretch/>
            </p:blipFill>
            <p:spPr>
              <a:xfrm>
                <a:off x="4430880" y="2909520"/>
                <a:ext cx="4584960" cy="55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_8" descr=""/>
              <p:cNvPicPr/>
              <p:nvPr/>
            </p:nvPicPr>
            <p:blipFill>
              <a:blip r:embed="rId32"/>
              <a:stretch/>
            </p:blipFill>
            <p:spPr>
              <a:xfrm>
                <a:off x="4430880" y="4421880"/>
                <a:ext cx="4593240" cy="370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1" name=""/>
              <p:cNvGrpSpPr/>
              <p:nvPr/>
            </p:nvGrpSpPr>
            <p:grpSpPr>
              <a:xfrm>
                <a:off x="4445280" y="5250600"/>
                <a:ext cx="4631040" cy="1018800"/>
                <a:chOff x="4445280" y="5250600"/>
                <a:chExt cx="4631040" cy="1018800"/>
              </a:xfrm>
            </p:grpSpPr>
            <p:pic>
              <p:nvPicPr>
                <p:cNvPr id="342" name="a1_b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4445280" y="5250600"/>
                  <a:ext cx="4631040" cy="101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3" name=""/>
                <p:cNvSpPr/>
                <p:nvPr/>
              </p:nvSpPr>
              <p:spPr>
                <a:xfrm>
                  <a:off x="8084520" y="5267880"/>
                  <a:ext cx="52200" cy="54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8511120" y="5355360"/>
                  <a:ext cx="52560" cy="54000"/>
                </a:xfrm>
                <a:prstGeom prst="rect">
                  <a:avLst/>
                </a:prstGeom>
                <a:solidFill>
                  <a:srgbClr val="ffcc66"/>
                </a:solid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430880" y="3664800"/>
                <a:ext cx="4576680" cy="184320"/>
                <a:chOff x="4430880" y="3664800"/>
                <a:chExt cx="4576680" cy="184320"/>
              </a:xfrm>
            </p:grpSpPr>
            <p:pic>
              <p:nvPicPr>
                <p:cNvPr id="346" name="a6cor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430880" y="3664800"/>
                  <a:ext cx="457668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7" name=""/>
                <p:cNvSpPr/>
                <p:nvPr/>
              </p:nvSpPr>
              <p:spPr>
                <a:xfrm>
                  <a:off x="8338320" y="3687120"/>
                  <a:ext cx="52560" cy="54000"/>
                </a:xfrm>
                <a:prstGeom prst="rect">
                  <a:avLst/>
                </a:prstGeom>
                <a:solidFill>
                  <a:srgbClr val="ff3300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8091360" y="5267880"/>
              <a:ext cx="59040" cy="60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512920" y="5354280"/>
              <a:ext cx="60480" cy="619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5253120" y="2022480"/>
            <a:ext cx="283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urier New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30880" y="1289160"/>
            <a:ext cx="0" cy="498132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449600" y="2552760"/>
            <a:ext cx="4692600" cy="3730320"/>
            <a:chOff x="4449600" y="2552760"/>
            <a:chExt cx="4692600" cy="3730320"/>
          </a:xfrm>
        </p:grpSpPr>
        <p:pic>
          <p:nvPicPr>
            <p:cNvPr id="353" name="f7m" descr=""/>
            <p:cNvPicPr/>
            <p:nvPr/>
          </p:nvPicPr>
          <p:blipFill>
            <a:blip r:embed="rId35"/>
            <a:stretch/>
          </p:blipFill>
          <p:spPr>
            <a:xfrm>
              <a:off x="4449600" y="4060800"/>
              <a:ext cx="4556160" cy="18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4" name=""/>
            <p:cNvGrpSpPr/>
            <p:nvPr/>
          </p:nvGrpSpPr>
          <p:grpSpPr>
            <a:xfrm>
              <a:off x="4456080" y="5243400"/>
              <a:ext cx="4686120" cy="1039680"/>
              <a:chOff x="4456080" y="5243400"/>
              <a:chExt cx="4686120" cy="1039680"/>
            </a:xfrm>
          </p:grpSpPr>
          <p:pic>
            <p:nvPicPr>
              <p:cNvPr id="355" name="f1m" descr=""/>
              <p:cNvPicPr/>
              <p:nvPr/>
            </p:nvPicPr>
            <p:blipFill>
              <a:blip r:embed="rId36"/>
              <a:stretch/>
            </p:blipFill>
            <p:spPr>
              <a:xfrm>
                <a:off x="4456080" y="5243400"/>
                <a:ext cx="4686120" cy="10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8137800" y="5259240"/>
                <a:ext cx="59400" cy="612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67280" y="5346720"/>
                <a:ext cx="61200" cy="626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8" name="f9m" descr=""/>
            <p:cNvPicPr/>
            <p:nvPr/>
          </p:nvPicPr>
          <p:blipFill>
            <a:blip r:embed="rId37"/>
            <a:stretch/>
          </p:blipFill>
          <p:spPr>
            <a:xfrm>
              <a:off x="4457880" y="4964040"/>
              <a:ext cx="4541760" cy="18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f4m" descr=""/>
            <p:cNvPicPr/>
            <p:nvPr/>
          </p:nvPicPr>
          <p:blipFill>
            <a:blip r:embed="rId38"/>
            <a:stretch/>
          </p:blipFill>
          <p:spPr>
            <a:xfrm>
              <a:off x="4449600" y="2552760"/>
              <a:ext cx="454824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0" name=""/>
          <p:cNvSpPr/>
          <p:nvPr/>
        </p:nvSpPr>
        <p:spPr>
          <a:xfrm>
            <a:off x="4390920" y="5219640"/>
            <a:ext cx="4238640" cy="108576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903920" y="5202360"/>
            <a:ext cx="2900160" cy="1655640"/>
            <a:chOff x="4903920" y="5202360"/>
            <a:chExt cx="2900160" cy="1655640"/>
          </a:xfrm>
        </p:grpSpPr>
        <p:pic>
          <p:nvPicPr>
            <p:cNvPr id="362" name="bien" descr=""/>
            <p:cNvPicPr/>
            <p:nvPr/>
          </p:nvPicPr>
          <p:blipFill>
            <a:blip r:embed="rId39"/>
            <a:stretch/>
          </p:blipFill>
          <p:spPr>
            <a:xfrm>
              <a:off x="4903920" y="5202360"/>
              <a:ext cx="29001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selec" descr=""/>
            <p:cNvPicPr/>
            <p:nvPr/>
          </p:nvPicPr>
          <p:blipFill>
            <a:blip r:embed="rId40"/>
            <a:stretch/>
          </p:blipFill>
          <p:spPr>
            <a:xfrm>
              <a:off x="7335720" y="5265720"/>
              <a:ext cx="341280" cy="33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4743360" y="5962680"/>
            <a:ext cx="933480" cy="3240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l3_petit" descr=""/>
          <p:cNvPicPr/>
          <p:nvPr/>
        </p:nvPicPr>
        <p:blipFill>
          <a:blip r:embed="rId41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8298000" y="888840"/>
            <a:ext cx="7254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1360" y="0"/>
            <a:ext cx="87375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extometric browsing with the map of parallel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5760" y="-360"/>
            <a:ext cx="8131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Localisation of non-corresponding z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3480" y="1434960"/>
            <a:ext cx="50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ahoma"/>
              </a:rPr>
              <a:t>fonctionnaire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Tot.=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1063800"/>
            <a:ext cx="377208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ers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10)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officials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 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servants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Frq.P.=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724280" y="1143000"/>
            <a:ext cx="0" cy="138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99320" y="1143000"/>
            <a:ext cx="380880" cy="1422360"/>
          </a:xfrm>
          <a:custGeom>
            <a:avLst/>
            <a:gdLst>
              <a:gd name="textAreaLeft" fmla="*/ 0 w 380880"/>
              <a:gd name="textAreaRight" fmla="*/ 137520 w 380880"/>
              <a:gd name="textAreaTop" fmla="*/ 37080 h 1422360"/>
              <a:gd name="textAreaBottom" fmla="*/ 1385280 h 142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53280" y="1612800"/>
            <a:ext cx="7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a5_b" descr=""/>
          <p:cNvPicPr/>
          <p:nvPr/>
        </p:nvPicPr>
        <p:blipFill>
          <a:blip r:embed="rId1"/>
          <a:stretch/>
        </p:blipFill>
        <p:spPr>
          <a:xfrm>
            <a:off x="2635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76" name="a4_b" descr=""/>
          <p:cNvPicPr/>
          <p:nvPr/>
        </p:nvPicPr>
        <p:blipFill>
          <a:blip r:embed="rId2"/>
          <a:stretch/>
        </p:blipFill>
        <p:spPr>
          <a:xfrm>
            <a:off x="263520" y="44578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77" name="a3_b" descr=""/>
          <p:cNvPicPr/>
          <p:nvPr/>
        </p:nvPicPr>
        <p:blipFill>
          <a:blip r:embed="rId3"/>
          <a:stretch/>
        </p:blipFill>
        <p:spPr>
          <a:xfrm>
            <a:off x="250920" y="39178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378" name="a2_b" descr=""/>
          <p:cNvPicPr/>
          <p:nvPr/>
        </p:nvPicPr>
        <p:blipFill>
          <a:blip r:embed="rId4"/>
          <a:stretch/>
        </p:blipFill>
        <p:spPr>
          <a:xfrm>
            <a:off x="263520" y="3198960"/>
            <a:ext cx="4556160" cy="5522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919080" y="27972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ahoma"/>
              </a:rPr>
              <a:t>volet franç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60960" y="279720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Tahoma"/>
              </a:rPr>
              <a:t>volet angl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a5" descr=""/>
          <p:cNvPicPr/>
          <p:nvPr/>
        </p:nvPicPr>
        <p:blipFill>
          <a:blip r:embed="rId5"/>
          <a:stretch/>
        </p:blipFill>
        <p:spPr>
          <a:xfrm>
            <a:off x="2635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82" name="a3" descr=""/>
          <p:cNvPicPr/>
          <p:nvPr/>
        </p:nvPicPr>
        <p:blipFill>
          <a:blip r:embed="rId6"/>
          <a:stretch/>
        </p:blipFill>
        <p:spPr>
          <a:xfrm>
            <a:off x="263520" y="3917880"/>
            <a:ext cx="4519440" cy="374760"/>
          </a:xfrm>
          <a:prstGeom prst="rect">
            <a:avLst/>
          </a:prstGeom>
          <a:ln w="0">
            <a:noFill/>
          </a:ln>
        </p:spPr>
      </p:pic>
      <p:pic>
        <p:nvPicPr>
          <p:cNvPr id="383" name="a2" descr=""/>
          <p:cNvPicPr/>
          <p:nvPr/>
        </p:nvPicPr>
        <p:blipFill>
          <a:blip r:embed="rId7"/>
          <a:stretch/>
        </p:blipFill>
        <p:spPr>
          <a:xfrm>
            <a:off x="263520" y="31989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84" name="a3_b" descr=""/>
          <p:cNvPicPr/>
          <p:nvPr/>
        </p:nvPicPr>
        <p:blipFill>
          <a:blip r:embed="rId8"/>
          <a:stretch/>
        </p:blipFill>
        <p:spPr>
          <a:xfrm>
            <a:off x="4610160" y="3927600"/>
            <a:ext cx="4519440" cy="374400"/>
          </a:xfrm>
          <a:prstGeom prst="rect">
            <a:avLst/>
          </a:prstGeom>
          <a:ln w="0">
            <a:noFill/>
          </a:ln>
        </p:spPr>
      </p:pic>
      <p:pic>
        <p:nvPicPr>
          <p:cNvPr id="385" name="a2_b" descr=""/>
          <p:cNvPicPr/>
          <p:nvPr/>
        </p:nvPicPr>
        <p:blipFill>
          <a:blip r:embed="rId9"/>
          <a:stretch/>
        </p:blipFill>
        <p:spPr>
          <a:xfrm>
            <a:off x="4581360" y="319896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86" name="a5_b" descr=""/>
          <p:cNvPicPr/>
          <p:nvPr/>
        </p:nvPicPr>
        <p:blipFill>
          <a:blip r:embed="rId10"/>
          <a:stretch/>
        </p:blipFill>
        <p:spPr>
          <a:xfrm>
            <a:off x="458136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87" name="_1" descr=""/>
          <p:cNvPicPr/>
          <p:nvPr/>
        </p:nvPicPr>
        <p:blipFill>
          <a:blip r:embed="rId11"/>
          <a:stretch/>
        </p:blipFill>
        <p:spPr>
          <a:xfrm>
            <a:off x="4579920" y="3200400"/>
            <a:ext cx="4556160" cy="552600"/>
          </a:xfrm>
          <a:prstGeom prst="rect">
            <a:avLst/>
          </a:prstGeom>
          <a:ln w="0">
            <a:noFill/>
          </a:ln>
        </p:spPr>
      </p:pic>
      <p:pic>
        <p:nvPicPr>
          <p:cNvPr id="388" name="_2" descr=""/>
          <p:cNvPicPr/>
          <p:nvPr/>
        </p:nvPicPr>
        <p:blipFill>
          <a:blip r:embed="rId12"/>
          <a:stretch/>
        </p:blipFill>
        <p:spPr>
          <a:xfrm>
            <a:off x="4579920" y="3916440"/>
            <a:ext cx="4564080" cy="377640"/>
          </a:xfrm>
          <a:prstGeom prst="rect">
            <a:avLst/>
          </a:prstGeom>
          <a:ln w="0">
            <a:noFill/>
          </a:ln>
        </p:spPr>
      </p:pic>
      <p:pic>
        <p:nvPicPr>
          <p:cNvPr id="389" name="f5" descr=""/>
          <p:cNvPicPr/>
          <p:nvPr/>
        </p:nvPicPr>
        <p:blipFill>
          <a:blip r:embed="rId13"/>
          <a:stretch/>
        </p:blipFill>
        <p:spPr>
          <a:xfrm>
            <a:off x="4579920" y="4818240"/>
            <a:ext cx="4556160" cy="552240"/>
          </a:xfrm>
          <a:prstGeom prst="rect">
            <a:avLst/>
          </a:prstGeom>
          <a:ln w="0">
            <a:noFill/>
          </a:ln>
        </p:spPr>
      </p:pic>
      <p:pic>
        <p:nvPicPr>
          <p:cNvPr id="390" name="section" descr=""/>
          <p:cNvPicPr/>
          <p:nvPr/>
        </p:nvPicPr>
        <p:blipFill>
          <a:blip r:embed="rId14"/>
          <a:stretch/>
        </p:blipFill>
        <p:spPr>
          <a:xfrm>
            <a:off x="276120" y="54608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391" name="section" descr=""/>
          <p:cNvPicPr/>
          <p:nvPr/>
        </p:nvPicPr>
        <p:blipFill>
          <a:blip r:embed="rId15"/>
          <a:stretch/>
        </p:blipFill>
        <p:spPr>
          <a:xfrm>
            <a:off x="4581360" y="5460840"/>
            <a:ext cx="4286520" cy="911520"/>
          </a:xfrm>
          <a:prstGeom prst="rect">
            <a:avLst/>
          </a:prstGeom>
          <a:ln w="0">
            <a:noFill/>
          </a:ln>
        </p:spPr>
      </p:pic>
      <p:pic>
        <p:nvPicPr>
          <p:cNvPr id="392" name="a4" descr=""/>
          <p:cNvPicPr/>
          <p:nvPr/>
        </p:nvPicPr>
        <p:blipFill>
          <a:blip r:embed="rId16"/>
          <a:stretch/>
        </p:blipFill>
        <p:spPr>
          <a:xfrm>
            <a:off x="263520" y="4457880"/>
            <a:ext cx="4548240" cy="190440"/>
          </a:xfrm>
          <a:prstGeom prst="rect">
            <a:avLst/>
          </a:prstGeom>
          <a:ln w="0">
            <a:noFill/>
          </a:ln>
        </p:spPr>
      </p:pic>
      <p:pic>
        <p:nvPicPr>
          <p:cNvPr id="393" name="a4_b" descr=""/>
          <p:cNvPicPr/>
          <p:nvPr/>
        </p:nvPicPr>
        <p:blipFill>
          <a:blip r:embed="rId17"/>
          <a:stretch/>
        </p:blipFill>
        <p:spPr>
          <a:xfrm>
            <a:off x="4581360" y="4457880"/>
            <a:ext cx="4548240" cy="19044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546120" y="4457880"/>
            <a:ext cx="8583480" cy="1752480"/>
            <a:chOff x="546120" y="4457880"/>
            <a:chExt cx="8583480" cy="1752480"/>
          </a:xfrm>
        </p:grpSpPr>
        <p:grpSp>
          <p:nvGrpSpPr>
            <p:cNvPr id="395" name=""/>
            <p:cNvGrpSpPr/>
            <p:nvPr/>
          </p:nvGrpSpPr>
          <p:grpSpPr>
            <a:xfrm>
              <a:off x="546120" y="4457880"/>
              <a:ext cx="8583480" cy="1752480"/>
              <a:chOff x="546120" y="4457880"/>
              <a:chExt cx="8583480" cy="1752480"/>
            </a:xfrm>
          </p:grpSpPr>
          <p:pic>
            <p:nvPicPr>
              <p:cNvPr id="396" name="textFF" descr=""/>
              <p:cNvPicPr/>
              <p:nvPr/>
            </p:nvPicPr>
            <p:blipFill>
              <a:blip r:embed="rId18"/>
              <a:stretch/>
            </p:blipFill>
            <p:spPr>
              <a:xfrm>
                <a:off x="996840" y="5530680"/>
                <a:ext cx="3473640" cy="54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textA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22960" y="5537160"/>
                <a:ext cx="3502080" cy="67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f4m" descr=""/>
              <p:cNvPicPr/>
              <p:nvPr/>
            </p:nvPicPr>
            <p:blipFill>
              <a:blip r:embed="rId20"/>
              <a:stretch/>
            </p:blipFill>
            <p:spPr>
              <a:xfrm>
                <a:off x="4581720" y="4457880"/>
                <a:ext cx="454788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>
                <a:off x="546120" y="4567320"/>
                <a:ext cx="42840" cy="42840"/>
              </a:xfrm>
              <a:prstGeom prst="rect">
                <a:avLst/>
              </a:prstGeom>
              <a:solidFill>
                <a:srgbClr val="0000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0" name="main" descr=""/>
            <p:cNvPicPr/>
            <p:nvPr/>
          </p:nvPicPr>
          <p:blipFill>
            <a:blip r:embed="rId21"/>
            <a:stretch/>
          </p:blipFill>
          <p:spPr>
            <a:xfrm>
              <a:off x="4665600" y="4556160"/>
              <a:ext cx="17640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/>
          <p:cNvSpPr/>
          <p:nvPr/>
        </p:nvSpPr>
        <p:spPr>
          <a:xfrm>
            <a:off x="4857840" y="4229280"/>
            <a:ext cx="3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62640" y="3193920"/>
            <a:ext cx="0" cy="217656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39280" y="4175280"/>
            <a:ext cx="4349880" cy="365040"/>
            <a:chOff x="539280" y="4175280"/>
            <a:chExt cx="4349880" cy="365040"/>
          </a:xfrm>
        </p:grpSpPr>
        <p:sp>
          <p:nvSpPr>
            <p:cNvPr id="404" name=""/>
            <p:cNvSpPr/>
            <p:nvPr/>
          </p:nvSpPr>
          <p:spPr>
            <a:xfrm flipH="1">
              <a:off x="539280" y="4184640"/>
              <a:ext cx="434988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558360" y="4175280"/>
              <a:ext cx="4318560" cy="365040"/>
              <a:chOff x="558360" y="4175280"/>
              <a:chExt cx="4318560" cy="36504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558360" y="4175280"/>
                <a:ext cx="3240" cy="32688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873680" y="4181400"/>
                <a:ext cx="3240" cy="358920"/>
              </a:xfrm>
              <a:prstGeom prst="line">
                <a:avLst/>
              </a:prstGeom>
              <a:ln w="28440">
                <a:solidFill>
                  <a:srgbClr val="66ff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l3_petit" descr=""/>
          <p:cNvPicPr/>
          <p:nvPr/>
        </p:nvPicPr>
        <p:blipFill>
          <a:blip r:embed="rId22"/>
          <a:stretch/>
        </p:blipFill>
        <p:spPr>
          <a:xfrm>
            <a:off x="101520" y="6500880"/>
            <a:ext cx="1371600" cy="285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298000" y="888840"/>
            <a:ext cx="72540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521-0F94-4DCD-8158-BA6B1BFFD7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9760" y="164880"/>
            <a:ext cx="857268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hoosing textual units for</a:t>
            </a: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extometric browsing</a:t>
            </a:r>
            <a:r>
              <a:rPr b="0" lang="en-GB" sz="3600" spc="-1" strike="noStrike">
                <a:solidFill>
                  <a:srgbClr val="003399"/>
                </a:solidFill>
                <a:latin typeface="Times New Roman"/>
              </a:rPr>
              <a:t>:</a:t>
            </a:r>
            <a:br>
              <a:rPr sz="3600"/>
            </a:b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Generalised Types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gen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6680" y="2031840"/>
            <a:ext cx="2819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d Se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occur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65600" y="2197080"/>
            <a:ext cx="2882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 of words sharing common semant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54680" y="1866960"/>
            <a:ext cx="31370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 of part-of-speech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588680" y="313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75120" y="3238560"/>
            <a:ext cx="231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ministr+ (administration, administrer, etc.)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8280" y="3301920"/>
            <a:ext cx="2577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quéran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nction pub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5680" y="4838760"/>
            <a:ext cx="257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vil service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12920" y="480060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+</a:t>
            </a:r>
            <a:br>
              <a:rPr sz="2400"/>
            </a:b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administration, </a:t>
            </a:r>
            <a:r>
              <a:rPr b="0" i="1" lang="fr-C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ering,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etc.)</a:t>
            </a:r>
            <a:r>
              <a:rPr b="0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294920" y="1278000"/>
            <a:ext cx="1460520" cy="58896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67080" y="1366920"/>
            <a:ext cx="0" cy="66492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48520" y="1278000"/>
            <a:ext cx="1371600" cy="65232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14200" y="3579840"/>
            <a:ext cx="190440" cy="1507680"/>
            <a:chOff x="214200" y="3579840"/>
            <a:chExt cx="190440" cy="1507680"/>
          </a:xfrm>
        </p:grpSpPr>
        <p:sp>
          <p:nvSpPr>
            <p:cNvPr id="426" name=""/>
            <p:cNvSpPr/>
            <p:nvPr/>
          </p:nvSpPr>
          <p:spPr>
            <a:xfrm flipH="1">
              <a:off x="214200" y="357984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6800" y="359748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226800" y="50698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02960" y="4084560"/>
            <a:ext cx="300960" cy="1537560"/>
            <a:chOff x="102960" y="4084560"/>
            <a:chExt cx="300960" cy="1537560"/>
          </a:xfrm>
        </p:grpSpPr>
        <p:sp>
          <p:nvSpPr>
            <p:cNvPr id="430" name=""/>
            <p:cNvSpPr/>
            <p:nvPr/>
          </p:nvSpPr>
          <p:spPr>
            <a:xfrm flipH="1">
              <a:off x="102960" y="408456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3120" y="4102200"/>
              <a:ext cx="0" cy="151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22760" y="5604480"/>
              <a:ext cx="28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871720" y="3579840"/>
            <a:ext cx="259560" cy="1507680"/>
            <a:chOff x="2871720" y="3579840"/>
            <a:chExt cx="259560" cy="1507680"/>
          </a:xfrm>
        </p:grpSpPr>
        <p:sp>
          <p:nvSpPr>
            <p:cNvPr id="434" name=""/>
            <p:cNvSpPr/>
            <p:nvPr/>
          </p:nvSpPr>
          <p:spPr>
            <a:xfrm flipH="1">
              <a:off x="2871720" y="357984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88640" y="3597480"/>
              <a:ext cx="0" cy="149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888640" y="506988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5854680" y="3262320"/>
            <a:ext cx="32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be au participe passé +Prép.+ Dét.+ Nom</a:t>
            </a:r>
            <a:r>
              <a:rPr b="0" i="1" lang="en-GB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81760" y="4800600"/>
            <a:ext cx="29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erb past participle</a:t>
            </a:r>
            <a:br>
              <a:rPr sz="2400"/>
            </a:b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Prep.+ Det.+ 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724360" y="3527280"/>
            <a:ext cx="259560" cy="1508040"/>
            <a:chOff x="5724360" y="3527280"/>
            <a:chExt cx="259560" cy="1508040"/>
          </a:xfrm>
        </p:grpSpPr>
        <p:sp>
          <p:nvSpPr>
            <p:cNvPr id="440" name=""/>
            <p:cNvSpPr/>
            <p:nvPr/>
          </p:nvSpPr>
          <p:spPr>
            <a:xfrm flipH="1">
              <a:off x="5724360" y="3527280"/>
              <a:ext cx="2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41280" y="3544920"/>
              <a:ext cx="0" cy="14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740920" y="501768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464-DF01-4D16-91D9-3C20B5845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82520" y="736560"/>
            <a:ext cx="7828200" cy="18208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1108080" y="2627280"/>
            <a:ext cx="7808760" cy="154152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1095480" y="4224240"/>
            <a:ext cx="7788240" cy="2633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705040" y="6013440"/>
            <a:ext cx="63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On-going research in collaboration with William Martinez (SYLED, Paris 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88840" y="0"/>
            <a:ext cx="74930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Multiple lexical attractions in the neighbourhoods</a:t>
            </a:r>
            <a:br>
              <a:rPr sz="2400"/>
            </a:br>
            <a:r>
              <a:rPr b="1" lang="en-GB" sz="2400" spc="-1" strike="noStrike">
                <a:solidFill>
                  <a:srgbClr val="003399"/>
                </a:solidFill>
                <a:latin typeface="Times New Roman"/>
              </a:rPr>
              <a:t>of mutual translation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800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187956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2743200"/>
            <a:ext cx="5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3505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4394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880" y="5168880"/>
            <a:ext cx="58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040" y="1028880"/>
            <a:ext cx="203040" cy="1117440"/>
            <a:chOff x="914040" y="1028880"/>
            <a:chExt cx="203040" cy="1117440"/>
          </a:xfrm>
        </p:grpSpPr>
        <p:sp>
          <p:nvSpPr>
            <p:cNvPr id="456" name=""/>
            <p:cNvSpPr/>
            <p:nvPr/>
          </p:nvSpPr>
          <p:spPr>
            <a:xfrm flipH="1">
              <a:off x="914040" y="1028880"/>
              <a:ext cx="16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27000" y="1041480"/>
              <a:ext cx="0" cy="11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926640" y="213372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939960" y="2921040"/>
            <a:ext cx="190440" cy="799920"/>
            <a:chOff x="939960" y="2921040"/>
            <a:chExt cx="190440" cy="799920"/>
          </a:xfrm>
        </p:grpSpPr>
        <p:sp>
          <p:nvSpPr>
            <p:cNvPr id="460" name=""/>
            <p:cNvSpPr/>
            <p:nvPr/>
          </p:nvSpPr>
          <p:spPr>
            <a:xfrm flipH="1">
              <a:off x="939960" y="292104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52560" y="293040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952560" y="371160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965160" y="4584600"/>
            <a:ext cx="190440" cy="800280"/>
            <a:chOff x="965160" y="4584600"/>
            <a:chExt cx="190440" cy="800280"/>
          </a:xfrm>
        </p:grpSpPr>
        <p:sp>
          <p:nvSpPr>
            <p:cNvPr id="464" name=""/>
            <p:cNvSpPr/>
            <p:nvPr/>
          </p:nvSpPr>
          <p:spPr>
            <a:xfrm flipH="1">
              <a:off x="965160" y="4584600"/>
              <a:ext cx="1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77760" y="4594320"/>
              <a:ext cx="0" cy="7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977760" y="537516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95480" y="5791320"/>
            <a:ext cx="160956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egend: f [c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 = co-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 = number of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7E4-0BF9-4042-A812-3D2FFED933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L3XX" descr=""/>
          <p:cNvPicPr/>
          <p:nvPr/>
        </p:nvPicPr>
        <p:blipFill>
          <a:blip r:embed="rId1"/>
          <a:stretch/>
        </p:blipFill>
        <p:spPr>
          <a:xfrm>
            <a:off x="263520" y="441360"/>
            <a:ext cx="8810640" cy="64166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8731080" y="1260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63160" y="-360"/>
            <a:ext cx="83977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ools :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Lexico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3"/>
              </a:rPr>
              <a:t>tal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5"/>
              </a:rPr>
              <a:t>univ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6"/>
              </a:rPr>
              <a:t>-paris3.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7"/>
              </a:rPr>
              <a:t>fr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8"/>
              </a:rPr>
              <a:t>/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9"/>
              </a:rPr>
              <a:t>outils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0"/>
              </a:rPr>
              <a:t>-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1"/>
              </a:rPr>
              <a:t>tal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2"/>
              </a:rPr>
              <a:t>-p3.htm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CF1-175C-44F2-AFC4-7452CE4F5F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IMG" descr=""/>
          <p:cNvPicPr/>
          <p:nvPr/>
        </p:nvPicPr>
        <p:blipFill>
          <a:blip r:embed="rId1"/>
          <a:stretch/>
        </p:blipFill>
        <p:spPr>
          <a:xfrm>
            <a:off x="135000" y="1587600"/>
            <a:ext cx="8939160" cy="4995720"/>
          </a:xfrm>
          <a:prstGeom prst="rect">
            <a:avLst/>
          </a:prstGeom>
          <a:ln w="0">
            <a:noFill/>
          </a:ln>
        </p:spPr>
      </p:pic>
      <p:pic>
        <p:nvPicPr>
          <p:cNvPr id="477" name="MKA-entete-0" descr=""/>
          <p:cNvPicPr/>
          <p:nvPr/>
        </p:nvPicPr>
        <p:blipFill>
          <a:blip r:embed="rId2"/>
          <a:stretch/>
        </p:blipFill>
        <p:spPr>
          <a:xfrm>
            <a:off x="135000" y="609480"/>
            <a:ext cx="7154640" cy="97164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35000" y="0"/>
            <a:ext cx="8246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Tools : 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</a:rPr>
              <a:t>mkAlign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</a:rPr>
              <a:t>	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3"/>
              </a:rPr>
              <a:t>http://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4"/>
              </a:rPr>
              <a:t>tal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6"/>
              </a:rPr>
              <a:t>univ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7"/>
              </a:rPr>
              <a:t>-paris3.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8"/>
              </a:rPr>
              <a:t>fr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9"/>
              </a:rPr>
              <a:t>/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0"/>
              </a:rPr>
              <a:t>outils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1"/>
              </a:rPr>
              <a:t>-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2"/>
              </a:rPr>
              <a:t>tal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3"/>
              </a:rPr>
              <a:t>-p3.html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B6B-7B10-47DC-AF6E-80A042C330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762120" y="1181160"/>
            <a:ext cx="789912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The concept of textometric browsing offers new means for automatic description of </a:t>
            </a:r>
            <a:r>
              <a:rPr b="0" i="1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multiple lexical correspondences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in translation corp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The suggested approach allows the user to maintain control over the entire corpus exploration, from initial segmentation to the extraction and editing of text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Some of the presented procedures for textometric analysis of multilingual corpora have not yet been implemented in the present versions of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Lexico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mkAlign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. New functions are currently being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2" descr=""/>
          <p:cNvPicPr/>
          <p:nvPr/>
        </p:nvPicPr>
        <p:blipFill>
          <a:blip r:embed="rId1"/>
          <a:stretch/>
        </p:blipFill>
        <p:spPr>
          <a:xfrm>
            <a:off x="878040" y="12952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2" descr=""/>
          <p:cNvPicPr/>
          <p:nvPr/>
        </p:nvPicPr>
        <p:blipFill>
          <a:blip r:embed="rId2"/>
          <a:stretch/>
        </p:blipFill>
        <p:spPr>
          <a:xfrm>
            <a:off x="878040" y="27432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164880"/>
            <a:ext cx="81313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nclusions and upcoming develop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2" descr=""/>
          <p:cNvPicPr/>
          <p:nvPr/>
        </p:nvPicPr>
        <p:blipFill>
          <a:blip r:embed="rId3"/>
          <a:stretch/>
        </p:blipFill>
        <p:spPr>
          <a:xfrm>
            <a:off x="878040" y="430524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83A-5B6D-4447-B12C-7E9236C0CB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0280" y="44460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159760" cy="46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lingual textometr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Example: parallel French/English corpus </a:t>
            </a:r>
            <a:r>
              <a:rPr b="1" i="1" lang="en-GB" sz="2400" spc="-1" strike="noStrike">
                <a:solidFill>
                  <a:srgbClr val="3366cc"/>
                </a:solidFill>
                <a:latin typeface="Times New Roman"/>
              </a:rPr>
              <a:t>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Bilingual lexicon extraction : limits of </a:t>
            </a:r>
            <a:r>
              <a:rPr b="0" i="1" lang="en-GB" sz="2400" spc="-1" strike="noStrike">
                <a:solidFill>
                  <a:srgbClr val="3366cc"/>
                </a:solidFill>
                <a:latin typeface="Times New Roman"/>
              </a:rPr>
              <a:t>one-to-one translation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ometric brow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Bi-text Topography and Text Reso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Extracting </a:t>
            </a:r>
            <a:r>
              <a:rPr b="0" i="1" lang="en-GB" sz="2400" spc="-1" strike="noStrike">
                <a:solidFill>
                  <a:srgbClr val="3366cc"/>
                </a:solidFill>
                <a:latin typeface="Times New Roman"/>
              </a:rPr>
              <a:t>multiple translation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1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isting textometric tools and upcoming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Lexico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3366cc"/>
                </a:solidFill>
                <a:latin typeface="Times New Roman"/>
              </a:rPr>
              <a:t>mkAlign</a:t>
            </a:r>
            <a:r>
              <a:rPr b="0" lang="en-GB" sz="24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049-B715-4ECB-BE14-5E1D2156CA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571680" y="2197080"/>
            <a:ext cx="3911400" cy="2616120"/>
            <a:chOff x="571680" y="2197080"/>
            <a:chExt cx="3911400" cy="2616120"/>
          </a:xfrm>
        </p:grpSpPr>
        <p:sp>
          <p:nvSpPr>
            <p:cNvPr id="52" name=""/>
            <p:cNvSpPr/>
            <p:nvPr/>
          </p:nvSpPr>
          <p:spPr>
            <a:xfrm>
              <a:off x="571680" y="2197080"/>
              <a:ext cx="3911400" cy="2616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5040" y="3314880"/>
              <a:ext cx="22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extometr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0" y="165240"/>
            <a:ext cx="83692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Multilingual Textometric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769240" y="16524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59200" y="2201760"/>
            <a:ext cx="5410080" cy="3699000"/>
            <a:chOff x="2959200" y="2201760"/>
            <a:chExt cx="5410080" cy="3699000"/>
          </a:xfrm>
        </p:grpSpPr>
        <p:sp>
          <p:nvSpPr>
            <p:cNvPr id="57" name=""/>
            <p:cNvSpPr/>
            <p:nvPr/>
          </p:nvSpPr>
          <p:spPr>
            <a:xfrm>
              <a:off x="2959200" y="2201760"/>
              <a:ext cx="5410080" cy="3699000"/>
            </a:xfrm>
            <a:prstGeom prst="ellipse">
              <a:avLst/>
            </a:prstGeom>
            <a:solidFill>
              <a:srgbClr val="ff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06840" y="4778640"/>
              <a:ext cx="4190400" cy="398880"/>
            </a:xfrm>
            <a:prstGeom prst="rect">
              <a:avLst/>
            </a:prstGeom>
            <a:solidFill>
              <a:srgbClr val="ffcc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Natural Language Process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959200" y="1100160"/>
            <a:ext cx="4228560" cy="2472840"/>
            <a:chOff x="2959200" y="1100160"/>
            <a:chExt cx="4228560" cy="2472840"/>
          </a:xfrm>
        </p:grpSpPr>
        <p:sp>
          <p:nvSpPr>
            <p:cNvPr id="60" name=""/>
            <p:cNvSpPr/>
            <p:nvPr/>
          </p:nvSpPr>
          <p:spPr>
            <a:xfrm>
              <a:off x="2959200" y="1100160"/>
              <a:ext cx="4228560" cy="247284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17200" y="1538640"/>
              <a:ext cx="295236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Translation The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416400" y="2514600"/>
            <a:ext cx="4381560" cy="2120760"/>
            <a:chOff x="3416400" y="2514600"/>
            <a:chExt cx="4381560" cy="2120760"/>
          </a:xfrm>
        </p:grpSpPr>
        <p:sp>
          <p:nvSpPr>
            <p:cNvPr id="63" name=""/>
            <p:cNvSpPr/>
            <p:nvPr/>
          </p:nvSpPr>
          <p:spPr>
            <a:xfrm>
              <a:off x="3416400" y="2514600"/>
              <a:ext cx="4381560" cy="212076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32400" y="3822480"/>
              <a:ext cx="386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Multilingual Language Engine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581280" y="2838600"/>
            <a:ext cx="2502000" cy="901440"/>
            <a:chOff x="3581280" y="2838600"/>
            <a:chExt cx="2502000" cy="901440"/>
          </a:xfrm>
        </p:grpSpPr>
        <p:sp>
          <p:nvSpPr>
            <p:cNvPr id="66" name=""/>
            <p:cNvSpPr/>
            <p:nvPr/>
          </p:nvSpPr>
          <p:spPr>
            <a:xfrm>
              <a:off x="3593880" y="2838600"/>
              <a:ext cx="2463840" cy="9014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3079440"/>
              <a:ext cx="25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Text Al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527200" y="2006640"/>
            <a:ext cx="2895480" cy="1346040"/>
            <a:chOff x="2527200" y="2006640"/>
            <a:chExt cx="2895480" cy="1346040"/>
          </a:xfrm>
        </p:grpSpPr>
        <p:sp>
          <p:nvSpPr>
            <p:cNvPr id="69" name=""/>
            <p:cNvSpPr/>
            <p:nvPr/>
          </p:nvSpPr>
          <p:spPr>
            <a:xfrm>
              <a:off x="2527200" y="2006640"/>
              <a:ext cx="2895480" cy="1346040"/>
            </a:xfrm>
            <a:prstGeom prst="ellipse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68400" y="2197080"/>
              <a:ext cx="250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Automatic extraction of Translation Re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rot="12511800">
            <a:off x="2253960" y="2526840"/>
            <a:ext cx="2324160" cy="1751040"/>
          </a:xfrm>
          <a:prstGeom prst="ellipse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26840" y="800280"/>
            <a:ext cx="241560" cy="2279520"/>
          </a:xfrm>
          <a:prstGeom prst="line">
            <a:avLst/>
          </a:prstGeom>
          <a:ln w="38160">
            <a:solidFill>
              <a:srgbClr val="003399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851440"/>
            <a:ext cx="9144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http://www.cavi.univ-paris3.fr/lexicometrica/jadt/textometrie-multilingu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976-19DA-4101-A0EF-73A0D43A8A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Example: parallel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rpus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143000" y="1752480"/>
          <a:ext cx="7315200" cy="38862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pus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ventio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rench part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6 396 occ.</a:t>
                      </a: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nglish p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84 958 occ.</a:t>
                      </a: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12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opean Convention on Human Righ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 953 occ.</a:t>
                      </a: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5 710 occ.</a:t>
                      </a:r>
                      <a:r>
                        <a:rPr b="0" lang="en-GB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12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itional Protoc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 984 o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8 773 o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7200" indent="-187200"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12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dgement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European Court of Human Righ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81 459 o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74 475 o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DBE-C36F-4BE0-9427-DF97C5A6FD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066680" y="3429000"/>
            <a:ext cx="7391160" cy="2362320"/>
            <a:chOff x="1066680" y="3429000"/>
            <a:chExt cx="7391160" cy="2362320"/>
          </a:xfrm>
        </p:grpSpPr>
        <p:grpSp>
          <p:nvGrpSpPr>
            <p:cNvPr id="80" name=""/>
            <p:cNvGrpSpPr/>
            <p:nvPr/>
          </p:nvGrpSpPr>
          <p:grpSpPr>
            <a:xfrm>
              <a:off x="1073160" y="3432960"/>
              <a:ext cx="7376760" cy="2353320"/>
              <a:chOff x="1073160" y="3432960"/>
              <a:chExt cx="7376760" cy="235332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1073160" y="3432960"/>
                <a:ext cx="1239840" cy="692280"/>
                <a:chOff x="1073160" y="3432960"/>
                <a:chExt cx="1239840" cy="692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137240" y="3432960"/>
                  <a:ext cx="11113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800"/>
                  </a:b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073160" y="3432960"/>
                  <a:ext cx="12398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313360" y="3432960"/>
                <a:ext cx="1567800" cy="692280"/>
                <a:chOff x="2313360" y="3432960"/>
                <a:chExt cx="1567800" cy="692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378160" y="3432960"/>
                  <a:ext cx="143856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ccurrenc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313360" y="3432960"/>
                  <a:ext cx="15678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881880" y="3432960"/>
                <a:ext cx="1304640" cy="692280"/>
                <a:chOff x="3881880" y="3432960"/>
                <a:chExt cx="1304640" cy="6922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946680" y="3432960"/>
                  <a:ext cx="11750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881880" y="3432960"/>
                  <a:ext cx="1304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187240" y="3432960"/>
                <a:ext cx="1260720" cy="692280"/>
                <a:chOff x="5187240" y="3432960"/>
                <a:chExt cx="1260720" cy="6922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251320" y="3432960"/>
                  <a:ext cx="11322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apax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187240" y="3432960"/>
                  <a:ext cx="126072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448320" y="3432960"/>
                <a:ext cx="2001240" cy="692280"/>
                <a:chOff x="6448320" y="3432960"/>
                <a:chExt cx="2001240" cy="6922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513120" y="3432960"/>
                  <a:ext cx="18716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x Freq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448320" y="3432960"/>
                  <a:ext cx="200124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1073160" y="4125240"/>
                <a:ext cx="1239840" cy="553680"/>
                <a:chOff x="1073160" y="4125240"/>
                <a:chExt cx="1239840" cy="5536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137240" y="412524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CA" sz="18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Fren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73160" y="412524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313360" y="4125240"/>
                <a:ext cx="1567800" cy="553680"/>
                <a:chOff x="2313360" y="4125240"/>
                <a:chExt cx="1567800" cy="5536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378160" y="412524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6 39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313360" y="412524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881880" y="4125240"/>
                <a:ext cx="1304640" cy="553680"/>
                <a:chOff x="3881880" y="4125240"/>
                <a:chExt cx="1304640" cy="5536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946680" y="412524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 9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881880" y="412524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187240" y="4125240"/>
                <a:ext cx="1260720" cy="553680"/>
                <a:chOff x="5187240" y="4125240"/>
                <a:chExt cx="1260720" cy="553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251320" y="412524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95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187240" y="412524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6448320" y="4125240"/>
                <a:ext cx="912600" cy="553680"/>
                <a:chOff x="6448320" y="4125240"/>
                <a:chExt cx="912600" cy="5536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13120" y="412524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448320" y="412524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361640" y="4125240"/>
                <a:ext cx="1088280" cy="553680"/>
                <a:chOff x="7361640" y="4125240"/>
                <a:chExt cx="1088280" cy="5536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426440" y="412524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 5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61640" y="412524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073160" y="4678920"/>
                <a:ext cx="1239840" cy="553680"/>
                <a:chOff x="1073160" y="4678920"/>
                <a:chExt cx="1239840" cy="5536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137240" y="4678920"/>
                  <a:ext cx="11113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Englis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073160" y="4678920"/>
                  <a:ext cx="12398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313360" y="4678920"/>
                <a:ext cx="1567800" cy="553680"/>
                <a:chOff x="2313360" y="4678920"/>
                <a:chExt cx="1567800" cy="5536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378160" y="4678920"/>
                  <a:ext cx="14385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4 95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313360" y="4678920"/>
                  <a:ext cx="15678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881880" y="4678920"/>
                <a:ext cx="1304640" cy="553680"/>
                <a:chOff x="3881880" y="4678920"/>
                <a:chExt cx="1304640" cy="553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946680" y="4678920"/>
                  <a:ext cx="11750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 53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81880" y="4678920"/>
                  <a:ext cx="130464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187240" y="4678920"/>
                <a:ext cx="1260720" cy="553680"/>
                <a:chOff x="5187240" y="4678920"/>
                <a:chExt cx="1260720" cy="5536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251320" y="4678920"/>
                  <a:ext cx="11322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40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187240" y="4678920"/>
                  <a:ext cx="12607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6448320" y="4678920"/>
                <a:ext cx="912600" cy="553680"/>
                <a:chOff x="6448320" y="4678920"/>
                <a:chExt cx="912600" cy="5536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513120" y="4678920"/>
                  <a:ext cx="7833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h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448320" y="4678920"/>
                  <a:ext cx="912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361640" y="4678920"/>
                <a:ext cx="1088280" cy="553680"/>
                <a:chOff x="7361640" y="4678920"/>
                <a:chExt cx="1088280" cy="5536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426440" y="467892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 62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61640" y="467892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073160" y="5232600"/>
                <a:ext cx="6288120" cy="553680"/>
                <a:chOff x="1073160" y="5232600"/>
                <a:chExt cx="6288120" cy="553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137240" y="5232600"/>
                  <a:ext cx="615960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073160" y="5232600"/>
                  <a:ext cx="62881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361640" y="5232600"/>
                <a:ext cx="1088280" cy="553680"/>
                <a:chOff x="7361640" y="5232600"/>
                <a:chExt cx="1088280" cy="553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426440" y="5232600"/>
                  <a:ext cx="9586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61640" y="5232600"/>
                  <a:ext cx="108828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1066680" y="3429000"/>
              <a:ext cx="73911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843120" y="1676520"/>
            <a:ext cx="5219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Main lexicometric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590920"/>
            <a:ext cx="53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delimiting characters 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:;!?/_\"'( )[ ]{}§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Parallel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rpus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Convention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quantit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8F8-9AA2-4706-9166-8C1BBEDF43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92280" y="1549440"/>
            <a:ext cx="585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ictionaries of graphica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2280" y="2286000"/>
            <a:ext cx="845172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nch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xica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r>
              <a:rPr b="1" lang="fr-B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xical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nk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ank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convent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32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1 223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nv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26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1 228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commiss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39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889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ommis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36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832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paragraphe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44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740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paragraph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38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802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gouvernement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45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721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government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44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740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décis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59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508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cis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55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563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mais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80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380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79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392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article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82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362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article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87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citat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85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352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cita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88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351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7560"/>
                <a:tab algn="l" pos="2755800"/>
                <a:tab algn="l" pos="4184640"/>
                <a:tab algn="l" pos="6004080"/>
                <a:tab algn="l" pos="6956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détention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98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   314</a:t>
            </a:r>
            <a:r>
              <a:rPr b="0" lang="en-GB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detention</a:t>
            </a:r>
            <a:r>
              <a:rPr b="0" lang="fr-BE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96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   336</a:t>
            </a:r>
            <a:r>
              <a:rPr b="0" lang="en-GB" sz="18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2280" y="228600"/>
            <a:ext cx="81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Parallel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rpus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Convention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i="1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quantit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324-5804-447D-82E7-088B179F17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29000" y="2666880"/>
            <a:ext cx="1371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2895480"/>
            <a:ext cx="1371600" cy="208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429000" y="2209320"/>
            <a:ext cx="1371600" cy="228600"/>
          </a:xfrm>
          <a:prstGeom prst="line">
            <a:avLst/>
          </a:prstGeom>
          <a:ln w="381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2382840"/>
            <a:ext cx="2590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illing (F=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1828800"/>
            <a:ext cx="2666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dea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F=2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346392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ath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circonstances de la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circumstances of the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un danger de</a:t>
            </a:r>
            <a:r>
              <a:rPr b="0" i="1" lang="en-GB" sz="2400" spc="-1" strike="noStrike">
                <a:solidFill>
                  <a:srgbClr val="0000ff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MS Mincho"/>
              </a:rPr>
              <a:t>mort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 a risk of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MS Mincho"/>
              </a:rPr>
              <a:t> </a:t>
            </a:r>
            <a:r>
              <a:rPr b="0" i="1" lang="en-GB" sz="2400" spc="-1" strike="noStrike" u="sng">
                <a:solidFill>
                  <a:srgbClr val="ff3300"/>
                </a:solidFill>
                <a:uFillTx/>
                <a:latin typeface="Times New Roman"/>
                <a:ea typeface="MS Mincho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382840"/>
            <a:ext cx="3048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mor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F=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895480"/>
            <a:ext cx="4419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privation of life (F=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514044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igée – intentional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ort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igée  –</a:t>
            </a:r>
            <a:r>
              <a:rPr b="0" i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privation 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4698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Parallel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</a:rPr>
              <a:t>corpus </a:t>
            </a:r>
            <a:r>
              <a:rPr b="1" i="1" lang="en-GB" sz="2800" spc="-1" strike="noStrike">
                <a:solidFill>
                  <a:srgbClr val="003399"/>
                </a:solidFill>
                <a:latin typeface="Times New Roman"/>
              </a:rPr>
              <a:t>Convention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3399"/>
                </a:solidFill>
                <a:latin typeface="Times New Roman"/>
              </a:rPr>
              <a:t>multiple lexical correspond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31F-E2CB-472F-8BC9-1470D8B179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80800" y="40608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lingual lexicon extraction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y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tatistical study of distribution simila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03240" y="2371680"/>
          <a:ext cx="6239160" cy="39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3240" y="2371680"/>
                    <a:ext cx="623916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181160" y="1549440"/>
            <a:ext cx="325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pu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nvention:</a:t>
            </a:r>
            <a:r>
              <a:rPr b="0" i="1" lang="en-GB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132-422B-44C8-BEFC-053539A1C9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523880" y="2405160"/>
          <a:ext cx="667224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05160"/>
                    <a:ext cx="6672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0800" y="40608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ilingual lexicon extraction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y</a:t>
            </a:r>
            <a:r>
              <a:rPr b="1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tatistical study of distribution similarities :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661240" y="165240"/>
            <a:ext cx="4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1160" y="1549440"/>
            <a:ext cx="325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rpu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nvention:</a:t>
            </a:r>
            <a:r>
              <a:rPr b="0" i="1" lang="en-GB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66cc"/>
                </a:solidFill>
                <a:latin typeface="Times New Roman"/>
              </a:rPr>
              <a:t>Example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6583320"/>
            <a:ext cx="3048120" cy="276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US LINGUISTICS 2005 July 14-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3C8-7C6B-42C5-B294-D51B6FDBEA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6:40:13Z</dcterms:created>
  <dc:creator>Poirot Maria</dc:creator>
  <dc:description/>
  <dc:language>en-US</dc:language>
  <cp:lastModifiedBy>Poirot Maria</cp:lastModifiedBy>
  <dcterms:modified xsi:type="dcterms:W3CDTF">2005-07-11T18:53:55Z</dcterms:modified>
  <cp:revision>852</cp:revision>
  <dc:subject/>
  <dc:title>L’alignement textométrique des unités lexicales à correspondances multiples dans les corpus parallèles</dc:title>
</cp:coreProperties>
</file>